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29.wmf" ContentType="image/x-wmf"/>
  <Override PartName="/ppt/media/image9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8.wmf" ContentType="image/x-wmf"/>
  <Override PartName="/ppt/media/image8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08A-0FF1-41D2-BCF5-DF8BABF5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B54-D2A7-46F1-B615-3D09127E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B8F-9E40-4F35-AB1D-20D2B08B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616-D059-49C3-BC50-FC213CBC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356-CB6F-40AE-8AC3-98A02D2A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D86-0807-467A-9297-D4C140E2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E0D-5C4A-41A2-9D52-9199F12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A30-969F-4D0B-A0E5-33488830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0E3-A1E3-402B-B894-5BD00C7A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A4E-9D6E-4A32-A5A2-4C86C0A1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E22-0830-4FFA-85F0-D95BB5A4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F15-E746-4BDB-84A4-C2DD1A5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F203-4F3B-487A-86C7-49A190004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5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" Target="slide7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7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" Target="slide77.xml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" Target="slide79.xml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7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LE MOTEUR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DIES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Rappels de B.E.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3526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057040" y="2514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6800" y="1946160"/>
            <a:ext cx="17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 ’amorç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34120" y="4572000"/>
            <a:ext cx="121896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30120" y="35053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tec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ésence d ’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562720" y="6019920"/>
            <a:ext cx="91440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4880" y="54864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867280" y="2742840"/>
            <a:ext cx="91440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9800" y="220968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30240" y="1371600"/>
            <a:ext cx="722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LES DIFFERENT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9480" y="3135240"/>
            <a:ext cx="9155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LA </a:t>
            </a: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POMPE D’ INJECTIO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ROTA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04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EN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410080"/>
            <a:ext cx="3353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0" y="495288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ME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657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3657600"/>
            <a:ext cx="4419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0" y="32004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40" y="36576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S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631960" cy="987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0" y="144792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153280" y="2286000"/>
            <a:ext cx="30492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ompe%20vierge" descr=""/>
          <p:cNvPicPr/>
          <p:nvPr/>
        </p:nvPicPr>
        <p:blipFill>
          <a:blip r:embed="rId2"/>
          <a:stretch/>
        </p:blipFill>
        <p:spPr>
          <a:xfrm>
            <a:off x="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27672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6019920"/>
            <a:ext cx="327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06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90720" y="6019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209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16765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OUR AU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SYSTEME DANS SON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ircuit%20hydraulique%20vierge" descr=""/>
          <p:cNvPicPr/>
          <p:nvPr/>
        </p:nvPicPr>
        <p:blipFill>
          <a:blip r:embed="rId2"/>
          <a:stretch/>
        </p:blipFill>
        <p:spPr>
          <a:xfrm>
            <a:off x="380880" y="969840"/>
            <a:ext cx="822960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0" t="0" r="2627" b="0"/>
          <a:stretch/>
        </p:blipFill>
        <p:spPr>
          <a:xfrm>
            <a:off x="0" y="3124080"/>
            <a:ext cx="9144000" cy="25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1: Pompe d ’ali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spiration et int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ans la pompe d’ 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artie%201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2: 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ise en haute pression et distribution du carburant aux cyli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artie%202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05120"/>
            <a:ext cx="3886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Interruption de l’arrivée de carburant aux cyli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arrêt du mo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05120"/>
            <a:ext cx="38862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5: Variateur d ’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du dé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 refoulement 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n fonction de la vitesse de 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correcteur d’avance à l’inj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artie%205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05120"/>
            <a:ext cx="3886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00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002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éléments%20au%20repos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86000"/>
            <a:ext cx="3778200" cy="4257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2880" y="1649520"/>
            <a:ext cx="255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ivée du carb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érieur de la 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438280"/>
            <a:ext cx="11430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971800"/>
            <a:ext cx="175248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26720" y="30621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lectrovanne d ’arrêt au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8120" y="4190760"/>
            <a:ext cx="1600200" cy="609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7360" y="397656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563868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5867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2360" y="565308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rtie vers 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2070000"/>
          </a:xfrm>
          <a:prstGeom prst="rect">
            <a:avLst/>
          </a:prstGeom>
          <a:ln w="0">
            <a:noFill/>
          </a:ln>
        </p:spPr>
      </p:pic>
      <p:pic>
        <p:nvPicPr>
          <p:cNvPr id="166" name="vierge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01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02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267080" y="3733920"/>
            <a:ext cx="487692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rêt du mo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3441600"/>
            <a:ext cx="4876920" cy="3416400"/>
          </a:xfrm>
          <a:prstGeom prst="rect">
            <a:avLst/>
          </a:prstGeom>
          <a:ln w="0">
            <a:noFill/>
          </a:ln>
        </p:spPr>
      </p:pic>
      <p:pic>
        <p:nvPicPr>
          <p:cNvPr id="184" name="01" descr=""/>
          <p:cNvPicPr/>
          <p:nvPr/>
        </p:nvPicPr>
        <p:blipFill>
          <a:blip r:embed="rId3"/>
          <a:srcRect l="4103" t="0" r="46161" b="0"/>
          <a:stretch/>
        </p:blipFill>
        <p:spPr>
          <a:xfrm>
            <a:off x="304920" y="2209680"/>
            <a:ext cx="3490920" cy="4257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2514600" y="30477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720" y="3124080"/>
            <a:ext cx="64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8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4160" y="240336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ESSION D ’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080" y="37339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à 1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3200" y="37339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an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à 3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9960" y="525780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è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300 à 200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3800" y="240336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PPORT VOLU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080" y="3200400"/>
            <a:ext cx="31510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3200" y="32004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6280" y="5029200"/>
            <a:ext cx="26251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4160" y="240336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ERTES THERMIQUES A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560" y="3733920"/>
            <a:ext cx="326520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 ’où la nécessité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ugies de pré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8800" y="3733920"/>
            <a:ext cx="340236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temps de préchauff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 donc très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0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ND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080" y="3124080"/>
            <a:ext cx="315108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 à 3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0 % de p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7360" y="34290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5 à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ir même 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0400" y="5257800"/>
            <a:ext cx="31219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 à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 80 % de perte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J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360" y="3505320"/>
            <a:ext cx="3512160" cy="2350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ébouche dans une précha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i correspond à 70 - 8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u volume de com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é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4880" y="3352680"/>
            <a:ext cx="3539520" cy="265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ébouche direc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ans la chambre princip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ossède plusieurs orif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r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Bruit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7000" y="35053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7360" y="35053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EL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14440" y="5029200"/>
            <a:ext cx="294696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à injections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TRES 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2280" y="2268360"/>
            <a:ext cx="883944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895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762120"/>
            <a:ext cx="2590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0 à 15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0 - 4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à 11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 à 40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600 - 7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4 à 24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6000" y="4114800"/>
            <a:ext cx="537552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organes plus so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illeur circuit de grais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ût de revient éle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762120"/>
            <a:ext cx="32004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BUSTION D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3232080" cy="1435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déclenchée par un apport de chaleur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étincelle à la bougi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ar auto-inflammation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injection du gasole pulvérisé dans l’air surchauffé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657600"/>
            <a:ext cx="5375520" cy="314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tion du combustible selon la demande aux environ du PM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avec combustion l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s de système d’allu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une pompe 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trêmement pré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762120"/>
            <a:ext cx="2743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CHA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H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N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arti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5375520" cy="2653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ression fin de combu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élev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Dimensions des tubul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impor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12600" y="2590920"/>
            <a:ext cx="91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MOTEUR ESSENCE / 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2200" y="1066680"/>
            <a:ext cx="83934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OLUTION des SYSTE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 ’INJECTION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 1990 à 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981080"/>
            <a:ext cx="7467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3505320"/>
            <a:ext cx="670536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9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numér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ré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à câble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49568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complète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81080"/>
            <a:ext cx="91440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14600" y="2362320"/>
            <a:ext cx="3695760" cy="1312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QUIZZ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squ ’on accélère sur un moteur diesel, on agit s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3360" y="1828800"/>
            <a:ext cx="593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quantité (débit) de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320" y="2590920"/>
            <a:ext cx="509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ression du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160" y="3352680"/>
            <a:ext cx="6555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 ’air 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600" y="4114800"/>
            <a:ext cx="655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e mélange d ’air et de carb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905120"/>
            <a:ext cx="38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30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3" action="ppaction://hlinksldjump"/>
          </p:cNvPr>
          <p:cNvSpPr/>
          <p:nvPr/>
        </p:nvSpPr>
        <p:spPr>
          <a:xfrm>
            <a:off x="1600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80010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 une injection DIRECTE, le système de préchauff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0560" y="1828800"/>
            <a:ext cx="37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DISPEN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2590920"/>
            <a:ext cx="2661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U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2360" y="3352680"/>
            <a:ext cx="508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 sert qu ’à 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0560" y="4114800"/>
            <a:ext cx="30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 ’EXIST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5" action="ppaction://hlinksldjump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37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99452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907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r une injection DIRECTE, où est située la chambre de combustion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120" y="1828800"/>
            <a:ext cx="452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a cu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590920"/>
            <a:ext cx="491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 la culasse et sur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760" y="3352680"/>
            <a:ext cx="43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4114800"/>
            <a:ext cx="332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05320" y="3276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7" action="ppaction://hlinksldjump"/>
          </p:cNvPr>
          <p:cNvSpPr/>
          <p:nvPr/>
        </p:nvSpPr>
        <p:spPr>
          <a:xfrm>
            <a:off x="3962520" y="376884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907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r un système à régulation mécaniqu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 moteur ne s ’arrête pas quand on coupe le contact 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l élément peut être mis en cause ?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3720" y="2590920"/>
            <a:ext cx="708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électrovanne située sur la pompe à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080" y="3352680"/>
            <a:ext cx="74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pièce située à l ’intérieur du corps de la 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680" y="4114800"/>
            <a:ext cx="34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contacteur à 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760" y="4876920"/>
            <a:ext cx="2800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in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0" y="4876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905120"/>
            <a:ext cx="3886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219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1676520" y="6019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 2005, le parc automobile compte quel pourcentage d ’injection INDIREC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0920" y="2133720"/>
            <a:ext cx="188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0920" y="289548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920" y="365760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3800" y="4419720"/>
            <a:ext cx="586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RATIQUEMEN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0" y="2133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0" y="2895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0" y="4419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23216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0" y="4724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10800" y="4918"/>
                </a:moveTo>
                <a:lnTo>
                  <a:pt x="13376" y="7529"/>
                </a:ln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lnTo>
                  <a:pt x="17763" y="11881"/>
                </a:lnTo>
                <a:lnTo>
                  <a:pt x="16109" y="11881"/>
                </a:lnTo>
                <a:lnTo>
                  <a:pt x="16109" y="19070"/>
                </a:lnTo>
                <a:lnTo>
                  <a:pt x="5491" y="19070"/>
                </a:lnTo>
                <a:lnTo>
                  <a:pt x="5491" y="11881"/>
                </a:lnTo>
                <a:lnTo>
                  <a:pt x="3837" y="11881"/>
                </a:lnTo>
                <a:close/>
              </a:path>
              <a:path fill="darkenLess" w="21600" h="23762">
                <a:moveTo>
                  <a:pt x="13376" y="7529"/>
                </a:move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close/>
              </a:path>
              <a:path fill="darkenLess" w="21600" h="23762">
                <a:moveTo>
                  <a:pt x="9877" y="15380"/>
                </a:moveTo>
                <a:lnTo>
                  <a:pt x="11723" y="15380"/>
                </a:lnTo>
                <a:lnTo>
                  <a:pt x="11723" y="19070"/>
                </a:lnTo>
                <a:lnTo>
                  <a:pt x="16109" y="19070"/>
                </a:lnTo>
                <a:lnTo>
                  <a:pt x="16109" y="11881"/>
                </a:lnTo>
                <a:lnTo>
                  <a:pt x="5491" y="11881"/>
                </a:lnTo>
                <a:lnTo>
                  <a:pt x="5491" y="19070"/>
                </a:lnTo>
                <a:lnTo>
                  <a:pt x="9877" y="1907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84320"/>
            <a:ext cx="91440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N ESPERANT VOUS AVO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FRAICHI LA MEMOI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OUT EN VOUS DIVERTISS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15620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ERCI DE VOTRE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676520" y="914400"/>
            <a:ext cx="6421320" cy="46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YOUPIE 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'AI FINI !!!!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........... BYE BYE ........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99" name=""/>
          <p:cNvSpPr/>
          <p:nvPr/>
        </p:nvSpPr>
        <p:spPr>
          <a:xfrm>
            <a:off x="2529000" y="54579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CL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" action="ppaction://hlinkshowjump?jump=endshow"/>
          </p:cNvPr>
          <p:cNvSpPr/>
          <p:nvPr/>
        </p:nvSpPr>
        <p:spPr>
          <a:xfrm>
            <a:off x="26668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22:27:43Z</dcterms:created>
  <dc:creator>stephane cazaban</dc:creator>
  <dc:description/>
  <dc:language>en-US</dc:language>
  <cp:lastModifiedBy>L.P.C.B.</cp:lastModifiedBy>
  <dcterms:modified xsi:type="dcterms:W3CDTF">2005-03-31T10:26:13Z</dcterms:modified>
  <cp:revision>25</cp:revision>
  <dc:subject/>
  <dc:title>LE MOTEUR  DIESEL</dc:title>
</cp:coreProperties>
</file>