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8.png" ContentType="image/png"/>
  <Override PartName="/ppt/media/image19.wmf" ContentType="image/x-wmf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28.png" ContentType="image/png"/>
  <Override PartName="/ppt/media/image31.wmf" ContentType="image/x-wmf"/>
  <Override PartName="/ppt/media/image29.wmf" ContentType="image/x-wmf"/>
  <Override PartName="/ppt/media/image9.png" ContentType="image/png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8.wmf" ContentType="image/x-wmf"/>
  <Override PartName="/ppt/media/image8.png" ContentType="image/png"/>
  <Override PartName="/ppt/media/image7.wmf" ContentType="image/x-wmf"/>
  <Override PartName="/ppt/media/image37.wmf" ContentType="image/x-wmf"/>
  <Override PartName="/ppt/media/image17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6.png" ContentType="image/png"/>
  <Override PartName="/ppt/media/image10.png" ContentType="image/png"/>
  <Override PartName="/ppt/media/image1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33E-7502-4610-8F6F-AFF394BB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E86-65CC-48AD-8EBE-16A27F06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B5F-93D2-4CB6-9594-C23B229E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3D7-8235-482F-A5D7-D52C98B7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0DBA-D107-4A8D-B768-7255F610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AE7-A845-4B5D-B340-F3B392B0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1CA-10F2-404C-B17B-666D9B6C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F46-2F80-491F-A9E3-D58FECB1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5F1-D7CE-4595-9214-50D96937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5AB6-6B14-436F-9704-4E42558B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707-3A0F-43EC-96F7-8444D87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CE2-A6A2-4655-A0EC-5509E33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A052-9808-4A76-AED5-A707D6865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5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" Target="slide74.xml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" Target="slide72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7.xml"/><Relationship Id="rId3" Type="http://schemas.openxmlformats.org/officeDocument/2006/relationships/slide" Target="slide77.xml"/><Relationship Id="rId4" Type="http://schemas.openxmlformats.org/officeDocument/2006/relationships/slide" Target="slide78.xml"/><Relationship Id="rId5" Type="http://schemas.openxmlformats.org/officeDocument/2006/relationships/slide" Target="slide77.xml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1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" Target="slide79.xml"/><Relationship Id="rId8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" Target="slide82.xml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87.xml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LE MOTEUR</a:t>
            </a:r>
            <a:br>
              <a:rPr sz="4800"/>
            </a:br>
            <a:br>
              <a:rPr sz="4800"/>
            </a:b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 Black"/>
              </a:rPr>
              <a:t>DIES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Rappels de B.E.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35268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31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238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 FILTRE A GA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66880" y="205740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2057040" y="2514600"/>
            <a:ext cx="2133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6800" y="1946160"/>
            <a:ext cx="17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 ’amorç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334120" y="4572000"/>
            <a:ext cx="1218960" cy="8380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30120" y="35053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tecteu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ésence d ’ea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562720" y="6019920"/>
            <a:ext cx="91440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54880" y="548640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867280" y="2742840"/>
            <a:ext cx="91440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9800" y="2209680"/>
            <a:ext cx="189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 de pu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30240" y="1371600"/>
            <a:ext cx="7223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LES DIFFERENT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ircuit%20hydraulique%20haute%20pression%2001" descr=""/>
          <p:cNvPicPr/>
          <p:nvPr/>
        </p:nvPicPr>
        <p:blipFill>
          <a:blip r:embed="rId2"/>
          <a:stretch/>
        </p:blipFill>
        <p:spPr>
          <a:xfrm>
            <a:off x="914400" y="1660680"/>
            <a:ext cx="7256520" cy="51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ircuit%20hydraulique%20haute%20pression%2002" descr=""/>
          <p:cNvPicPr/>
          <p:nvPr/>
        </p:nvPicPr>
        <p:blipFill>
          <a:blip r:embed="rId2"/>
          <a:stretch/>
        </p:blipFill>
        <p:spPr>
          <a:xfrm>
            <a:off x="914400" y="1666800"/>
            <a:ext cx="7256520" cy="51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0120" y="3352680"/>
            <a:ext cx="587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ELEMEN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9480" y="3135240"/>
            <a:ext cx="915552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LA </a:t>
            </a:r>
            <a:r>
              <a:rPr b="1" i="1" lang="en-US" sz="5900" spc="-1" strike="noStrike" u="sng">
                <a:solidFill>
                  <a:srgbClr val="000000"/>
                </a:solidFill>
                <a:uFillTx/>
                <a:latin typeface="Times New Roman"/>
              </a:rPr>
              <a:t>POMPE D’ INJECTION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ROTA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20040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ompe%20vierge" descr=""/>
          <p:cNvPicPr/>
          <p:nvPr/>
        </p:nvPicPr>
        <p:blipFill>
          <a:blip r:embed="rId2"/>
          <a:stretch/>
        </p:blipFill>
        <p:spPr>
          <a:xfrm>
            <a:off x="391464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EN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09480" y="5410080"/>
            <a:ext cx="33530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40" y="4952880"/>
            <a:ext cx="35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MECA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05520" y="365724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5440" y="3657600"/>
            <a:ext cx="4419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20" y="320040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40" y="36576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S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76720" y="1523880"/>
            <a:ext cx="2631960" cy="987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0" y="1447920"/>
            <a:ext cx="228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153280" y="2286000"/>
            <a:ext cx="304920" cy="12952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52388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ompe%20vierge" descr=""/>
          <p:cNvPicPr/>
          <p:nvPr/>
        </p:nvPicPr>
        <p:blipFill>
          <a:blip r:embed="rId2"/>
          <a:stretch/>
        </p:blipFill>
        <p:spPr>
          <a:xfrm>
            <a:off x="0" y="1676520"/>
            <a:ext cx="5229360" cy="518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276720"/>
            <a:ext cx="3429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S SO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6019920"/>
            <a:ext cx="327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60600" y="55627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90720" y="6019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2209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1800" y="1676520"/>
            <a:ext cx="39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ERGIE HYDRAU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OUR AU RESERV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SYSTEME DANS SON ENSE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ircuit%20hydraulique%20vierge" descr=""/>
          <p:cNvPicPr/>
          <p:nvPr/>
        </p:nvPicPr>
        <p:blipFill>
          <a:blip r:embed="rId2"/>
          <a:stretch/>
        </p:blipFill>
        <p:spPr>
          <a:xfrm>
            <a:off x="380880" y="969840"/>
            <a:ext cx="8229600" cy="58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rcRect l="0" t="0" r="2627" b="0"/>
          <a:stretch/>
        </p:blipFill>
        <p:spPr>
          <a:xfrm>
            <a:off x="0" y="3124080"/>
            <a:ext cx="9144000" cy="25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1: Pompe d ’ali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Aspiration et introd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ans la pompe d’ in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artie%201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2: 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Mise en haute pression et distribution du carburant aux cyli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artie%202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905120"/>
            <a:ext cx="3886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905120"/>
            <a:ext cx="3886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Interruption de l’arrivée de carburant aux cylind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arrêt du mote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905120"/>
            <a:ext cx="38862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5: Variateur d ’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du déb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 refoulement du carbur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n fonction de la vitesse de rot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(correcteur d’avance à l’inj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artie%205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05120"/>
            <a:ext cx="3886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600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9144000" cy="207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600200"/>
            <a:ext cx="571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éléments%20au%20repos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86000"/>
            <a:ext cx="3778200" cy="4257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-2880" y="1649520"/>
            <a:ext cx="255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rivée du carb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érieur de la pom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438280"/>
            <a:ext cx="11430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2971800"/>
            <a:ext cx="1752480" cy="3049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26720" y="3062160"/>
            <a:ext cx="35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lectrovanne d ’arrêt au re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8120" y="4190760"/>
            <a:ext cx="1600200" cy="6094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07360" y="397656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ête hydraul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5638680"/>
            <a:ext cx="30492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586728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42360" y="5653080"/>
            <a:ext cx="28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rtie vers 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2070000"/>
          </a:xfrm>
          <a:prstGeom prst="rect">
            <a:avLst/>
          </a:prstGeom>
          <a:ln w="0">
            <a:noFill/>
          </a:ln>
        </p:spPr>
      </p:pic>
      <p:pic>
        <p:nvPicPr>
          <p:cNvPr id="166" name="vierge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4876920" cy="1714320"/>
          </a:xfrm>
          <a:prstGeom prst="rect">
            <a:avLst/>
          </a:prstGeom>
          <a:ln w="0">
            <a:noFill/>
          </a:ln>
        </p:spPr>
      </p:pic>
      <p:pic>
        <p:nvPicPr>
          <p:cNvPr id="172" name="01" descr=""/>
          <p:cNvPicPr/>
          <p:nvPr/>
        </p:nvPicPr>
        <p:blipFill>
          <a:blip r:embed="rId3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02" descr=""/>
          <p:cNvPicPr/>
          <p:nvPr/>
        </p:nvPicPr>
        <p:blipFill>
          <a:blip r:embed="rId2"/>
          <a:srcRect l="0" t="0" r="46161" b="0"/>
          <a:stretch/>
        </p:blipFill>
        <p:spPr>
          <a:xfrm>
            <a:off x="304920" y="2209680"/>
            <a:ext cx="3779640" cy="425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Moteur tour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514600" y="297144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362320"/>
            <a:ext cx="533520" cy="5331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267080" y="3733920"/>
            <a:ext cx="487692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1600200"/>
            <a:ext cx="50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D’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 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Arrêt du mo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67080" y="3441600"/>
            <a:ext cx="4876920" cy="3416400"/>
          </a:xfrm>
          <a:prstGeom prst="rect">
            <a:avLst/>
          </a:prstGeom>
          <a:ln w="0">
            <a:noFill/>
          </a:ln>
        </p:spPr>
      </p:pic>
      <p:pic>
        <p:nvPicPr>
          <p:cNvPr id="184" name="01" descr=""/>
          <p:cNvPicPr/>
          <p:nvPr/>
        </p:nvPicPr>
        <p:blipFill>
          <a:blip r:embed="rId3"/>
          <a:srcRect l="4103" t="0" r="46161" b="0"/>
          <a:stretch/>
        </p:blipFill>
        <p:spPr>
          <a:xfrm>
            <a:off x="304920" y="2209680"/>
            <a:ext cx="3490920" cy="4257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2514600" y="30477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78720" y="3124080"/>
            <a:ext cx="646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8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4160" y="240336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ESSION D ’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080" y="37339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00 à 1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3200" y="37339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an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0 à 35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9960" y="525780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è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300 à 200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03800" y="240336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APPORT VOLUMET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080" y="3200400"/>
            <a:ext cx="31510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3200" y="32004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6280" y="5029200"/>
            <a:ext cx="26251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 1 pour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à 1 pour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04160" y="240336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PERTES THERMIQUES A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9560" y="3733920"/>
            <a:ext cx="326520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 ’où la nécessité 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ugies de pré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68800" y="3733920"/>
            <a:ext cx="340236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 temps de préchauff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 donc très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03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ND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6080" y="3124080"/>
            <a:ext cx="3151080" cy="1922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0 à 3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0 % de pe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7360" y="34290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5 à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oir même 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0400" y="5257800"/>
            <a:ext cx="31219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0 à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nc 80 % de pertes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J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360" y="3505320"/>
            <a:ext cx="3512160" cy="2350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ébouche dans une précham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i correspond à 70 - 80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u volume de compre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ét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4880" y="3352680"/>
            <a:ext cx="3539520" cy="265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ébouche direc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ans la chambre princip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ossède plusieurs orif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type “à trou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60" y="2403360"/>
            <a:ext cx="913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Bruit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7000" y="350532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7360" y="3505320"/>
            <a:ext cx="28126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ELE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14440" y="5029200"/>
            <a:ext cx="294696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à injections mult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TRES FA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581280"/>
            <a:ext cx="909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olog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152280" y="2268360"/>
            <a:ext cx="8839440" cy="45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89532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762120"/>
            <a:ext cx="25905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0 à 15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0 - 4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8 à 11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ession fin compression d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30 à 40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b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° =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600 - 700 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ap. vol.: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14 à 24 /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16000" y="4114800"/>
            <a:ext cx="537552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organes plus so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Meilleur circuit de graiss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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Coût de revient éle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762120"/>
            <a:ext cx="3200400" cy="825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BUSTION D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828800"/>
            <a:ext cx="3232080" cy="1435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déclenchée par un apport de chaleur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étincelle à la bougi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ar auto-inflammation (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injection du gasole pulvérisé dans l’air surchauffé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81080" y="3657600"/>
            <a:ext cx="5375520" cy="3141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roduction du combustible selon la demande aux environ du PM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avec combustion l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as de système d’allum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Nécessité d’une pompe haute 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trêmement pré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762120"/>
            <a:ext cx="274320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CHA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H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vacuation des gaz brûlés.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ollu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N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Partic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5375520" cy="2653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ression fin de combus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élevé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Dimensions des tubul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us import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-12600" y="2590920"/>
            <a:ext cx="915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POUR RESUM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228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 / MOTEUR DIES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MOTEUR ESSENCE / 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59364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32200" y="1066680"/>
            <a:ext cx="83934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VOLUTION des SYSTEM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 ’INJECTION DIES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E 1990 à 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1981080"/>
            <a:ext cx="7467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3505320"/>
            <a:ext cx="670536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9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numéris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ré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à câble méca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449568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8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mpes rotatives à régulation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électronique de l ’avance à l ’inj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Accélérateur électro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 Gestion complète par calculate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981080"/>
            <a:ext cx="914400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sation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0 %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injection IN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514600" y="2362320"/>
            <a:ext cx="3695760" cy="1312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0000"/>
                </a:solidFill>
                <a:uFillTx/>
                <a:latin typeface="Times New Roman"/>
              </a:rPr>
              <a:t>QUIZZ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rsqu ’on accélère sur un moteur diesel, on agit su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3360" y="1828800"/>
            <a:ext cx="593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quantité (débit) de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7320" y="2590920"/>
            <a:ext cx="509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 pression du carburant injec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5160" y="3352680"/>
            <a:ext cx="6555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 ’air 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600" y="4114800"/>
            <a:ext cx="655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volume de mélange d ’air et de carb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i entre dans les cylind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0" y="42670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905120"/>
            <a:ext cx="3886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3: Régulateur méca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Variation et limitation du débit de carburant à inje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artie%203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1430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3" action="ppaction://hlinksldjump"/>
          </p:cNvPr>
          <p:cNvSpPr/>
          <p:nvPr/>
        </p:nvSpPr>
        <p:spPr>
          <a:xfrm>
            <a:off x="16002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RATIF           MOTEUR ESSENCE / MOTEUR DIE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05320" y="762120"/>
            <a:ext cx="21333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520" y="1828800"/>
            <a:ext cx="3232080" cy="1679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ES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un mél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-essenc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dont le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st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 variabl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selon la deman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828800"/>
            <a:ext cx="3232080" cy="1374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EUR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piration d’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à un volume correspondant à peu près au </a:t>
            </a:r>
            <a:r>
              <a:rPr b="0" sz="2000" spc="-1" strike="noStrike">
                <a:solidFill>
                  <a:srgbClr val="ff0000"/>
                </a:solidFill>
                <a:latin typeface="Times New Roman"/>
              </a:rPr>
              <a:t>volume du cylindr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93200" y="4114800"/>
            <a:ext cx="4819680" cy="2226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UR LE MOTEUR DIES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papillon des ga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Remplissage 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</a:t>
            </a: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 u="sng">
                <a:solidFill>
                  <a:srgbClr val="ff0000"/>
                </a:solidFill>
                <a:uFillTx/>
                <a:latin typeface="Times New Roman"/>
              </a:rPr>
              <a:t>- Pas de carbur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800100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r une injection DIRECTE, le système de préchauff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0560" y="1828800"/>
            <a:ext cx="37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DISPEN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11280" y="2590920"/>
            <a:ext cx="2661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 INU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2360" y="3352680"/>
            <a:ext cx="5081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 sert qu ’à 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10560" y="4114800"/>
            <a:ext cx="305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 ’EXIST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4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5" action="ppaction://hlinksldjump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fférences techniques entre l ’injection directe et indi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360" y="2403360"/>
            <a:ext cx="91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positif de démarrage à f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 u="sng">
                <a:solidFill>
                  <a:srgbClr val="ff0000"/>
                </a:solidFill>
                <a:uFillTx/>
                <a:latin typeface="Times New Roman"/>
              </a:rPr>
              <a:t>pré-chauff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7480" y="4038480"/>
            <a:ext cx="315108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IN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ECESS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7360" y="3886200"/>
            <a:ext cx="28126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jection DIRE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Utiliser p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la DE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37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7994520" y="60199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10800" y="4913"/>
                </a:moveTo>
                <a:lnTo>
                  <a:pt x="13376" y="7524"/>
                </a:ln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lnTo>
                  <a:pt x="17763" y="11876"/>
                </a:lnTo>
                <a:lnTo>
                  <a:pt x="16109" y="11876"/>
                </a:lnTo>
                <a:lnTo>
                  <a:pt x="16109" y="19065"/>
                </a:lnTo>
                <a:lnTo>
                  <a:pt x="5491" y="19065"/>
                </a:lnTo>
                <a:lnTo>
                  <a:pt x="5491" y="11876"/>
                </a:lnTo>
                <a:lnTo>
                  <a:pt x="3837" y="11876"/>
                </a:lnTo>
                <a:close/>
              </a:path>
              <a:path fill="darkenLess" w="21600" h="23752">
                <a:moveTo>
                  <a:pt x="13376" y="7524"/>
                </a:moveTo>
                <a:lnTo>
                  <a:pt x="13376" y="5783"/>
                </a:lnTo>
                <a:lnTo>
                  <a:pt x="15152" y="5783"/>
                </a:lnTo>
                <a:lnTo>
                  <a:pt x="15152" y="9300"/>
                </a:lnTo>
                <a:close/>
              </a:path>
              <a:path fill="darkenLess" w="21600" h="23752">
                <a:moveTo>
                  <a:pt x="9877" y="15375"/>
                </a:moveTo>
                <a:lnTo>
                  <a:pt x="11723" y="15375"/>
                </a:lnTo>
                <a:lnTo>
                  <a:pt x="11723" y="19065"/>
                </a:lnTo>
                <a:lnTo>
                  <a:pt x="16109" y="19065"/>
                </a:lnTo>
                <a:lnTo>
                  <a:pt x="16109" y="11876"/>
                </a:lnTo>
                <a:lnTo>
                  <a:pt x="5491" y="11876"/>
                </a:lnTo>
                <a:lnTo>
                  <a:pt x="5491" y="19065"/>
                </a:lnTo>
                <a:lnTo>
                  <a:pt x="9877" y="1906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990720"/>
            <a:ext cx="914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ur une injection DIRECTE, où est située la chambre de combustion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120" y="1828800"/>
            <a:ext cx="4527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a cu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7680" y="2590920"/>
            <a:ext cx="491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s la culasse et sur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760" y="3352680"/>
            <a:ext cx="4358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quement dans le pis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4114800"/>
            <a:ext cx="332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asse%20pression%2001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63560"/>
            <a:ext cx="7239240" cy="519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523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ES INJEC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460600" cy="24303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5181480" y="2895480"/>
            <a:ext cx="2552760" cy="2179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1905120"/>
            <a:ext cx="9144000" cy="890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5"/>
          <a:stretch/>
        </p:blipFill>
        <p:spPr>
          <a:xfrm>
            <a:off x="228600" y="5430960"/>
            <a:ext cx="4038480" cy="14270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4343400" y="5370480"/>
            <a:ext cx="4419720" cy="1487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05320" y="3276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7" action="ppaction://hlinksldjump"/>
          </p:cNvPr>
          <p:cNvSpPr/>
          <p:nvPr/>
        </p:nvSpPr>
        <p:spPr>
          <a:xfrm>
            <a:off x="3962520" y="376884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99072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r un système à régulation mécanique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e moteur ne s ’arrête pas quand on coupe le contact 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uel élément peut être mis en cause ?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3720" y="2590920"/>
            <a:ext cx="7089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électrovanne située sur la pompe à in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4080" y="3352680"/>
            <a:ext cx="745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e pièce située à l ’intérieur du corps de la pom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7680" y="4114800"/>
            <a:ext cx="34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 contacteur à 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760" y="4876920"/>
            <a:ext cx="2800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 injec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2" action="ppaction://hlinksldjump"/>
          </p:cNvPr>
          <p:cNvSpPr/>
          <p:nvPr/>
        </p:nvSpPr>
        <p:spPr>
          <a:xfrm>
            <a:off x="0" y="2590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0" y="4876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AUT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1905120"/>
            <a:ext cx="38862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POMPE A INJECTION RO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Partie 4: Electrovanne d ’arrê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DESCRIPTION 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ONCTION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artie%204" descr=""/>
          <p:cNvPicPr/>
          <p:nvPr/>
        </p:nvPicPr>
        <p:blipFill>
          <a:blip r:embed="rId2"/>
          <a:srcRect l="0" t="0" r="25645" b="0"/>
          <a:stretch/>
        </p:blipFill>
        <p:spPr>
          <a:xfrm>
            <a:off x="3924360" y="1676520"/>
            <a:ext cx="5219640" cy="51814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219320" y="552780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1676520" y="6019920"/>
            <a:ext cx="761760" cy="83808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63">
                <a:moveTo>
                  <a:pt x="0" y="0"/>
                </a:moveTo>
                <a:lnTo>
                  <a:pt x="21600" y="0"/>
                </a:lnTo>
                <a:lnTo>
                  <a:pt x="21600" y="23763"/>
                </a:lnTo>
                <a:lnTo>
                  <a:pt x="0" y="23763"/>
                </a:lnTo>
                <a:close/>
              </a:path>
              <a:path fill="lightenLess" w="21600" h="237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3">
                <a:moveTo>
                  <a:pt x="21600" y="0"/>
                </a:moveTo>
                <a:lnTo>
                  <a:pt x="21600" y="23763"/>
                </a:lnTo>
                <a:lnTo>
                  <a:pt x="20200" y="22363"/>
                </a:lnTo>
                <a:lnTo>
                  <a:pt x="20200" y="1400"/>
                </a:lnTo>
                <a:close/>
              </a:path>
              <a:path fill="darkenLess" w="21600" h="23763">
                <a:moveTo>
                  <a:pt x="21600" y="23763"/>
                </a:moveTo>
                <a:lnTo>
                  <a:pt x="0" y="23763"/>
                </a:lnTo>
                <a:lnTo>
                  <a:pt x="1400" y="22363"/>
                </a:lnTo>
                <a:lnTo>
                  <a:pt x="20200" y="22363"/>
                </a:lnTo>
                <a:close/>
              </a:path>
              <a:path fill="lighten" w="21600" h="23763">
                <a:moveTo>
                  <a:pt x="0" y="237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3"/>
                </a:lnTo>
                <a:close/>
              </a:path>
              <a:path fill="darken" w="21600" h="23763">
                <a:moveTo>
                  <a:pt x="10800" y="4919"/>
                </a:moveTo>
                <a:lnTo>
                  <a:pt x="13376" y="7530"/>
                </a:ln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lnTo>
                  <a:pt x="17763" y="11882"/>
                </a:lnTo>
                <a:lnTo>
                  <a:pt x="16109" y="11882"/>
                </a:lnTo>
                <a:lnTo>
                  <a:pt x="16109" y="19071"/>
                </a:lnTo>
                <a:lnTo>
                  <a:pt x="5491" y="19071"/>
                </a:lnTo>
                <a:lnTo>
                  <a:pt x="5491" y="11882"/>
                </a:lnTo>
                <a:lnTo>
                  <a:pt x="3837" y="11882"/>
                </a:lnTo>
                <a:close/>
              </a:path>
              <a:path fill="darkenLess" w="21600" h="23763">
                <a:moveTo>
                  <a:pt x="13376" y="7530"/>
                </a:moveTo>
                <a:lnTo>
                  <a:pt x="13376" y="5789"/>
                </a:lnTo>
                <a:lnTo>
                  <a:pt x="15152" y="5789"/>
                </a:lnTo>
                <a:lnTo>
                  <a:pt x="15152" y="9305"/>
                </a:lnTo>
                <a:close/>
              </a:path>
              <a:path fill="darkenLess" w="21600" h="23763">
                <a:moveTo>
                  <a:pt x="9877" y="15380"/>
                </a:moveTo>
                <a:lnTo>
                  <a:pt x="11723" y="15380"/>
                </a:lnTo>
                <a:lnTo>
                  <a:pt x="11723" y="19071"/>
                </a:lnTo>
                <a:lnTo>
                  <a:pt x="16109" y="19071"/>
                </a:lnTo>
                <a:lnTo>
                  <a:pt x="16109" y="11882"/>
                </a:lnTo>
                <a:lnTo>
                  <a:pt x="5491" y="11882"/>
                </a:lnTo>
                <a:lnTo>
                  <a:pt x="5491" y="19071"/>
                </a:lnTo>
                <a:lnTo>
                  <a:pt x="9877" y="1907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990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 2005, le parc automobile compte quel pourcentage d ’injection INDIREC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0920" y="2133720"/>
            <a:ext cx="1883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0920" y="289548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0920" y="3657600"/>
            <a:ext cx="173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13800" y="4419720"/>
            <a:ext cx="586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L N ’Y EN A PRATIQUEMEN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0" y="2133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0" y="28954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0" y="4419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981080"/>
            <a:ext cx="9144000" cy="2043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d ’injection Haute Pres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à rampe com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ystèmes à injecteurs-pom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4800600"/>
            <a:ext cx="6705720" cy="155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100 %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u parc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équip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 système d ’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jection DI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23216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previousslide"/>
          </p:cNvPr>
          <p:cNvSpPr/>
          <p:nvPr/>
        </p:nvSpPr>
        <p:spPr>
          <a:xfrm>
            <a:off x="0" y="4724280"/>
            <a:ext cx="762120" cy="83844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440"/>
              <a:gd name="textAreaBottom" fmla="*/ 789120 h 838440"/>
            </a:gdLst>
            <a:ahLst/>
            <a:rect l="textAreaLeft" t="textAreaTop" r="textAreaRight" b="textAreaBottom"/>
            <a:pathLst>
              <a:path w="21600" h="23762">
                <a:moveTo>
                  <a:pt x="0" y="0"/>
                </a:moveTo>
                <a:lnTo>
                  <a:pt x="21600" y="0"/>
                </a:lnTo>
                <a:lnTo>
                  <a:pt x="21600" y="23762"/>
                </a:lnTo>
                <a:lnTo>
                  <a:pt x="0" y="23762"/>
                </a:lnTo>
                <a:close/>
              </a:path>
              <a:path fill="lightenLess" w="21600" h="237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62">
                <a:moveTo>
                  <a:pt x="21600" y="0"/>
                </a:moveTo>
                <a:lnTo>
                  <a:pt x="21600" y="23762"/>
                </a:lnTo>
                <a:lnTo>
                  <a:pt x="20200" y="22362"/>
                </a:lnTo>
                <a:lnTo>
                  <a:pt x="20200" y="1400"/>
                </a:lnTo>
                <a:close/>
              </a:path>
              <a:path fill="darkenLess" w="21600" h="23762">
                <a:moveTo>
                  <a:pt x="21600" y="23762"/>
                </a:moveTo>
                <a:lnTo>
                  <a:pt x="0" y="23762"/>
                </a:lnTo>
                <a:lnTo>
                  <a:pt x="1400" y="22362"/>
                </a:lnTo>
                <a:lnTo>
                  <a:pt x="20200" y="22362"/>
                </a:lnTo>
                <a:close/>
              </a:path>
              <a:path fill="lighten" w="21600" h="23762">
                <a:moveTo>
                  <a:pt x="0" y="237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62"/>
                </a:lnTo>
                <a:close/>
              </a:path>
              <a:path fill="darken" w="21600" h="23762">
                <a:moveTo>
                  <a:pt x="10800" y="4918"/>
                </a:moveTo>
                <a:lnTo>
                  <a:pt x="13376" y="7529"/>
                </a:ln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lnTo>
                  <a:pt x="17763" y="11881"/>
                </a:lnTo>
                <a:lnTo>
                  <a:pt x="16109" y="11881"/>
                </a:lnTo>
                <a:lnTo>
                  <a:pt x="16109" y="19070"/>
                </a:lnTo>
                <a:lnTo>
                  <a:pt x="5491" y="19070"/>
                </a:lnTo>
                <a:lnTo>
                  <a:pt x="5491" y="11881"/>
                </a:lnTo>
                <a:lnTo>
                  <a:pt x="3837" y="11881"/>
                </a:lnTo>
                <a:close/>
              </a:path>
              <a:path fill="darkenLess" w="21600" h="23762">
                <a:moveTo>
                  <a:pt x="13376" y="7529"/>
                </a:moveTo>
                <a:lnTo>
                  <a:pt x="13376" y="5788"/>
                </a:lnTo>
                <a:lnTo>
                  <a:pt x="15152" y="5788"/>
                </a:lnTo>
                <a:lnTo>
                  <a:pt x="15152" y="9305"/>
                </a:lnTo>
                <a:close/>
              </a:path>
              <a:path fill="darkenLess" w="21600" h="23762">
                <a:moveTo>
                  <a:pt x="9877" y="15380"/>
                </a:moveTo>
                <a:lnTo>
                  <a:pt x="11723" y="15380"/>
                </a:lnTo>
                <a:lnTo>
                  <a:pt x="11723" y="19070"/>
                </a:lnTo>
                <a:lnTo>
                  <a:pt x="16109" y="19070"/>
                </a:lnTo>
                <a:lnTo>
                  <a:pt x="16109" y="11881"/>
                </a:lnTo>
                <a:lnTo>
                  <a:pt x="5491" y="11881"/>
                </a:lnTo>
                <a:lnTo>
                  <a:pt x="5491" y="19070"/>
                </a:lnTo>
                <a:lnTo>
                  <a:pt x="9877" y="1907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06560" y="720720"/>
            <a:ext cx="7070760" cy="537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AV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4" name=""/>
          <p:cNvSpPr/>
          <p:nvPr/>
        </p:nvSpPr>
        <p:spPr>
          <a:xfrm>
            <a:off x="7299000" y="5070600"/>
            <a:ext cx="1563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quer 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620120" y="579132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3794"/>
                </a:moveTo>
                <a:lnTo>
                  <a:pt x="18121" y="10800"/>
                </a:lnTo>
                <a:lnTo>
                  <a:pt x="41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184320"/>
            <a:ext cx="9144000" cy="192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EN ESPERANT VOUS AVO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AFRAICHI LA MEMOI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OUT EN VOUS DIVERTISS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15620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ERCI DE VOTRE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676520" y="914400"/>
            <a:ext cx="6421320" cy="46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YOUPIE 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J'AI FINI !!!!!!!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........... BYE BYE ........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99" name=""/>
          <p:cNvSpPr/>
          <p:nvPr/>
        </p:nvSpPr>
        <p:spPr>
          <a:xfrm>
            <a:off x="2529000" y="545796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</a:rPr>
              <a:t>CL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" action="ppaction://hlinkshowjump?jump=endshow"/>
          </p:cNvPr>
          <p:cNvSpPr/>
          <p:nvPr/>
        </p:nvSpPr>
        <p:spPr>
          <a:xfrm>
            <a:off x="266688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E CIRCUIT HYDRAUL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BASSE PR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asse%20pression%2002" descr=""/>
          <p:cNvPicPr/>
          <p:nvPr/>
        </p:nvPicPr>
        <p:blipFill>
          <a:blip r:embed="rId2"/>
          <a:srcRect l="0" t="0" r="33338" b="21142"/>
          <a:stretch/>
        </p:blipFill>
        <p:spPr>
          <a:xfrm>
            <a:off x="1066680" y="1609560"/>
            <a:ext cx="7315200" cy="52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9T22:27:43Z</dcterms:created>
  <dc:creator>stephane cazaban</dc:creator>
  <dc:description/>
  <dc:language>en-US</dc:language>
  <cp:lastModifiedBy>L.P.C.B.</cp:lastModifiedBy>
  <dcterms:modified xsi:type="dcterms:W3CDTF">2005-03-31T10:26:13Z</dcterms:modified>
  <cp:revision>25</cp:revision>
  <dc:subject/>
  <dc:title>LE MOTEUR  DIESEL</dc:title>
</cp:coreProperties>
</file>