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8002588" cy="11314113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6320" y="57240"/>
            <a:ext cx="7848360" cy="1120140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41520" y="5262480"/>
            <a:ext cx="541188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30760" y="6634080"/>
            <a:ext cx="5660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terminer la courbe de sortie du capteu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0600" y="6654960"/>
            <a:ext cx="7759800" cy="173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6760" y="1059660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8440" y="2260440"/>
            <a:ext cx="6816960" cy="13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Capteur inducti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7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9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0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2851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2852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2853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5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6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2857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2858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0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1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2862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6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2867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1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2872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6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2877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1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2882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6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2887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1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4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2895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9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2900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4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5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6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2907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2908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0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1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2912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2913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5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6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2917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1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2922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6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2927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1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2932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6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2937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1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2942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9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2950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4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2955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9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2961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2962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4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5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2966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2967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9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0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2971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5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2976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0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2981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5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2986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0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2991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5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2996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0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3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3004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8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3009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3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3015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3016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8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9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3020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3021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4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3025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9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3030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4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3035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9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3040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4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3045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9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3050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4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7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3058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2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3063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8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3069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3070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2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3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3074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3075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8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3079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3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3084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8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3089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3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3094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8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3099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3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3104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8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1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3112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6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3117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1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2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3123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3124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6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3128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2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3133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7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3138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2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3143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3148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2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3153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7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0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3161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5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3166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0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3172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7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9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3180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5" name=""/>
          <p:cNvSpPr/>
          <p:nvPr/>
        </p:nvSpPr>
        <p:spPr>
          <a:xfrm>
            <a:off x="4540320" y="2844720"/>
            <a:ext cx="250200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1568520" y="5969160"/>
            <a:ext cx="5397480" cy="417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8" name=""/>
          <p:cNvGrpSpPr/>
          <p:nvPr/>
        </p:nvGrpSpPr>
        <p:grpSpPr>
          <a:xfrm>
            <a:off x="338040" y="1305000"/>
            <a:ext cx="596880" cy="1298520"/>
            <a:chOff x="338040" y="1305000"/>
            <a:chExt cx="596880" cy="1298520"/>
          </a:xfrm>
        </p:grpSpPr>
        <p:grpSp>
          <p:nvGrpSpPr>
            <p:cNvPr id="3199" name=""/>
            <p:cNvGrpSpPr/>
            <p:nvPr/>
          </p:nvGrpSpPr>
          <p:grpSpPr>
            <a:xfrm>
              <a:off x="338040" y="1305000"/>
              <a:ext cx="596880" cy="695160"/>
              <a:chOff x="338040" y="1305000"/>
              <a:chExt cx="596880" cy="695160"/>
            </a:xfrm>
          </p:grpSpPr>
          <p:grpSp>
            <p:nvGrpSpPr>
              <p:cNvPr id="3200" name=""/>
              <p:cNvGrpSpPr/>
              <p:nvPr/>
            </p:nvGrpSpPr>
            <p:grpSpPr>
              <a:xfrm>
                <a:off x="338040" y="1305000"/>
                <a:ext cx="596880" cy="695160"/>
                <a:chOff x="338040" y="1305000"/>
                <a:chExt cx="596880" cy="695160"/>
              </a:xfrm>
            </p:grpSpPr>
            <p:sp>
              <p:nvSpPr>
                <p:cNvPr id="3201" name=""/>
                <p:cNvSpPr/>
                <p:nvPr/>
              </p:nvSpPr>
              <p:spPr>
                <a:xfrm>
                  <a:off x="338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546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3" name=""/>
              <p:cNvSpPr/>
              <p:nvPr/>
            </p:nvSpPr>
            <p:spPr>
              <a:xfrm>
                <a:off x="577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4" name=""/>
            <p:cNvGrpSpPr/>
            <p:nvPr/>
          </p:nvGrpSpPr>
          <p:grpSpPr>
            <a:xfrm>
              <a:off x="380880" y="2077920"/>
              <a:ext cx="352080" cy="525600"/>
              <a:chOff x="380880" y="2077920"/>
              <a:chExt cx="352080" cy="525600"/>
            </a:xfrm>
          </p:grpSpPr>
          <p:grpSp>
            <p:nvGrpSpPr>
              <p:cNvPr id="3205" name=""/>
              <p:cNvGrpSpPr/>
              <p:nvPr/>
            </p:nvGrpSpPr>
            <p:grpSpPr>
              <a:xfrm>
                <a:off x="606600" y="2455920"/>
                <a:ext cx="82440" cy="147600"/>
                <a:chOff x="606600" y="2455920"/>
                <a:chExt cx="82440" cy="147600"/>
              </a:xfrm>
            </p:grpSpPr>
            <p:sp>
              <p:nvSpPr>
                <p:cNvPr id="3206" name=""/>
                <p:cNvSpPr/>
                <p:nvPr/>
              </p:nvSpPr>
              <p:spPr>
                <a:xfrm>
                  <a:off x="606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606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8" name=""/>
              <p:cNvSpPr/>
              <p:nvPr/>
            </p:nvSpPr>
            <p:spPr>
              <a:xfrm>
                <a:off x="577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9" name=""/>
              <p:cNvGrpSpPr/>
              <p:nvPr/>
            </p:nvGrpSpPr>
            <p:grpSpPr>
              <a:xfrm>
                <a:off x="505440" y="2130480"/>
                <a:ext cx="227520" cy="135720"/>
                <a:chOff x="505440" y="2130480"/>
                <a:chExt cx="227520" cy="135720"/>
              </a:xfrm>
            </p:grpSpPr>
            <p:sp>
              <p:nvSpPr>
                <p:cNvPr id="3210" name=""/>
                <p:cNvSpPr/>
                <p:nvPr/>
              </p:nvSpPr>
              <p:spPr>
                <a:xfrm>
                  <a:off x="505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695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563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563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4" name=""/>
              <p:cNvGrpSpPr/>
              <p:nvPr/>
            </p:nvGrpSpPr>
            <p:grpSpPr>
              <a:xfrm>
                <a:off x="505080" y="2152800"/>
                <a:ext cx="227880" cy="139320"/>
                <a:chOff x="505080" y="2152800"/>
                <a:chExt cx="227880" cy="139320"/>
              </a:xfrm>
            </p:grpSpPr>
            <p:sp>
              <p:nvSpPr>
                <p:cNvPr id="3215" name=""/>
                <p:cNvSpPr/>
                <p:nvPr/>
              </p:nvSpPr>
              <p:spPr>
                <a:xfrm>
                  <a:off x="505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695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563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563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9" name=""/>
              <p:cNvGrpSpPr/>
              <p:nvPr/>
            </p:nvGrpSpPr>
            <p:grpSpPr>
              <a:xfrm>
                <a:off x="505080" y="2176560"/>
                <a:ext cx="227880" cy="139320"/>
                <a:chOff x="505080" y="2176560"/>
                <a:chExt cx="227880" cy="139320"/>
              </a:xfrm>
            </p:grpSpPr>
            <p:sp>
              <p:nvSpPr>
                <p:cNvPr id="3220" name=""/>
                <p:cNvSpPr/>
                <p:nvPr/>
              </p:nvSpPr>
              <p:spPr>
                <a:xfrm>
                  <a:off x="505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695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563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563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4" name=""/>
              <p:cNvGrpSpPr/>
              <p:nvPr/>
            </p:nvGrpSpPr>
            <p:grpSpPr>
              <a:xfrm>
                <a:off x="505440" y="2200320"/>
                <a:ext cx="227520" cy="135720"/>
                <a:chOff x="505440" y="2200320"/>
                <a:chExt cx="227520" cy="135720"/>
              </a:xfrm>
            </p:grpSpPr>
            <p:sp>
              <p:nvSpPr>
                <p:cNvPr id="3225" name=""/>
                <p:cNvSpPr/>
                <p:nvPr/>
              </p:nvSpPr>
              <p:spPr>
                <a:xfrm>
                  <a:off x="505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695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563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563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9" name=""/>
              <p:cNvGrpSpPr/>
              <p:nvPr/>
            </p:nvGrpSpPr>
            <p:grpSpPr>
              <a:xfrm>
                <a:off x="505440" y="2222640"/>
                <a:ext cx="227520" cy="135720"/>
                <a:chOff x="505440" y="2222640"/>
                <a:chExt cx="227520" cy="135720"/>
              </a:xfrm>
            </p:grpSpPr>
            <p:sp>
              <p:nvSpPr>
                <p:cNvPr id="3230" name=""/>
                <p:cNvSpPr/>
                <p:nvPr/>
              </p:nvSpPr>
              <p:spPr>
                <a:xfrm>
                  <a:off x="505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695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563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563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4" name=""/>
              <p:cNvGrpSpPr/>
              <p:nvPr/>
            </p:nvGrpSpPr>
            <p:grpSpPr>
              <a:xfrm>
                <a:off x="505080" y="2244600"/>
                <a:ext cx="227880" cy="139320"/>
                <a:chOff x="505080" y="2244600"/>
                <a:chExt cx="227880" cy="139320"/>
              </a:xfrm>
            </p:grpSpPr>
            <p:sp>
              <p:nvSpPr>
                <p:cNvPr id="3235" name=""/>
                <p:cNvSpPr/>
                <p:nvPr/>
              </p:nvSpPr>
              <p:spPr>
                <a:xfrm>
                  <a:off x="505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695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563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563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9" name=""/>
              <p:cNvSpPr/>
              <p:nvPr/>
            </p:nvSpPr>
            <p:spPr>
              <a:xfrm>
                <a:off x="505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95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flipH="1">
                <a:off x="380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2" name=""/>
              <p:cNvGrpSpPr/>
              <p:nvPr/>
            </p:nvGrpSpPr>
            <p:grpSpPr>
              <a:xfrm>
                <a:off x="505080" y="2266920"/>
                <a:ext cx="227880" cy="139320"/>
                <a:chOff x="505080" y="2266920"/>
                <a:chExt cx="227880" cy="139320"/>
              </a:xfrm>
            </p:grpSpPr>
            <p:sp>
              <p:nvSpPr>
                <p:cNvPr id="3243" name=""/>
                <p:cNvSpPr/>
                <p:nvPr/>
              </p:nvSpPr>
              <p:spPr>
                <a:xfrm>
                  <a:off x="505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695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563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563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7" name=""/>
              <p:cNvGrpSpPr/>
              <p:nvPr/>
            </p:nvGrpSpPr>
            <p:grpSpPr>
              <a:xfrm>
                <a:off x="505440" y="2290680"/>
                <a:ext cx="227520" cy="136440"/>
                <a:chOff x="505440" y="2290680"/>
                <a:chExt cx="227520" cy="136440"/>
              </a:xfrm>
            </p:grpSpPr>
            <p:sp>
              <p:nvSpPr>
                <p:cNvPr id="3248" name=""/>
                <p:cNvSpPr/>
                <p:nvPr/>
              </p:nvSpPr>
              <p:spPr>
                <a:xfrm>
                  <a:off x="505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695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563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563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2" name=""/>
              <p:cNvSpPr/>
              <p:nvPr/>
            </p:nvSpPr>
            <p:spPr>
              <a:xfrm flipH="1">
                <a:off x="399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3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9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1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2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3263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3264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3265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7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8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3269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3270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2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73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3274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8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3279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3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3284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8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3289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3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3294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8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3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6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3307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1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3312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6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17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8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3319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3320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2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3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3324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3325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7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8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3329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3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3334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8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3339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3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3344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8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3349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3354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8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1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3362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6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3367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1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2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3373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3374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6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7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3378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3379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1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2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3383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7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3388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3393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7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3398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2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3403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7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3408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2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5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3416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3421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5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6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3427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3428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0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1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3432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3433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5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6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3437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1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3442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6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3447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1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3452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6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3457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1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3462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6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9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3470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4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3475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9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0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3481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3482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4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5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3486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3487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9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0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3491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5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3496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0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3501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5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3506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0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3511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5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3516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0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3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3524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8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3529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3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4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3535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3536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8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9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3540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4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3545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9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3550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4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3555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3560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4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3565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9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2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3573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7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3578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3584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9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1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3592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7" name=""/>
          <p:cNvSpPr/>
          <p:nvPr/>
        </p:nvSpPr>
        <p:spPr>
          <a:xfrm>
            <a:off x="5530680" y="2844720"/>
            <a:ext cx="15116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1568520" y="5969160"/>
            <a:ext cx="5397480" cy="417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0" name=""/>
          <p:cNvGrpSpPr/>
          <p:nvPr/>
        </p:nvGrpSpPr>
        <p:grpSpPr>
          <a:xfrm>
            <a:off x="260640" y="1208880"/>
            <a:ext cx="795960" cy="801720"/>
            <a:chOff x="260640" y="1208880"/>
            <a:chExt cx="795960" cy="801720"/>
          </a:xfrm>
        </p:grpSpPr>
        <p:grpSp>
          <p:nvGrpSpPr>
            <p:cNvPr id="3611" name=""/>
            <p:cNvGrpSpPr/>
            <p:nvPr/>
          </p:nvGrpSpPr>
          <p:grpSpPr>
            <a:xfrm>
              <a:off x="260640" y="1208880"/>
              <a:ext cx="795960" cy="801720"/>
              <a:chOff x="260640" y="1208880"/>
              <a:chExt cx="795960" cy="801720"/>
            </a:xfrm>
          </p:grpSpPr>
          <p:sp>
            <p:nvSpPr>
              <p:cNvPr id="3612" name=""/>
              <p:cNvSpPr/>
              <p:nvPr/>
            </p:nvSpPr>
            <p:spPr>
              <a:xfrm rot="1560000">
                <a:off x="360000" y="130968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rot="1560000">
                <a:off x="450360" y="172080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 rot="1560000">
              <a:off x="591840" y="15541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3616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3617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9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3621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5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3626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0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3631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5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3636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0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3641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5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3646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0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3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3654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8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3659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3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4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0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2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3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3674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3675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3676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8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9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3680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3681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3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4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3685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9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3690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4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3695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9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3700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4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3705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9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3710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4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7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3718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2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3723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7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8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9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3730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3731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3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3735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3736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8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9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3740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4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3745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9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3750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4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3755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9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3760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4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3765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9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2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3773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7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3778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2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3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3784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3785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7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8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3789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3790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2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3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3794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3799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3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3804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8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3809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3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3814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8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3819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3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6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3827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3832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6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7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3838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3839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1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3843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3844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6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7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3848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3853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7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3858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2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3863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3868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2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3873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7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0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3881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5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3886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0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1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3892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3893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5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6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3897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3898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0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1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3902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6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3907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1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3912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6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3917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1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3922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6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3927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1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4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3935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9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3940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4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5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3946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3947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9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0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3951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5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3956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0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3961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5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3966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0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3971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5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3976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0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3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3984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8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3989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3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4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3995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0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2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4003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8" name=""/>
          <p:cNvSpPr/>
          <p:nvPr/>
        </p:nvSpPr>
        <p:spPr>
          <a:xfrm>
            <a:off x="5987880" y="2844720"/>
            <a:ext cx="10544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1568520" y="5969160"/>
            <a:ext cx="5397480" cy="425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1" name=""/>
          <p:cNvGrpSpPr/>
          <p:nvPr/>
        </p:nvGrpSpPr>
        <p:grpSpPr>
          <a:xfrm>
            <a:off x="281520" y="1225800"/>
            <a:ext cx="790920" cy="780840"/>
            <a:chOff x="281520" y="1225800"/>
            <a:chExt cx="790920" cy="780840"/>
          </a:xfrm>
        </p:grpSpPr>
        <p:grpSp>
          <p:nvGrpSpPr>
            <p:cNvPr id="4022" name=""/>
            <p:cNvGrpSpPr/>
            <p:nvPr/>
          </p:nvGrpSpPr>
          <p:grpSpPr>
            <a:xfrm>
              <a:off x="281520" y="1225800"/>
              <a:ext cx="790920" cy="780840"/>
              <a:chOff x="281520" y="1225800"/>
              <a:chExt cx="790920" cy="780840"/>
            </a:xfrm>
          </p:grpSpPr>
          <p:sp>
            <p:nvSpPr>
              <p:cNvPr id="4023" name=""/>
              <p:cNvSpPr/>
              <p:nvPr/>
            </p:nvSpPr>
            <p:spPr>
              <a:xfrm rot="4020000">
                <a:off x="384480" y="1319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 rot="4020000">
                <a:off x="342360" y="159696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5" name=""/>
            <p:cNvSpPr/>
            <p:nvPr/>
          </p:nvSpPr>
          <p:spPr>
            <a:xfrm rot="4020000">
              <a:off x="603000" y="1562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6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4027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4028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0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1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4032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6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4037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1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4042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6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4047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1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4052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6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4057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1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4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4065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9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4070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4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5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1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3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4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4085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4086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4087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9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0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4091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4092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4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5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4096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7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0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4101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5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4106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0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4111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2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5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4116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7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0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4121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2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5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8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4129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3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4134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5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6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7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8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39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0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4141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4142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4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5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4146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4147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9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0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4151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5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4156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0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4161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5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4166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4171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5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4176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0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3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4184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8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4189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3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4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4195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4196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8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9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4200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4201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3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4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4205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9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4210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4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4215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9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4220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4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4225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9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4230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4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7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4238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2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4243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7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8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4249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4250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3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4254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4255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7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8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4259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4264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8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4269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3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4274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8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4279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3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4284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8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1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4292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6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4297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1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2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4303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4304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6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7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4308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4309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1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2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4313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7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4318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2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4323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7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4328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2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4333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7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4338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2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5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4346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0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4351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5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6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4357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4358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0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1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4362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6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4367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1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4372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6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4377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1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4382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6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4387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1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4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4395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9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4400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4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5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4406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1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3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4414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9" name=""/>
          <p:cNvSpPr/>
          <p:nvPr/>
        </p:nvSpPr>
        <p:spPr>
          <a:xfrm>
            <a:off x="1568520" y="5969160"/>
            <a:ext cx="5397480" cy="410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1" name=""/>
          <p:cNvGrpSpPr/>
          <p:nvPr/>
        </p:nvGrpSpPr>
        <p:grpSpPr>
          <a:xfrm>
            <a:off x="277560" y="1317240"/>
            <a:ext cx="708480" cy="617040"/>
            <a:chOff x="277560" y="1317240"/>
            <a:chExt cx="708480" cy="617040"/>
          </a:xfrm>
        </p:grpSpPr>
        <p:grpSp>
          <p:nvGrpSpPr>
            <p:cNvPr id="4432" name=""/>
            <p:cNvGrpSpPr/>
            <p:nvPr/>
          </p:nvGrpSpPr>
          <p:grpSpPr>
            <a:xfrm>
              <a:off x="277560" y="1317240"/>
              <a:ext cx="708480" cy="617040"/>
              <a:chOff x="277560" y="1317240"/>
              <a:chExt cx="708480" cy="617040"/>
            </a:xfrm>
          </p:grpSpPr>
          <p:sp>
            <p:nvSpPr>
              <p:cNvPr id="4433" name=""/>
              <p:cNvSpPr/>
              <p:nvPr/>
            </p:nvSpPr>
            <p:spPr>
              <a:xfrm rot="5520000">
                <a:off x="381240" y="132948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 rot="5520000">
                <a:off x="313920" y="149220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5" name=""/>
            <p:cNvSpPr/>
            <p:nvPr/>
          </p:nvSpPr>
          <p:spPr>
            <a:xfrm rot="5520000">
              <a:off x="591840" y="1564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6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4437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4438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0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1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4442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6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4447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1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4452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6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4457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1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4462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6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4467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1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4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4475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9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4480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4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5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1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3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1747800" y="102744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2157480" y="10493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2157480" y="1063944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3046320" y="10493280"/>
            <a:ext cx="32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8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4499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4500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4501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2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3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4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4505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4506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7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8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09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4510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1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2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3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4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4515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6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7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8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9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4520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1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2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4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4525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6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7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8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9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4530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2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3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4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4535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6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7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8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9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2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4543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4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7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4548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2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53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4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4555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4556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8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9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4560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4561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3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4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4565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9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4570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4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4575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9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4580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4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4585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9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4590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4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7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4598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2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4603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7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8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4609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4610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2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3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4614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4615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7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8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4619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3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4624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8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4629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3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4634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8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4639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3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4644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8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1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4652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6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4657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1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2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4663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4664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6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4668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4669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1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2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4673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7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4678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2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4683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7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4688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2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4693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7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4698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2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5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4706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0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4711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5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6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4717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4718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0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4722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4723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5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6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4727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1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4732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6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4737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1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4742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6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4747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1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4752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6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9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4760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4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4765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9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0" name=""/>
          <p:cNvGrpSpPr/>
          <p:nvPr/>
        </p:nvGrpSpPr>
        <p:grpSpPr>
          <a:xfrm>
            <a:off x="336960" y="1315440"/>
            <a:ext cx="723600" cy="636840"/>
            <a:chOff x="336960" y="1315440"/>
            <a:chExt cx="723600" cy="636840"/>
          </a:xfrm>
        </p:grpSpPr>
        <p:grpSp>
          <p:nvGrpSpPr>
            <p:cNvPr id="4771" name=""/>
            <p:cNvGrpSpPr/>
            <p:nvPr/>
          </p:nvGrpSpPr>
          <p:grpSpPr>
            <a:xfrm>
              <a:off x="336960" y="1315440"/>
              <a:ext cx="723600" cy="636840"/>
              <a:chOff x="336960" y="1315440"/>
              <a:chExt cx="723600" cy="636840"/>
            </a:xfrm>
          </p:grpSpPr>
          <p:sp>
            <p:nvSpPr>
              <p:cNvPr id="4772" name=""/>
              <p:cNvSpPr/>
              <p:nvPr/>
            </p:nvSpPr>
            <p:spPr>
              <a:xfrm rot="16440000">
                <a:off x="354600" y="133740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 rot="16440000">
                <a:off x="826920" y="151416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4" name=""/>
            <p:cNvSpPr/>
            <p:nvPr/>
          </p:nvSpPr>
          <p:spPr>
            <a:xfrm rot="16440000">
              <a:off x="598320" y="1548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5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4776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4777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9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0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4781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5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4786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0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4791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5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4796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0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4801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5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4806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0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3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4814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8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4819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3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4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4825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0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2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4833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8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1644480" y="2844720"/>
            <a:ext cx="53978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>
            <a:off x="1568520" y="5969160"/>
            <a:ext cx="5397480" cy="40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6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8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9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4860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64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66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9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4870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4871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4872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3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4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5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4876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4877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8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9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0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4881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2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3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4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5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4886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7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8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9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0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4891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2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3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4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5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4896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7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8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9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0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4901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2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3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4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5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4906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7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8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9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0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3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4914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5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6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7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8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4919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0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2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3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4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5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4926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4927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9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0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4931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4932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4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5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4936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0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4941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5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4946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0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4951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5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4956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0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4961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5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8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4969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3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4974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8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9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4980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4981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3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4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4985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4986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8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9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4990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4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4995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9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5000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4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5005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9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5010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4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5015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9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2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5023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7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5028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2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3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5034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5035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7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8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5039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5040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2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3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5044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8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5049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3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5054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8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5059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3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5064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8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5069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3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6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5077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1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5082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6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7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5088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5089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1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2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5093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5094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6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7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5098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2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5103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7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5108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2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5113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7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5118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2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5123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7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0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5131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5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5136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0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1" name=""/>
          <p:cNvGrpSpPr/>
          <p:nvPr/>
        </p:nvGrpSpPr>
        <p:grpSpPr>
          <a:xfrm>
            <a:off x="336960" y="1315440"/>
            <a:ext cx="723600" cy="636840"/>
            <a:chOff x="336960" y="1315440"/>
            <a:chExt cx="723600" cy="636840"/>
          </a:xfrm>
        </p:grpSpPr>
        <p:grpSp>
          <p:nvGrpSpPr>
            <p:cNvPr id="5142" name=""/>
            <p:cNvGrpSpPr/>
            <p:nvPr/>
          </p:nvGrpSpPr>
          <p:grpSpPr>
            <a:xfrm>
              <a:off x="336960" y="1315440"/>
              <a:ext cx="723600" cy="636840"/>
              <a:chOff x="336960" y="1315440"/>
              <a:chExt cx="723600" cy="636840"/>
            </a:xfrm>
          </p:grpSpPr>
          <p:sp>
            <p:nvSpPr>
              <p:cNvPr id="5143" name=""/>
              <p:cNvSpPr/>
              <p:nvPr/>
            </p:nvSpPr>
            <p:spPr>
              <a:xfrm rot="16440000">
                <a:off x="354600" y="133740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rot="16440000">
                <a:off x="826920" y="151416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5" name=""/>
            <p:cNvSpPr/>
            <p:nvPr/>
          </p:nvSpPr>
          <p:spPr>
            <a:xfrm rot="16440000">
              <a:off x="598320" y="1548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6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5147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5148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0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1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5152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6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5157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1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5162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6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5167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1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5172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6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5177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1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4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5185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9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5190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4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5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5196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1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3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5204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9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1644480" y="2844720"/>
            <a:ext cx="53978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1568520" y="5969160"/>
            <a:ext cx="5397480" cy="40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8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0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1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5232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36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38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1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5242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5243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5244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6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7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5248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5249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1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52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5253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4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5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6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7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5258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9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0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2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5263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4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5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6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7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5268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9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0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1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2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5273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4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5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6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7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5278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0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1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82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5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5286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0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5291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3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4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95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6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7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5298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5299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1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2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5303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5304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6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7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5308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2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5313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7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5318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2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5323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7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5328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2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5333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7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0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5341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5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5346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0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1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5352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5353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5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5357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5358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0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1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5362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6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5367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1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5372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6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5377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1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5382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6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5387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1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4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5395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9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5400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4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5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5406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5407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9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0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5411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5412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4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5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5416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0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5421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5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5426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0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5431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5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5436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0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5441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5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8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5449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3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5454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8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9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5460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5461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3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4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5465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5466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8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9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5470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4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5475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9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5480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4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5485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9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5490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4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5495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9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2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5503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7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5508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2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3" name=""/>
          <p:cNvGrpSpPr/>
          <p:nvPr/>
        </p:nvGrpSpPr>
        <p:grpSpPr>
          <a:xfrm>
            <a:off x="237600" y="1211400"/>
            <a:ext cx="840600" cy="840960"/>
            <a:chOff x="237600" y="1211400"/>
            <a:chExt cx="840600" cy="840960"/>
          </a:xfrm>
        </p:grpSpPr>
        <p:grpSp>
          <p:nvGrpSpPr>
            <p:cNvPr id="5514" name=""/>
            <p:cNvGrpSpPr/>
            <p:nvPr/>
          </p:nvGrpSpPr>
          <p:grpSpPr>
            <a:xfrm>
              <a:off x="237600" y="1211400"/>
              <a:ext cx="840600" cy="840960"/>
              <a:chOff x="237600" y="1211400"/>
              <a:chExt cx="840600" cy="840960"/>
            </a:xfrm>
          </p:grpSpPr>
          <p:sp>
            <p:nvSpPr>
              <p:cNvPr id="5515" name=""/>
              <p:cNvSpPr/>
              <p:nvPr/>
            </p:nvSpPr>
            <p:spPr>
              <a:xfrm rot="18840000">
                <a:off x="359280" y="133560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 rot="18840000">
                <a:off x="759960" y="168300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7" name=""/>
            <p:cNvSpPr/>
            <p:nvPr/>
          </p:nvSpPr>
          <p:spPr>
            <a:xfrm rot="18840000">
              <a:off x="608040" y="15602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8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5519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5520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2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3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5524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8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5529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3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5534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8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5539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3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5544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8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5549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3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6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5557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1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5562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6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7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5568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3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5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5576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1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2558880" y="2844720"/>
            <a:ext cx="44834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2558880" y="5969160"/>
            <a:ext cx="4407120" cy="40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6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0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2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3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5604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08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10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3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5614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5615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5616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8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9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5620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5621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2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3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4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5625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6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7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8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9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5630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1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2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3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4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5635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6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7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9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5640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1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4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5645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6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7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9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5650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1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4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7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5658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0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1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2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5663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7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8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9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5670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5671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3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4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5675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5676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8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9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5680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4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5685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9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5690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4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5695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9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5700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4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5705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9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2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5713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7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5718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2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3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5724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5725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7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8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5729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5730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2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3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5734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8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5739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3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5744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8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5749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3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5754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8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5759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3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6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5767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1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5772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6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7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5778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5779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1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2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5783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5784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6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7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5788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2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5793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7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5798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2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5803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7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5808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2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5813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7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0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5821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5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5826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0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1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5832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5833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5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6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5837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5838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0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1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5842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6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5847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1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5852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6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5857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1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5862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6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5867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1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4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5875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9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5880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4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5" name=""/>
          <p:cNvGrpSpPr/>
          <p:nvPr/>
        </p:nvGrpSpPr>
        <p:grpSpPr>
          <a:xfrm>
            <a:off x="261720" y="1231920"/>
            <a:ext cx="800640" cy="798480"/>
            <a:chOff x="261720" y="1231920"/>
            <a:chExt cx="800640" cy="798480"/>
          </a:xfrm>
        </p:grpSpPr>
        <p:grpSp>
          <p:nvGrpSpPr>
            <p:cNvPr id="5886" name=""/>
            <p:cNvGrpSpPr/>
            <p:nvPr/>
          </p:nvGrpSpPr>
          <p:grpSpPr>
            <a:xfrm>
              <a:off x="261720" y="1231920"/>
              <a:ext cx="800640" cy="798480"/>
              <a:chOff x="261720" y="1231920"/>
              <a:chExt cx="800640" cy="798480"/>
            </a:xfrm>
          </p:grpSpPr>
          <p:sp>
            <p:nvSpPr>
              <p:cNvPr id="5887" name=""/>
              <p:cNvSpPr/>
              <p:nvPr/>
            </p:nvSpPr>
            <p:spPr>
              <a:xfrm rot="19980000">
                <a:off x="363240" y="1335240"/>
                <a:ext cx="596880" cy="5918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 rot="19980000">
                <a:off x="691920" y="173808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9" name=""/>
            <p:cNvSpPr/>
            <p:nvPr/>
          </p:nvSpPr>
          <p:spPr>
            <a:xfrm rot="19980000">
              <a:off x="60804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0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5891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5892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4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5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5896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0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5901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5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5906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0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5911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5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5916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0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5921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5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8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5929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3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5934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8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9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5940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5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7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5948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3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>
            <a:off x="3701880" y="2844720"/>
            <a:ext cx="3340440" cy="288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>
            <a:off x="3701880" y="5740560"/>
            <a:ext cx="3264120" cy="43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6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7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0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8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2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4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5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5976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80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82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5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5986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5987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5988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0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1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5992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5993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5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6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5997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1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6002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6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6007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1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6012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3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6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6017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1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6022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26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9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6030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4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6035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9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40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1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6042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6043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5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6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6047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6048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0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1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6052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6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6057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1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6062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6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6067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1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6072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6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6077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1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4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6085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9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6090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4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5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6096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6097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9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0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6101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6102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4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5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6106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0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6111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5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6116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0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6121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5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6126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0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6131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5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8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6139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3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6144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8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9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6150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6151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3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4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6155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6156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8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9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6160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4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6165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9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6170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4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6175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9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6180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4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6185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9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2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6193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7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6198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2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3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6204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6205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7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8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6209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6210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2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3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6214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8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6219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3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6224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8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6229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3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6234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8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6239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3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6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6247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1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6252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6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7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6258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6259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1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2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6263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7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6268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2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6273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7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6278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2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6283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7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6288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2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5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6296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0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6301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5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6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6307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2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4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6315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0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4540320" y="2844720"/>
            <a:ext cx="250200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4540320" y="5969160"/>
            <a:ext cx="2425680" cy="425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4" name=""/>
          <p:cNvGrpSpPr/>
          <p:nvPr/>
        </p:nvGrpSpPr>
        <p:grpSpPr>
          <a:xfrm>
            <a:off x="338040" y="1305000"/>
            <a:ext cx="596880" cy="1298520"/>
            <a:chOff x="338040" y="1305000"/>
            <a:chExt cx="596880" cy="1298520"/>
          </a:xfrm>
        </p:grpSpPr>
        <p:grpSp>
          <p:nvGrpSpPr>
            <p:cNvPr id="6335" name=""/>
            <p:cNvGrpSpPr/>
            <p:nvPr/>
          </p:nvGrpSpPr>
          <p:grpSpPr>
            <a:xfrm>
              <a:off x="338040" y="1305000"/>
              <a:ext cx="596880" cy="695160"/>
              <a:chOff x="338040" y="1305000"/>
              <a:chExt cx="596880" cy="695160"/>
            </a:xfrm>
          </p:grpSpPr>
          <p:grpSp>
            <p:nvGrpSpPr>
              <p:cNvPr id="6336" name=""/>
              <p:cNvGrpSpPr/>
              <p:nvPr/>
            </p:nvGrpSpPr>
            <p:grpSpPr>
              <a:xfrm>
                <a:off x="338040" y="1305000"/>
                <a:ext cx="596880" cy="695160"/>
                <a:chOff x="338040" y="1305000"/>
                <a:chExt cx="596880" cy="695160"/>
              </a:xfrm>
            </p:grpSpPr>
            <p:sp>
              <p:nvSpPr>
                <p:cNvPr id="6337" name=""/>
                <p:cNvSpPr/>
                <p:nvPr/>
              </p:nvSpPr>
              <p:spPr>
                <a:xfrm>
                  <a:off x="338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8" name=""/>
                <p:cNvSpPr/>
                <p:nvPr/>
              </p:nvSpPr>
              <p:spPr>
                <a:xfrm>
                  <a:off x="546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9" name=""/>
              <p:cNvSpPr/>
              <p:nvPr/>
            </p:nvSpPr>
            <p:spPr>
              <a:xfrm>
                <a:off x="577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0" name=""/>
            <p:cNvGrpSpPr/>
            <p:nvPr/>
          </p:nvGrpSpPr>
          <p:grpSpPr>
            <a:xfrm>
              <a:off x="380880" y="2077920"/>
              <a:ext cx="352080" cy="525600"/>
              <a:chOff x="380880" y="2077920"/>
              <a:chExt cx="352080" cy="525600"/>
            </a:xfrm>
          </p:grpSpPr>
          <p:grpSp>
            <p:nvGrpSpPr>
              <p:cNvPr id="6341" name=""/>
              <p:cNvGrpSpPr/>
              <p:nvPr/>
            </p:nvGrpSpPr>
            <p:grpSpPr>
              <a:xfrm>
                <a:off x="606600" y="2455920"/>
                <a:ext cx="82440" cy="147600"/>
                <a:chOff x="606600" y="2455920"/>
                <a:chExt cx="82440" cy="147600"/>
              </a:xfrm>
            </p:grpSpPr>
            <p:sp>
              <p:nvSpPr>
                <p:cNvPr id="6342" name=""/>
                <p:cNvSpPr/>
                <p:nvPr/>
              </p:nvSpPr>
              <p:spPr>
                <a:xfrm>
                  <a:off x="606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3" name=""/>
                <p:cNvSpPr/>
                <p:nvPr/>
              </p:nvSpPr>
              <p:spPr>
                <a:xfrm>
                  <a:off x="606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4" name=""/>
              <p:cNvSpPr/>
              <p:nvPr/>
            </p:nvSpPr>
            <p:spPr>
              <a:xfrm>
                <a:off x="577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5" name=""/>
              <p:cNvGrpSpPr/>
              <p:nvPr/>
            </p:nvGrpSpPr>
            <p:grpSpPr>
              <a:xfrm>
                <a:off x="505440" y="2130480"/>
                <a:ext cx="227520" cy="135720"/>
                <a:chOff x="505440" y="2130480"/>
                <a:chExt cx="227520" cy="135720"/>
              </a:xfrm>
            </p:grpSpPr>
            <p:sp>
              <p:nvSpPr>
                <p:cNvPr id="6346" name=""/>
                <p:cNvSpPr/>
                <p:nvPr/>
              </p:nvSpPr>
              <p:spPr>
                <a:xfrm>
                  <a:off x="505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7" name=""/>
                <p:cNvSpPr/>
                <p:nvPr/>
              </p:nvSpPr>
              <p:spPr>
                <a:xfrm>
                  <a:off x="695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8" name=""/>
                <p:cNvSpPr/>
                <p:nvPr/>
              </p:nvSpPr>
              <p:spPr>
                <a:xfrm>
                  <a:off x="563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9" name=""/>
                <p:cNvSpPr/>
                <p:nvPr/>
              </p:nvSpPr>
              <p:spPr>
                <a:xfrm>
                  <a:off x="563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0" name=""/>
              <p:cNvGrpSpPr/>
              <p:nvPr/>
            </p:nvGrpSpPr>
            <p:grpSpPr>
              <a:xfrm>
                <a:off x="505080" y="2152800"/>
                <a:ext cx="227880" cy="139320"/>
                <a:chOff x="505080" y="2152800"/>
                <a:chExt cx="227880" cy="139320"/>
              </a:xfrm>
            </p:grpSpPr>
            <p:sp>
              <p:nvSpPr>
                <p:cNvPr id="6351" name=""/>
                <p:cNvSpPr/>
                <p:nvPr/>
              </p:nvSpPr>
              <p:spPr>
                <a:xfrm>
                  <a:off x="505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2" name=""/>
                <p:cNvSpPr/>
                <p:nvPr/>
              </p:nvSpPr>
              <p:spPr>
                <a:xfrm>
                  <a:off x="695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3" name=""/>
                <p:cNvSpPr/>
                <p:nvPr/>
              </p:nvSpPr>
              <p:spPr>
                <a:xfrm>
                  <a:off x="563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4" name=""/>
                <p:cNvSpPr/>
                <p:nvPr/>
              </p:nvSpPr>
              <p:spPr>
                <a:xfrm>
                  <a:off x="563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5" name=""/>
              <p:cNvGrpSpPr/>
              <p:nvPr/>
            </p:nvGrpSpPr>
            <p:grpSpPr>
              <a:xfrm>
                <a:off x="505080" y="2176560"/>
                <a:ext cx="227880" cy="139320"/>
                <a:chOff x="505080" y="2176560"/>
                <a:chExt cx="227880" cy="139320"/>
              </a:xfrm>
            </p:grpSpPr>
            <p:sp>
              <p:nvSpPr>
                <p:cNvPr id="6356" name=""/>
                <p:cNvSpPr/>
                <p:nvPr/>
              </p:nvSpPr>
              <p:spPr>
                <a:xfrm>
                  <a:off x="505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7" name=""/>
                <p:cNvSpPr/>
                <p:nvPr/>
              </p:nvSpPr>
              <p:spPr>
                <a:xfrm>
                  <a:off x="695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>
                  <a:off x="563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>
                  <a:off x="563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0" name=""/>
              <p:cNvGrpSpPr/>
              <p:nvPr/>
            </p:nvGrpSpPr>
            <p:grpSpPr>
              <a:xfrm>
                <a:off x="505440" y="2200320"/>
                <a:ext cx="227520" cy="135720"/>
                <a:chOff x="505440" y="2200320"/>
                <a:chExt cx="227520" cy="135720"/>
              </a:xfrm>
            </p:grpSpPr>
            <p:sp>
              <p:nvSpPr>
                <p:cNvPr id="6361" name=""/>
                <p:cNvSpPr/>
                <p:nvPr/>
              </p:nvSpPr>
              <p:spPr>
                <a:xfrm>
                  <a:off x="505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2" name=""/>
                <p:cNvSpPr/>
                <p:nvPr/>
              </p:nvSpPr>
              <p:spPr>
                <a:xfrm>
                  <a:off x="695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563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563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5" name=""/>
              <p:cNvGrpSpPr/>
              <p:nvPr/>
            </p:nvGrpSpPr>
            <p:grpSpPr>
              <a:xfrm>
                <a:off x="505440" y="2222640"/>
                <a:ext cx="227520" cy="135720"/>
                <a:chOff x="505440" y="2222640"/>
                <a:chExt cx="227520" cy="135720"/>
              </a:xfrm>
            </p:grpSpPr>
            <p:sp>
              <p:nvSpPr>
                <p:cNvPr id="6366" name=""/>
                <p:cNvSpPr/>
                <p:nvPr/>
              </p:nvSpPr>
              <p:spPr>
                <a:xfrm>
                  <a:off x="505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>
                  <a:off x="695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563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>
                  <a:off x="563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0" name=""/>
              <p:cNvGrpSpPr/>
              <p:nvPr/>
            </p:nvGrpSpPr>
            <p:grpSpPr>
              <a:xfrm>
                <a:off x="505080" y="2244600"/>
                <a:ext cx="227880" cy="139320"/>
                <a:chOff x="505080" y="2244600"/>
                <a:chExt cx="227880" cy="139320"/>
              </a:xfrm>
            </p:grpSpPr>
            <p:sp>
              <p:nvSpPr>
                <p:cNvPr id="6371" name=""/>
                <p:cNvSpPr/>
                <p:nvPr/>
              </p:nvSpPr>
              <p:spPr>
                <a:xfrm>
                  <a:off x="505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695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>
                  <a:off x="563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>
                  <a:off x="563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5" name=""/>
              <p:cNvSpPr/>
              <p:nvPr/>
            </p:nvSpPr>
            <p:spPr>
              <a:xfrm>
                <a:off x="505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695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 flipH="1">
                <a:off x="380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8" name=""/>
              <p:cNvGrpSpPr/>
              <p:nvPr/>
            </p:nvGrpSpPr>
            <p:grpSpPr>
              <a:xfrm>
                <a:off x="505080" y="2266920"/>
                <a:ext cx="227880" cy="139320"/>
                <a:chOff x="505080" y="2266920"/>
                <a:chExt cx="227880" cy="139320"/>
              </a:xfrm>
            </p:grpSpPr>
            <p:sp>
              <p:nvSpPr>
                <p:cNvPr id="6379" name=""/>
                <p:cNvSpPr/>
                <p:nvPr/>
              </p:nvSpPr>
              <p:spPr>
                <a:xfrm>
                  <a:off x="505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695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563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563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3" name=""/>
              <p:cNvGrpSpPr/>
              <p:nvPr/>
            </p:nvGrpSpPr>
            <p:grpSpPr>
              <a:xfrm>
                <a:off x="505440" y="2290680"/>
                <a:ext cx="227520" cy="136440"/>
                <a:chOff x="505440" y="2290680"/>
                <a:chExt cx="227520" cy="136440"/>
              </a:xfrm>
            </p:grpSpPr>
            <p:sp>
              <p:nvSpPr>
                <p:cNvPr id="6384" name=""/>
                <p:cNvSpPr/>
                <p:nvPr/>
              </p:nvSpPr>
              <p:spPr>
                <a:xfrm>
                  <a:off x="505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5" name=""/>
                <p:cNvSpPr/>
                <p:nvPr/>
              </p:nvSpPr>
              <p:spPr>
                <a:xfrm>
                  <a:off x="695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6" name=""/>
                <p:cNvSpPr/>
                <p:nvPr/>
              </p:nvSpPr>
              <p:spPr>
                <a:xfrm>
                  <a:off x="563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7" name=""/>
                <p:cNvSpPr/>
                <p:nvPr/>
              </p:nvSpPr>
              <p:spPr>
                <a:xfrm>
                  <a:off x="563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88" name=""/>
              <p:cNvSpPr/>
              <p:nvPr/>
            </p:nvSpPr>
            <p:spPr>
              <a:xfrm flipH="1">
                <a:off x="399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89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0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94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6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7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6398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02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04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7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6408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6409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6410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1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2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3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6414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6415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6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7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8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6419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1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2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3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6424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6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7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8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6429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0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1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2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3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6434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5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6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7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8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6439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0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1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2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3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6444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5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6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7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8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51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6452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3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4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5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6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6457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8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9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0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1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62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3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6464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6465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7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8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6469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6470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2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3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6474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8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6479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3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6484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8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6489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3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6494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8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6499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3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6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6507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1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6512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6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7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6518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6519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1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2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6523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6524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6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7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6528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2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6533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7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6538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2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6543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7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6548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2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6553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7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0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6561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5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6566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0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1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6572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6573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5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6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6577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6578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0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1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6582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6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6587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1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6592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6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6597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1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6602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6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6607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1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4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6615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9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6620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4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5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6626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6627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9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0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6631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6632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4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5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6636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0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6641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5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6646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0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6651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5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6656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0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6661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5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8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6669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3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6674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8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9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6680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6681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3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4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6685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9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6690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4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6695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9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6700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4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6705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9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6710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4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7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6718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2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6723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7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8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6729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6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6737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2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5530680" y="2844720"/>
            <a:ext cx="15116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>
            <a:off x="5607000" y="5969160"/>
            <a:ext cx="1359000" cy="387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6" name=""/>
          <p:cNvGrpSpPr/>
          <p:nvPr/>
        </p:nvGrpSpPr>
        <p:grpSpPr>
          <a:xfrm>
            <a:off x="260640" y="1208880"/>
            <a:ext cx="795960" cy="801720"/>
            <a:chOff x="260640" y="1208880"/>
            <a:chExt cx="795960" cy="801720"/>
          </a:xfrm>
        </p:grpSpPr>
        <p:grpSp>
          <p:nvGrpSpPr>
            <p:cNvPr id="6757" name=""/>
            <p:cNvGrpSpPr/>
            <p:nvPr/>
          </p:nvGrpSpPr>
          <p:grpSpPr>
            <a:xfrm>
              <a:off x="260640" y="1208880"/>
              <a:ext cx="795960" cy="801720"/>
              <a:chOff x="260640" y="1208880"/>
              <a:chExt cx="795960" cy="801720"/>
            </a:xfrm>
          </p:grpSpPr>
          <p:sp>
            <p:nvSpPr>
              <p:cNvPr id="6758" name=""/>
              <p:cNvSpPr/>
              <p:nvPr/>
            </p:nvSpPr>
            <p:spPr>
              <a:xfrm rot="1560000">
                <a:off x="360000" y="130968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 rot="1560000">
                <a:off x="450360" y="172080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0" name=""/>
            <p:cNvSpPr/>
            <p:nvPr/>
          </p:nvSpPr>
          <p:spPr>
            <a:xfrm rot="1560000">
              <a:off x="591840" y="15541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1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6762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6763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5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6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6767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1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6772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6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6777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1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6782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6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6787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1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6792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6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9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6800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4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6805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9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0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63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119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120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124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125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129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134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144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149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154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167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173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174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178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179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183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188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193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198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203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208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216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221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227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228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232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233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237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242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247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252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257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262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270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275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281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282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286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287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291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296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301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306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311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324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329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82240" y="1319040"/>
            <a:ext cx="700560" cy="606960"/>
            <a:chOff x="282240" y="1319040"/>
            <a:chExt cx="700560" cy="606960"/>
          </a:xfrm>
        </p:grpSpPr>
        <p:grpSp>
          <p:nvGrpSpPr>
            <p:cNvPr id="335" name=""/>
            <p:cNvGrpSpPr/>
            <p:nvPr/>
          </p:nvGrpSpPr>
          <p:grpSpPr>
            <a:xfrm>
              <a:off x="282240" y="1319040"/>
              <a:ext cx="700560" cy="606960"/>
              <a:chOff x="282240" y="1319040"/>
              <a:chExt cx="700560" cy="606960"/>
            </a:xfrm>
          </p:grpSpPr>
          <p:sp>
            <p:nvSpPr>
              <p:cNvPr id="336" name=""/>
              <p:cNvSpPr/>
              <p:nvPr/>
            </p:nvSpPr>
            <p:spPr>
              <a:xfrm rot="5340000">
                <a:off x="383040" y="1326600"/>
                <a:ext cx="596880" cy="5918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5340000">
                <a:off x="317160" y="1501560"/>
                <a:ext cx="193680" cy="26064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 rot="5340000">
              <a:off x="594720" y="1562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340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341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345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350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355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360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365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370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378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383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1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2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5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7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8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6819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23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25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8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6829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6830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6831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3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4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6835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6836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8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39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6840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4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6845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9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6850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4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6855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9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6860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4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6865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9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2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6873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7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6878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2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3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4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6885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6886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8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9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6890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6891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3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4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6895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9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6900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4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6905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9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6910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4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6915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9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6920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4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6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7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6928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2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6933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7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8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6939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6940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2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3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6944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6945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7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8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6949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3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6954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8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6959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3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6964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8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6969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3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6974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8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0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1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6982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6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6987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1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2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6993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6994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6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7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6998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6999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1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2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7003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7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7008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2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7013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7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7018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2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7023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7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7028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2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5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7036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0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7041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45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6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7047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7048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0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1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7052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7053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5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6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7057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1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7062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6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7067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1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7072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6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7077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1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7082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6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9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7090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4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7095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9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0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7101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7102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4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5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7106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0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7111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5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7116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0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7121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5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7126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0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7131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5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8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7139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3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7144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8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9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7150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5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7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7158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3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5987880" y="2844720"/>
            <a:ext cx="10544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5" name=""/>
          <p:cNvSpPr/>
          <p:nvPr/>
        </p:nvSpPr>
        <p:spPr>
          <a:xfrm>
            <a:off x="6064200" y="5969160"/>
            <a:ext cx="901800" cy="387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6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8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9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1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2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3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4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5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6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7" name=""/>
          <p:cNvGrpSpPr/>
          <p:nvPr/>
        </p:nvGrpSpPr>
        <p:grpSpPr>
          <a:xfrm>
            <a:off x="281520" y="1225800"/>
            <a:ext cx="790920" cy="780840"/>
            <a:chOff x="281520" y="1225800"/>
            <a:chExt cx="790920" cy="780840"/>
          </a:xfrm>
        </p:grpSpPr>
        <p:grpSp>
          <p:nvGrpSpPr>
            <p:cNvPr id="7178" name=""/>
            <p:cNvGrpSpPr/>
            <p:nvPr/>
          </p:nvGrpSpPr>
          <p:grpSpPr>
            <a:xfrm>
              <a:off x="281520" y="1225800"/>
              <a:ext cx="790920" cy="780840"/>
              <a:chOff x="281520" y="1225800"/>
              <a:chExt cx="790920" cy="780840"/>
            </a:xfrm>
          </p:grpSpPr>
          <p:sp>
            <p:nvSpPr>
              <p:cNvPr id="7179" name=""/>
              <p:cNvSpPr/>
              <p:nvPr/>
            </p:nvSpPr>
            <p:spPr>
              <a:xfrm rot="4020000">
                <a:off x="384480" y="1319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 rot="4020000">
                <a:off x="342360" y="159696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1" name=""/>
            <p:cNvSpPr/>
            <p:nvPr/>
          </p:nvSpPr>
          <p:spPr>
            <a:xfrm rot="4020000">
              <a:off x="603000" y="1562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2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7183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7184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6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7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7188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2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7193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7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7198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2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7203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7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7208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2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7213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7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9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0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7221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5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7226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0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1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2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3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4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5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6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8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9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7240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44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46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9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7250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7251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7252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4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5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7256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7257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9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60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7261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2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3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5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7266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8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9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0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7271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2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4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5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7276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7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8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0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7281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2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3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4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5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7286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7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9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0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3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7294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5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6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8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7299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0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1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2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3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04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5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7306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7307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9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0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7311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7312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4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5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7316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0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7321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5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7326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0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7331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5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7336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0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7341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5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8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7349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3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7354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8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9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7360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7361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3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4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7365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7366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8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9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7370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4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7375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9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7380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4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7385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9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7390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4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7395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9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2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7403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7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7408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2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3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7414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7415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7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8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7419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7420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2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3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7424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8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7429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3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7434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8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7439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3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7444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8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7449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3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6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7457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1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7462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6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7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7468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7469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1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2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7473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7474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6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7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7478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2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7483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7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7488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2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7493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7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7498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2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7503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7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0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7511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5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7516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0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1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7522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7523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5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6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7527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1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7532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6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7537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1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7542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6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7547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1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7552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6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9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7560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4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7565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9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0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7571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6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8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7579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4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6" name=""/>
          <p:cNvGrpSpPr/>
          <p:nvPr/>
        </p:nvGrpSpPr>
        <p:grpSpPr>
          <a:xfrm>
            <a:off x="277560" y="1317240"/>
            <a:ext cx="708480" cy="617040"/>
            <a:chOff x="277560" y="1317240"/>
            <a:chExt cx="708480" cy="617040"/>
          </a:xfrm>
        </p:grpSpPr>
        <p:grpSp>
          <p:nvGrpSpPr>
            <p:cNvPr id="7597" name=""/>
            <p:cNvGrpSpPr/>
            <p:nvPr/>
          </p:nvGrpSpPr>
          <p:grpSpPr>
            <a:xfrm>
              <a:off x="277560" y="1317240"/>
              <a:ext cx="708480" cy="617040"/>
              <a:chOff x="277560" y="1317240"/>
              <a:chExt cx="708480" cy="617040"/>
            </a:xfrm>
          </p:grpSpPr>
          <p:sp>
            <p:nvSpPr>
              <p:cNvPr id="7598" name=""/>
              <p:cNvSpPr/>
              <p:nvPr/>
            </p:nvSpPr>
            <p:spPr>
              <a:xfrm rot="5520000">
                <a:off x="381240" y="132948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 rot="5520000">
                <a:off x="313920" y="149220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0" name=""/>
            <p:cNvSpPr/>
            <p:nvPr/>
          </p:nvSpPr>
          <p:spPr>
            <a:xfrm rot="5520000">
              <a:off x="591840" y="1564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1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7602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7603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5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6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7607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1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7612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6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7617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1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7622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6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7627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1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7632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6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9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7640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4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7645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9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0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1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5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7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8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7659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63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65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8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7669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7670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7671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73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4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7675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7676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78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9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7680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4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7685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9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7690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4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7695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9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7700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4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7705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9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2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7713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7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7718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0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1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2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23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4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7725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7726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8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9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7730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7731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3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4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7735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9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7740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4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7745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9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7750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4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7755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9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7760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4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7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7768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2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7773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7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8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7779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7780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2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3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7784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7785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7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8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7789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3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7794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8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7799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3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7804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8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7809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3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7814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8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1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7822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6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7827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1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2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7833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7834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6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7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7838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7839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1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2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7843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7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7848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2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7853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7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7858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2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7863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7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7868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2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5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7876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0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7881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5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6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7887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7888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0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1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7892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7893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5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6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7897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1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7902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6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7907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1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7912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6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7917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1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7922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26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9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7930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4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7935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9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0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7941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7942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4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5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7946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0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7951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5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7956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0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7961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5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7966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0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7971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5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8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7979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3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7984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8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9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7990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5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4002120" y="10078920"/>
            <a:ext cx="3959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 varie de 0.5v à 20v car dt est fonction du rég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8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7999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4" name=""/>
          <p:cNvSpPr/>
          <p:nvPr/>
        </p:nvSpPr>
        <p:spPr>
          <a:xfrm>
            <a:off x="3854520" y="10083960"/>
            <a:ext cx="3873600" cy="977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6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7" name=""/>
          <p:cNvGrpSpPr/>
          <p:nvPr/>
        </p:nvGrpSpPr>
        <p:grpSpPr>
          <a:xfrm>
            <a:off x="277560" y="1317240"/>
            <a:ext cx="708480" cy="617040"/>
            <a:chOff x="277560" y="1317240"/>
            <a:chExt cx="708480" cy="617040"/>
          </a:xfrm>
        </p:grpSpPr>
        <p:grpSp>
          <p:nvGrpSpPr>
            <p:cNvPr id="8018" name=""/>
            <p:cNvGrpSpPr/>
            <p:nvPr/>
          </p:nvGrpSpPr>
          <p:grpSpPr>
            <a:xfrm>
              <a:off x="277560" y="1317240"/>
              <a:ext cx="708480" cy="617040"/>
              <a:chOff x="277560" y="1317240"/>
              <a:chExt cx="708480" cy="617040"/>
            </a:xfrm>
          </p:grpSpPr>
          <p:sp>
            <p:nvSpPr>
              <p:cNvPr id="8019" name=""/>
              <p:cNvSpPr/>
              <p:nvPr/>
            </p:nvSpPr>
            <p:spPr>
              <a:xfrm rot="5520000">
                <a:off x="381240" y="132948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 rot="5520000">
                <a:off x="313920" y="149220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1" name=""/>
            <p:cNvSpPr/>
            <p:nvPr/>
          </p:nvSpPr>
          <p:spPr>
            <a:xfrm rot="5520000">
              <a:off x="591840" y="1564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2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8023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8024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6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7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8028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2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8033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7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8038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2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8043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7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8048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2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8053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7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9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0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8061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5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8066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0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1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5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7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8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8079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83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85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8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8089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8090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8091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3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4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8095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8096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8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99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8100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2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3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4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8105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9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8110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1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4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8115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9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8120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4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8125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7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8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29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2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8133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4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5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6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7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8138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9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0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42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43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4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8145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8146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8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9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8150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8151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3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4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8155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9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8160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4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8165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9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8170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4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8175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9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8180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4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6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7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8188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2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8193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7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8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8199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8200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2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3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8204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8205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7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8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8209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3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8214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8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8219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3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8224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8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8229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3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8234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8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9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0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1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8242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6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8247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1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2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8253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8254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6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7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8258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8259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1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2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8263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7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8268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2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8273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7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8278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2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8283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7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8288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2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3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4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5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8296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0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8301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5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6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8307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8308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0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1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8312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8313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5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6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8317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1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8322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6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8327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1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8332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6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8337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1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8342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6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7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8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9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8350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4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8355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9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0" name=""/>
          <p:cNvGrpSpPr/>
          <p:nvPr/>
        </p:nvGrpSpPr>
        <p:grpSpPr>
          <a:xfrm>
            <a:off x="357120" y="1333440"/>
            <a:ext cx="696960" cy="598680"/>
            <a:chOff x="357120" y="1333440"/>
            <a:chExt cx="696960" cy="598680"/>
          </a:xfrm>
        </p:grpSpPr>
        <p:grpSp>
          <p:nvGrpSpPr>
            <p:cNvPr id="8361" name=""/>
            <p:cNvGrpSpPr/>
            <p:nvPr/>
          </p:nvGrpSpPr>
          <p:grpSpPr>
            <a:xfrm>
              <a:off x="357120" y="1333440"/>
              <a:ext cx="696960" cy="598680"/>
              <a:chOff x="357120" y="1333440"/>
              <a:chExt cx="696960" cy="598680"/>
            </a:xfrm>
          </p:grpSpPr>
          <p:sp>
            <p:nvSpPr>
              <p:cNvPr id="8362" name=""/>
              <p:cNvSpPr/>
              <p:nvPr/>
            </p:nvSpPr>
            <p:spPr>
              <a:xfrm>
                <a:off x="357120" y="1333440"/>
                <a:ext cx="593640" cy="59868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792000" y="1528920"/>
                <a:ext cx="2620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4" name=""/>
            <p:cNvSpPr/>
            <p:nvPr/>
          </p:nvSpPr>
          <p:spPr>
            <a:xfrm>
              <a:off x="598320" y="15462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5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8366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8367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9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0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8371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5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8376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7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8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0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8381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5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8386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0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8391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5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8396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0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3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8404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8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8409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3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4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8415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6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0" name=""/>
          <p:cNvSpPr/>
          <p:nvPr/>
        </p:nvSpPr>
        <p:spPr>
          <a:xfrm>
            <a:off x="1714680" y="786780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0" y="336"/>
                </a:moveTo>
                <a:lnTo>
                  <a:pt x="240" y="318"/>
                </a:lnTo>
                <a:lnTo>
                  <a:pt x="480" y="283"/>
                </a:lnTo>
                <a:lnTo>
                  <a:pt x="528" y="265"/>
                </a:lnTo>
                <a:lnTo>
                  <a:pt x="576" y="248"/>
                </a:lnTo>
                <a:lnTo>
                  <a:pt x="624" y="212"/>
                </a:lnTo>
                <a:lnTo>
                  <a:pt x="720" y="141"/>
                </a:lnTo>
                <a:lnTo>
                  <a:pt x="816" y="53"/>
                </a:lnTo>
                <a:lnTo>
                  <a:pt x="864" y="18"/>
                </a:lnTo>
                <a:lnTo>
                  <a:pt x="912" y="0"/>
                </a:lnTo>
                <a:lnTo>
                  <a:pt x="1008" y="0"/>
                </a:lnTo>
                <a:lnTo>
                  <a:pt x="1056" y="18"/>
                </a:lnTo>
                <a:lnTo>
                  <a:pt x="1104" y="53"/>
                </a:lnTo>
                <a:lnTo>
                  <a:pt x="1488" y="336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>
            <a:off x="4076640" y="840096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1488" y="0"/>
                </a:moveTo>
                <a:lnTo>
                  <a:pt x="1248" y="18"/>
                </a:lnTo>
                <a:lnTo>
                  <a:pt x="1008" y="53"/>
                </a:lnTo>
                <a:lnTo>
                  <a:pt x="960" y="71"/>
                </a:lnTo>
                <a:lnTo>
                  <a:pt x="912" y="88"/>
                </a:lnTo>
                <a:lnTo>
                  <a:pt x="864" y="124"/>
                </a:lnTo>
                <a:lnTo>
                  <a:pt x="768" y="195"/>
                </a:lnTo>
                <a:lnTo>
                  <a:pt x="672" y="283"/>
                </a:lnTo>
                <a:lnTo>
                  <a:pt x="624" y="318"/>
                </a:lnTo>
                <a:lnTo>
                  <a:pt x="576" y="336"/>
                </a:lnTo>
                <a:lnTo>
                  <a:pt x="480" y="336"/>
                </a:lnTo>
                <a:lnTo>
                  <a:pt x="432" y="318"/>
                </a:lnTo>
                <a:lnTo>
                  <a:pt x="384" y="28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2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8423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4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5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6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7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8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1644480" y="2844720"/>
            <a:ext cx="53978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1568520" y="5664240"/>
            <a:ext cx="5016600" cy="40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3011400" y="619272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E à 1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4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7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48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0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1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8452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56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58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1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8462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8463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8464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5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6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7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8468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8469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0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1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72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8473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4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5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6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7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8478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9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0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1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2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8483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4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5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6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7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8488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9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0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1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2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8493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4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5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6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7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8498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9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0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1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02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5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8506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7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8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9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0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8511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2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3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4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15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6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7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8518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8519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1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2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8523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8524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6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7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8528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2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8533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7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8538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2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8543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7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8548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2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8553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7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8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9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0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8561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5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8566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0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1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8572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8573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5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6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8577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8578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9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0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1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8582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6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8587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1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8592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6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8597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1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8602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6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8607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1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4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8615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9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8620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4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5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8626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8627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9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0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8631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8632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4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5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8636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0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8641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5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8646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0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8651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5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8656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0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8661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5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7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8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8669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3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8674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8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9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8680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8681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3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4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8685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8686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8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9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8690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4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8695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9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8700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4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8705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9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8710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4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8715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9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2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8723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7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8728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0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2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3" name=""/>
          <p:cNvGrpSpPr/>
          <p:nvPr/>
        </p:nvGrpSpPr>
        <p:grpSpPr>
          <a:xfrm>
            <a:off x="237600" y="1211400"/>
            <a:ext cx="840600" cy="840960"/>
            <a:chOff x="237600" y="1211400"/>
            <a:chExt cx="840600" cy="840960"/>
          </a:xfrm>
        </p:grpSpPr>
        <p:grpSp>
          <p:nvGrpSpPr>
            <p:cNvPr id="8734" name=""/>
            <p:cNvGrpSpPr/>
            <p:nvPr/>
          </p:nvGrpSpPr>
          <p:grpSpPr>
            <a:xfrm>
              <a:off x="237600" y="1211400"/>
              <a:ext cx="840600" cy="840960"/>
              <a:chOff x="237600" y="1211400"/>
              <a:chExt cx="840600" cy="840960"/>
            </a:xfrm>
          </p:grpSpPr>
          <p:sp>
            <p:nvSpPr>
              <p:cNvPr id="8735" name=""/>
              <p:cNvSpPr/>
              <p:nvPr/>
            </p:nvSpPr>
            <p:spPr>
              <a:xfrm rot="18840000">
                <a:off x="359280" y="133560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 rot="18840000">
                <a:off x="759960" y="168300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7" name=""/>
            <p:cNvSpPr/>
            <p:nvPr/>
          </p:nvSpPr>
          <p:spPr>
            <a:xfrm rot="18840000">
              <a:off x="608040" y="15602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8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8739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8740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2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3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8744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8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8749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3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8754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8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8759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3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8764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8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8769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3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4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5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6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8777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1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8782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6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7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8788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9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0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1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2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3" name=""/>
          <p:cNvSpPr/>
          <p:nvPr/>
        </p:nvSpPr>
        <p:spPr>
          <a:xfrm>
            <a:off x="1714680" y="786780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0" y="336"/>
                </a:moveTo>
                <a:lnTo>
                  <a:pt x="240" y="318"/>
                </a:lnTo>
                <a:lnTo>
                  <a:pt x="480" y="283"/>
                </a:lnTo>
                <a:lnTo>
                  <a:pt x="528" y="265"/>
                </a:lnTo>
                <a:lnTo>
                  <a:pt x="576" y="248"/>
                </a:lnTo>
                <a:lnTo>
                  <a:pt x="624" y="212"/>
                </a:lnTo>
                <a:lnTo>
                  <a:pt x="720" y="141"/>
                </a:lnTo>
                <a:lnTo>
                  <a:pt x="816" y="53"/>
                </a:lnTo>
                <a:lnTo>
                  <a:pt x="864" y="18"/>
                </a:lnTo>
                <a:lnTo>
                  <a:pt x="912" y="0"/>
                </a:lnTo>
                <a:lnTo>
                  <a:pt x="1008" y="0"/>
                </a:lnTo>
                <a:lnTo>
                  <a:pt x="1056" y="18"/>
                </a:lnTo>
                <a:lnTo>
                  <a:pt x="1104" y="53"/>
                </a:lnTo>
                <a:lnTo>
                  <a:pt x="1488" y="336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4076640" y="840096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1488" y="0"/>
                </a:moveTo>
                <a:lnTo>
                  <a:pt x="1248" y="18"/>
                </a:lnTo>
                <a:lnTo>
                  <a:pt x="1008" y="53"/>
                </a:lnTo>
                <a:lnTo>
                  <a:pt x="960" y="71"/>
                </a:lnTo>
                <a:lnTo>
                  <a:pt x="912" y="88"/>
                </a:lnTo>
                <a:lnTo>
                  <a:pt x="864" y="124"/>
                </a:lnTo>
                <a:lnTo>
                  <a:pt x="768" y="195"/>
                </a:lnTo>
                <a:lnTo>
                  <a:pt x="672" y="283"/>
                </a:lnTo>
                <a:lnTo>
                  <a:pt x="624" y="318"/>
                </a:lnTo>
                <a:lnTo>
                  <a:pt x="576" y="336"/>
                </a:lnTo>
                <a:lnTo>
                  <a:pt x="480" y="336"/>
                </a:lnTo>
                <a:lnTo>
                  <a:pt x="432" y="318"/>
                </a:lnTo>
                <a:lnTo>
                  <a:pt x="384" y="28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5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8796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7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8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9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0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01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2558880" y="2844720"/>
            <a:ext cx="44834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2558880" y="5664240"/>
            <a:ext cx="4026240" cy="40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3011400" y="619272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E à 1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7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21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3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4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8825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29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31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4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8835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8836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8837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8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39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0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8841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8842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3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44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5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8846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7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8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9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0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8851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2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3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4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5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8856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7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8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9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0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8861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2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3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4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5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8866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7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8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9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0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8871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2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3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4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75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8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8879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0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1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2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3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8884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5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6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7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88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89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0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8891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8892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4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5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8896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8897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9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0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8901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5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8906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0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8911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5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8916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0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8921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5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8926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0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2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3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8934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8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8939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43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4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8945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8946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48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9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8950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8951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53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4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8955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7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8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9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8960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4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8965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9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8970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4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8975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9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8980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1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2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4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6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7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8988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2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8993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5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6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7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8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8999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9000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1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2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3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9004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9005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7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8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9009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3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9014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8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9019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3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9024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8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9029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3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9034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8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0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1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9042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6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9047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1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2" name=""/>
          <p:cNvSpPr/>
          <p:nvPr/>
        </p:nvSpPr>
        <p:spPr>
          <a:xfrm>
            <a:off x="1714680" y="786780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0" y="336"/>
                </a:moveTo>
                <a:lnTo>
                  <a:pt x="240" y="318"/>
                </a:lnTo>
                <a:lnTo>
                  <a:pt x="480" y="283"/>
                </a:lnTo>
                <a:lnTo>
                  <a:pt x="528" y="265"/>
                </a:lnTo>
                <a:lnTo>
                  <a:pt x="576" y="248"/>
                </a:lnTo>
                <a:lnTo>
                  <a:pt x="624" y="212"/>
                </a:lnTo>
                <a:lnTo>
                  <a:pt x="720" y="141"/>
                </a:lnTo>
                <a:lnTo>
                  <a:pt x="816" y="53"/>
                </a:lnTo>
                <a:lnTo>
                  <a:pt x="864" y="18"/>
                </a:lnTo>
                <a:lnTo>
                  <a:pt x="912" y="0"/>
                </a:lnTo>
                <a:lnTo>
                  <a:pt x="1008" y="0"/>
                </a:lnTo>
                <a:lnTo>
                  <a:pt x="1056" y="18"/>
                </a:lnTo>
                <a:lnTo>
                  <a:pt x="1104" y="53"/>
                </a:lnTo>
                <a:lnTo>
                  <a:pt x="1488" y="336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3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9054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9055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7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8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9059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9060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1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2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3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9064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5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6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7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8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9069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0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1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2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3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9074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5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6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7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8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9079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0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3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9084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6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7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8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9089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0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3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5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6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9097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8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1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9102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6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7" name=""/>
          <p:cNvGrpSpPr/>
          <p:nvPr/>
        </p:nvGrpSpPr>
        <p:grpSpPr>
          <a:xfrm>
            <a:off x="261720" y="1231920"/>
            <a:ext cx="800640" cy="798480"/>
            <a:chOff x="261720" y="1231920"/>
            <a:chExt cx="800640" cy="798480"/>
          </a:xfrm>
        </p:grpSpPr>
        <p:grpSp>
          <p:nvGrpSpPr>
            <p:cNvPr id="9108" name=""/>
            <p:cNvGrpSpPr/>
            <p:nvPr/>
          </p:nvGrpSpPr>
          <p:grpSpPr>
            <a:xfrm>
              <a:off x="261720" y="1231920"/>
              <a:ext cx="800640" cy="798480"/>
              <a:chOff x="261720" y="1231920"/>
              <a:chExt cx="800640" cy="798480"/>
            </a:xfrm>
          </p:grpSpPr>
          <p:sp>
            <p:nvSpPr>
              <p:cNvPr id="9109" name=""/>
              <p:cNvSpPr/>
              <p:nvPr/>
            </p:nvSpPr>
            <p:spPr>
              <a:xfrm rot="19980000">
                <a:off x="363240" y="1335240"/>
                <a:ext cx="596880" cy="5918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 rot="19980000">
                <a:off x="691920" y="173808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11" name=""/>
            <p:cNvSpPr/>
            <p:nvPr/>
          </p:nvSpPr>
          <p:spPr>
            <a:xfrm rot="19980000">
              <a:off x="60804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2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9113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9114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16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7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9118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0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2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9123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4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6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7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9128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2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9133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4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5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6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7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9138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2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9143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7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9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0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9151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5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9156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7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8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0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1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9162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7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9168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0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1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2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3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>
            <a:off x="3701880" y="2844720"/>
            <a:ext cx="3340440" cy="288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>
            <a:off x="4076640" y="840096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1488" y="0"/>
                </a:moveTo>
                <a:lnTo>
                  <a:pt x="1248" y="18"/>
                </a:lnTo>
                <a:lnTo>
                  <a:pt x="1008" y="53"/>
                </a:lnTo>
                <a:lnTo>
                  <a:pt x="960" y="71"/>
                </a:lnTo>
                <a:lnTo>
                  <a:pt x="912" y="88"/>
                </a:lnTo>
                <a:lnTo>
                  <a:pt x="864" y="124"/>
                </a:lnTo>
                <a:lnTo>
                  <a:pt x="768" y="195"/>
                </a:lnTo>
                <a:lnTo>
                  <a:pt x="672" y="283"/>
                </a:lnTo>
                <a:lnTo>
                  <a:pt x="624" y="318"/>
                </a:lnTo>
                <a:lnTo>
                  <a:pt x="576" y="336"/>
                </a:lnTo>
                <a:lnTo>
                  <a:pt x="480" y="336"/>
                </a:lnTo>
                <a:lnTo>
                  <a:pt x="432" y="318"/>
                </a:lnTo>
                <a:lnTo>
                  <a:pt x="384" y="28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>
            <a:off x="3701880" y="6045120"/>
            <a:ext cx="2883240" cy="433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3011400" y="619272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E à 1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0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94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96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7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9198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0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1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202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2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04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5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6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7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9208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9209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9210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1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2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3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9214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9215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6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7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8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9219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0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1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2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3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9224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5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6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7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8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9229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0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1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2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33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9234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5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6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7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38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9239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0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1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2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3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9244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5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6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7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8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51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9252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3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4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5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6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9257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8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9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0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61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2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3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9264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9265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6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7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8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9269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9270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2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3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9274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5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6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8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9279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0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1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3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9284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5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7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8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9289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0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1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2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3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9294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5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6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7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8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9299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0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1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2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3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5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6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9307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1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9312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3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4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5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6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7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9318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9319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1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2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9323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9324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6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7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9328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2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9333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7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9338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2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9343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7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9348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2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9353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6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7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8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9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60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9361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3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4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5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9366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0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1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9372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9373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5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6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9377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9378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0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1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9382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3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4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5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6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9387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9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1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9392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6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9397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8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9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0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1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9402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6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9407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1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3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4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9415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9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9420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2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4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5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9426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9427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9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0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9431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9432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3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34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5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9436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7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0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9441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3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5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9446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0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9451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5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9456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0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9461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4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5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6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7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68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9469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1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3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9474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8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9" name=""/>
          <p:cNvSpPr/>
          <p:nvPr/>
        </p:nvSpPr>
        <p:spPr>
          <a:xfrm>
            <a:off x="4076640" y="840096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1488" y="0"/>
                </a:moveTo>
                <a:lnTo>
                  <a:pt x="1248" y="18"/>
                </a:lnTo>
                <a:lnTo>
                  <a:pt x="1008" y="53"/>
                </a:lnTo>
                <a:lnTo>
                  <a:pt x="960" y="71"/>
                </a:lnTo>
                <a:lnTo>
                  <a:pt x="912" y="88"/>
                </a:lnTo>
                <a:lnTo>
                  <a:pt x="864" y="124"/>
                </a:lnTo>
                <a:lnTo>
                  <a:pt x="768" y="195"/>
                </a:lnTo>
                <a:lnTo>
                  <a:pt x="672" y="283"/>
                </a:lnTo>
                <a:lnTo>
                  <a:pt x="624" y="318"/>
                </a:lnTo>
                <a:lnTo>
                  <a:pt x="576" y="336"/>
                </a:lnTo>
                <a:lnTo>
                  <a:pt x="480" y="336"/>
                </a:lnTo>
                <a:lnTo>
                  <a:pt x="432" y="318"/>
                </a:lnTo>
                <a:lnTo>
                  <a:pt x="384" y="28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4540320" y="5969160"/>
            <a:ext cx="2044800" cy="425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1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9482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9483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4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5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6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9487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9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0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1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9492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4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6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9497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9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0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1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9502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6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9507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9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0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1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9512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3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4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5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6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9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9520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1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2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3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4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9525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6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8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9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0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9531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2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3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4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5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6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9537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8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9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0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1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2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4540320" y="2844720"/>
            <a:ext cx="250200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1714680" y="786780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0" y="336"/>
                </a:moveTo>
                <a:lnTo>
                  <a:pt x="240" y="318"/>
                </a:lnTo>
                <a:lnTo>
                  <a:pt x="480" y="283"/>
                </a:lnTo>
                <a:lnTo>
                  <a:pt x="528" y="265"/>
                </a:lnTo>
                <a:lnTo>
                  <a:pt x="576" y="248"/>
                </a:lnTo>
                <a:lnTo>
                  <a:pt x="624" y="212"/>
                </a:lnTo>
                <a:lnTo>
                  <a:pt x="720" y="141"/>
                </a:lnTo>
                <a:lnTo>
                  <a:pt x="816" y="53"/>
                </a:lnTo>
                <a:lnTo>
                  <a:pt x="864" y="18"/>
                </a:lnTo>
                <a:lnTo>
                  <a:pt x="912" y="0"/>
                </a:lnTo>
                <a:lnTo>
                  <a:pt x="1008" y="0"/>
                </a:lnTo>
                <a:lnTo>
                  <a:pt x="1056" y="18"/>
                </a:lnTo>
                <a:lnTo>
                  <a:pt x="1104" y="53"/>
                </a:lnTo>
                <a:lnTo>
                  <a:pt x="1488" y="336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6" name=""/>
          <p:cNvGrpSpPr/>
          <p:nvPr/>
        </p:nvGrpSpPr>
        <p:grpSpPr>
          <a:xfrm>
            <a:off x="338040" y="1305000"/>
            <a:ext cx="596880" cy="1298520"/>
            <a:chOff x="338040" y="1305000"/>
            <a:chExt cx="596880" cy="1298520"/>
          </a:xfrm>
        </p:grpSpPr>
        <p:grpSp>
          <p:nvGrpSpPr>
            <p:cNvPr id="9557" name=""/>
            <p:cNvGrpSpPr/>
            <p:nvPr/>
          </p:nvGrpSpPr>
          <p:grpSpPr>
            <a:xfrm>
              <a:off x="338040" y="1305000"/>
              <a:ext cx="596880" cy="695160"/>
              <a:chOff x="338040" y="1305000"/>
              <a:chExt cx="596880" cy="695160"/>
            </a:xfrm>
          </p:grpSpPr>
          <p:grpSp>
            <p:nvGrpSpPr>
              <p:cNvPr id="9558" name=""/>
              <p:cNvGrpSpPr/>
              <p:nvPr/>
            </p:nvGrpSpPr>
            <p:grpSpPr>
              <a:xfrm>
                <a:off x="338040" y="1305000"/>
                <a:ext cx="596880" cy="695160"/>
                <a:chOff x="338040" y="1305000"/>
                <a:chExt cx="596880" cy="695160"/>
              </a:xfrm>
            </p:grpSpPr>
            <p:sp>
              <p:nvSpPr>
                <p:cNvPr id="9559" name=""/>
                <p:cNvSpPr/>
                <p:nvPr/>
              </p:nvSpPr>
              <p:spPr>
                <a:xfrm>
                  <a:off x="338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0" name=""/>
                <p:cNvSpPr/>
                <p:nvPr/>
              </p:nvSpPr>
              <p:spPr>
                <a:xfrm>
                  <a:off x="546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1" name=""/>
              <p:cNvSpPr/>
              <p:nvPr/>
            </p:nvSpPr>
            <p:spPr>
              <a:xfrm>
                <a:off x="577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2" name=""/>
            <p:cNvGrpSpPr/>
            <p:nvPr/>
          </p:nvGrpSpPr>
          <p:grpSpPr>
            <a:xfrm>
              <a:off x="380880" y="2077920"/>
              <a:ext cx="352080" cy="525600"/>
              <a:chOff x="380880" y="2077920"/>
              <a:chExt cx="352080" cy="525600"/>
            </a:xfrm>
          </p:grpSpPr>
          <p:grpSp>
            <p:nvGrpSpPr>
              <p:cNvPr id="9563" name=""/>
              <p:cNvGrpSpPr/>
              <p:nvPr/>
            </p:nvGrpSpPr>
            <p:grpSpPr>
              <a:xfrm>
                <a:off x="606600" y="2455920"/>
                <a:ext cx="82440" cy="147600"/>
                <a:chOff x="606600" y="2455920"/>
                <a:chExt cx="82440" cy="147600"/>
              </a:xfrm>
            </p:grpSpPr>
            <p:sp>
              <p:nvSpPr>
                <p:cNvPr id="9564" name=""/>
                <p:cNvSpPr/>
                <p:nvPr/>
              </p:nvSpPr>
              <p:spPr>
                <a:xfrm>
                  <a:off x="606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5" name=""/>
                <p:cNvSpPr/>
                <p:nvPr/>
              </p:nvSpPr>
              <p:spPr>
                <a:xfrm>
                  <a:off x="606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6" name=""/>
              <p:cNvSpPr/>
              <p:nvPr/>
            </p:nvSpPr>
            <p:spPr>
              <a:xfrm>
                <a:off x="577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67" name=""/>
              <p:cNvGrpSpPr/>
              <p:nvPr/>
            </p:nvGrpSpPr>
            <p:grpSpPr>
              <a:xfrm>
                <a:off x="505440" y="2130480"/>
                <a:ext cx="227520" cy="135720"/>
                <a:chOff x="505440" y="2130480"/>
                <a:chExt cx="227520" cy="135720"/>
              </a:xfrm>
            </p:grpSpPr>
            <p:sp>
              <p:nvSpPr>
                <p:cNvPr id="9568" name=""/>
                <p:cNvSpPr/>
                <p:nvPr/>
              </p:nvSpPr>
              <p:spPr>
                <a:xfrm>
                  <a:off x="505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9" name=""/>
                <p:cNvSpPr/>
                <p:nvPr/>
              </p:nvSpPr>
              <p:spPr>
                <a:xfrm>
                  <a:off x="695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0" name=""/>
                <p:cNvSpPr/>
                <p:nvPr/>
              </p:nvSpPr>
              <p:spPr>
                <a:xfrm>
                  <a:off x="563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1" name=""/>
                <p:cNvSpPr/>
                <p:nvPr/>
              </p:nvSpPr>
              <p:spPr>
                <a:xfrm>
                  <a:off x="563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2" name=""/>
              <p:cNvGrpSpPr/>
              <p:nvPr/>
            </p:nvGrpSpPr>
            <p:grpSpPr>
              <a:xfrm>
                <a:off x="505080" y="2152800"/>
                <a:ext cx="227880" cy="139320"/>
                <a:chOff x="505080" y="2152800"/>
                <a:chExt cx="227880" cy="139320"/>
              </a:xfrm>
            </p:grpSpPr>
            <p:sp>
              <p:nvSpPr>
                <p:cNvPr id="9573" name=""/>
                <p:cNvSpPr/>
                <p:nvPr/>
              </p:nvSpPr>
              <p:spPr>
                <a:xfrm>
                  <a:off x="505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4" name=""/>
                <p:cNvSpPr/>
                <p:nvPr/>
              </p:nvSpPr>
              <p:spPr>
                <a:xfrm>
                  <a:off x="695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5" name=""/>
                <p:cNvSpPr/>
                <p:nvPr/>
              </p:nvSpPr>
              <p:spPr>
                <a:xfrm>
                  <a:off x="563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6" name=""/>
                <p:cNvSpPr/>
                <p:nvPr/>
              </p:nvSpPr>
              <p:spPr>
                <a:xfrm>
                  <a:off x="563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7" name=""/>
              <p:cNvGrpSpPr/>
              <p:nvPr/>
            </p:nvGrpSpPr>
            <p:grpSpPr>
              <a:xfrm>
                <a:off x="505080" y="2176560"/>
                <a:ext cx="227880" cy="139320"/>
                <a:chOff x="505080" y="2176560"/>
                <a:chExt cx="227880" cy="139320"/>
              </a:xfrm>
            </p:grpSpPr>
            <p:sp>
              <p:nvSpPr>
                <p:cNvPr id="9578" name=""/>
                <p:cNvSpPr/>
                <p:nvPr/>
              </p:nvSpPr>
              <p:spPr>
                <a:xfrm>
                  <a:off x="505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9" name=""/>
                <p:cNvSpPr/>
                <p:nvPr/>
              </p:nvSpPr>
              <p:spPr>
                <a:xfrm>
                  <a:off x="695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0" name=""/>
                <p:cNvSpPr/>
                <p:nvPr/>
              </p:nvSpPr>
              <p:spPr>
                <a:xfrm>
                  <a:off x="563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1" name=""/>
                <p:cNvSpPr/>
                <p:nvPr/>
              </p:nvSpPr>
              <p:spPr>
                <a:xfrm>
                  <a:off x="563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2" name=""/>
              <p:cNvGrpSpPr/>
              <p:nvPr/>
            </p:nvGrpSpPr>
            <p:grpSpPr>
              <a:xfrm>
                <a:off x="505440" y="2200320"/>
                <a:ext cx="227520" cy="135720"/>
                <a:chOff x="505440" y="2200320"/>
                <a:chExt cx="227520" cy="135720"/>
              </a:xfrm>
            </p:grpSpPr>
            <p:sp>
              <p:nvSpPr>
                <p:cNvPr id="9583" name=""/>
                <p:cNvSpPr/>
                <p:nvPr/>
              </p:nvSpPr>
              <p:spPr>
                <a:xfrm>
                  <a:off x="505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4" name=""/>
                <p:cNvSpPr/>
                <p:nvPr/>
              </p:nvSpPr>
              <p:spPr>
                <a:xfrm>
                  <a:off x="695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5" name=""/>
                <p:cNvSpPr/>
                <p:nvPr/>
              </p:nvSpPr>
              <p:spPr>
                <a:xfrm>
                  <a:off x="563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6" name=""/>
                <p:cNvSpPr/>
                <p:nvPr/>
              </p:nvSpPr>
              <p:spPr>
                <a:xfrm>
                  <a:off x="563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7" name=""/>
              <p:cNvGrpSpPr/>
              <p:nvPr/>
            </p:nvGrpSpPr>
            <p:grpSpPr>
              <a:xfrm>
                <a:off x="505440" y="2222640"/>
                <a:ext cx="227520" cy="135720"/>
                <a:chOff x="505440" y="2222640"/>
                <a:chExt cx="227520" cy="135720"/>
              </a:xfrm>
            </p:grpSpPr>
            <p:sp>
              <p:nvSpPr>
                <p:cNvPr id="9588" name=""/>
                <p:cNvSpPr/>
                <p:nvPr/>
              </p:nvSpPr>
              <p:spPr>
                <a:xfrm>
                  <a:off x="505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9" name=""/>
                <p:cNvSpPr/>
                <p:nvPr/>
              </p:nvSpPr>
              <p:spPr>
                <a:xfrm>
                  <a:off x="695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0" name=""/>
                <p:cNvSpPr/>
                <p:nvPr/>
              </p:nvSpPr>
              <p:spPr>
                <a:xfrm>
                  <a:off x="563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1" name=""/>
                <p:cNvSpPr/>
                <p:nvPr/>
              </p:nvSpPr>
              <p:spPr>
                <a:xfrm>
                  <a:off x="563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2" name=""/>
              <p:cNvGrpSpPr/>
              <p:nvPr/>
            </p:nvGrpSpPr>
            <p:grpSpPr>
              <a:xfrm>
                <a:off x="505080" y="2244600"/>
                <a:ext cx="227880" cy="139320"/>
                <a:chOff x="505080" y="2244600"/>
                <a:chExt cx="227880" cy="139320"/>
              </a:xfrm>
            </p:grpSpPr>
            <p:sp>
              <p:nvSpPr>
                <p:cNvPr id="9593" name=""/>
                <p:cNvSpPr/>
                <p:nvPr/>
              </p:nvSpPr>
              <p:spPr>
                <a:xfrm>
                  <a:off x="505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4" name=""/>
                <p:cNvSpPr/>
                <p:nvPr/>
              </p:nvSpPr>
              <p:spPr>
                <a:xfrm>
                  <a:off x="695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5" name=""/>
                <p:cNvSpPr/>
                <p:nvPr/>
              </p:nvSpPr>
              <p:spPr>
                <a:xfrm>
                  <a:off x="563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6" name=""/>
                <p:cNvSpPr/>
                <p:nvPr/>
              </p:nvSpPr>
              <p:spPr>
                <a:xfrm>
                  <a:off x="563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7" name=""/>
              <p:cNvSpPr/>
              <p:nvPr/>
            </p:nvSpPr>
            <p:spPr>
              <a:xfrm>
                <a:off x="505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8" name=""/>
              <p:cNvSpPr/>
              <p:nvPr/>
            </p:nvSpPr>
            <p:spPr>
              <a:xfrm>
                <a:off x="695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9" name=""/>
              <p:cNvSpPr/>
              <p:nvPr/>
            </p:nvSpPr>
            <p:spPr>
              <a:xfrm flipH="1">
                <a:off x="380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00" name=""/>
              <p:cNvGrpSpPr/>
              <p:nvPr/>
            </p:nvGrpSpPr>
            <p:grpSpPr>
              <a:xfrm>
                <a:off x="505080" y="2266920"/>
                <a:ext cx="227880" cy="139320"/>
                <a:chOff x="505080" y="2266920"/>
                <a:chExt cx="227880" cy="139320"/>
              </a:xfrm>
            </p:grpSpPr>
            <p:sp>
              <p:nvSpPr>
                <p:cNvPr id="9601" name=""/>
                <p:cNvSpPr/>
                <p:nvPr/>
              </p:nvSpPr>
              <p:spPr>
                <a:xfrm>
                  <a:off x="505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2" name=""/>
                <p:cNvSpPr/>
                <p:nvPr/>
              </p:nvSpPr>
              <p:spPr>
                <a:xfrm>
                  <a:off x="695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3" name=""/>
                <p:cNvSpPr/>
                <p:nvPr/>
              </p:nvSpPr>
              <p:spPr>
                <a:xfrm>
                  <a:off x="563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4" name=""/>
                <p:cNvSpPr/>
                <p:nvPr/>
              </p:nvSpPr>
              <p:spPr>
                <a:xfrm>
                  <a:off x="563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5" name=""/>
              <p:cNvGrpSpPr/>
              <p:nvPr/>
            </p:nvGrpSpPr>
            <p:grpSpPr>
              <a:xfrm>
                <a:off x="505440" y="2290680"/>
                <a:ext cx="227520" cy="136440"/>
                <a:chOff x="505440" y="2290680"/>
                <a:chExt cx="227520" cy="136440"/>
              </a:xfrm>
            </p:grpSpPr>
            <p:sp>
              <p:nvSpPr>
                <p:cNvPr id="9606" name=""/>
                <p:cNvSpPr/>
                <p:nvPr/>
              </p:nvSpPr>
              <p:spPr>
                <a:xfrm>
                  <a:off x="505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7" name=""/>
                <p:cNvSpPr/>
                <p:nvPr/>
              </p:nvSpPr>
              <p:spPr>
                <a:xfrm>
                  <a:off x="695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8" name=""/>
                <p:cNvSpPr/>
                <p:nvPr/>
              </p:nvSpPr>
              <p:spPr>
                <a:xfrm>
                  <a:off x="563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9" name=""/>
                <p:cNvSpPr/>
                <p:nvPr/>
              </p:nvSpPr>
              <p:spPr>
                <a:xfrm>
                  <a:off x="563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10" name=""/>
              <p:cNvSpPr/>
              <p:nvPr/>
            </p:nvSpPr>
            <p:spPr>
              <a:xfrm flipH="1">
                <a:off x="399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11" name=""/>
          <p:cNvSpPr/>
          <p:nvPr/>
        </p:nvSpPr>
        <p:spPr>
          <a:xfrm>
            <a:off x="3011400" y="619272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E à 1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2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3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4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5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6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17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9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0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9621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25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7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8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0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9631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9632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9633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4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35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6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9637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9638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9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40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41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9642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3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4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5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46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9647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8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9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0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1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9652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3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4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5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6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9657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8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9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0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1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9662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3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4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5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6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9667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8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9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0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1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2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3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74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9675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6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7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8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9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9680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1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2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3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84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85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6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9687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9688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9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0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1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9692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9693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4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5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6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9697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8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9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0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1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9702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3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4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5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6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9707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8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9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0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1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9712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3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4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5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6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9717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8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9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0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1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9722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3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4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5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6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9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9730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1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2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3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4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9735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6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7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8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9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0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9741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9742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3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4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5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9746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9747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8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9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0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9751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2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3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4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5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9756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7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8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9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0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9761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2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3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4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5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9766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8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9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0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9771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2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3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4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5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9776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7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8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0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1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2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3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9784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5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6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7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8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9789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0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3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4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9795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9796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7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8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9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9800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9801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2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3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4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9805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6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7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8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9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9810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3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4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9815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6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7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8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9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9820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2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3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4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9825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6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7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8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9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9830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1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2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3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4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6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7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9838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9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0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1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2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9843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4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5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6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47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8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9849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9850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1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2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3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9854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9855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6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7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8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9859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0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1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2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3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9864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5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6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8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9869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0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1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2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3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9874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5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7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8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9879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0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1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2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3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9884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5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6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7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88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9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0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1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9892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3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4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5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6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9897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8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9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1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2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9903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9904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5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6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7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9908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9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0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1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2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9913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4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5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6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7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9918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9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0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1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2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9923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4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5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6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7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9928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0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1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2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9933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4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5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6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7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8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9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0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9941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2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3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4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5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9946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7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8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9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0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1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9952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3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4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5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6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7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9958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9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0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1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2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3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4" name=""/>
          <p:cNvSpPr/>
          <p:nvPr/>
        </p:nvSpPr>
        <p:spPr>
          <a:xfrm>
            <a:off x="5530680" y="2844720"/>
            <a:ext cx="15116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5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6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7" name=""/>
          <p:cNvSpPr/>
          <p:nvPr/>
        </p:nvSpPr>
        <p:spPr>
          <a:xfrm>
            <a:off x="4076640" y="840096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1488" y="0"/>
                </a:moveTo>
                <a:lnTo>
                  <a:pt x="1248" y="18"/>
                </a:lnTo>
                <a:lnTo>
                  <a:pt x="1008" y="53"/>
                </a:lnTo>
                <a:lnTo>
                  <a:pt x="960" y="71"/>
                </a:lnTo>
                <a:lnTo>
                  <a:pt x="912" y="88"/>
                </a:lnTo>
                <a:lnTo>
                  <a:pt x="864" y="124"/>
                </a:lnTo>
                <a:lnTo>
                  <a:pt x="768" y="195"/>
                </a:lnTo>
                <a:lnTo>
                  <a:pt x="672" y="283"/>
                </a:lnTo>
                <a:lnTo>
                  <a:pt x="624" y="318"/>
                </a:lnTo>
                <a:lnTo>
                  <a:pt x="576" y="336"/>
                </a:lnTo>
                <a:lnTo>
                  <a:pt x="480" y="336"/>
                </a:lnTo>
                <a:lnTo>
                  <a:pt x="432" y="318"/>
                </a:lnTo>
                <a:lnTo>
                  <a:pt x="384" y="28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8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9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0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1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2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4" name=""/>
          <p:cNvSpPr/>
          <p:nvPr/>
        </p:nvSpPr>
        <p:spPr>
          <a:xfrm>
            <a:off x="5607000" y="5969160"/>
            <a:ext cx="978120" cy="387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5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6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7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8" name=""/>
          <p:cNvGrpSpPr/>
          <p:nvPr/>
        </p:nvGrpSpPr>
        <p:grpSpPr>
          <a:xfrm>
            <a:off x="260640" y="1208880"/>
            <a:ext cx="795960" cy="801720"/>
            <a:chOff x="260640" y="1208880"/>
            <a:chExt cx="795960" cy="801720"/>
          </a:xfrm>
        </p:grpSpPr>
        <p:grpSp>
          <p:nvGrpSpPr>
            <p:cNvPr id="9979" name=""/>
            <p:cNvGrpSpPr/>
            <p:nvPr/>
          </p:nvGrpSpPr>
          <p:grpSpPr>
            <a:xfrm>
              <a:off x="260640" y="1208880"/>
              <a:ext cx="795960" cy="801720"/>
              <a:chOff x="260640" y="1208880"/>
              <a:chExt cx="795960" cy="801720"/>
            </a:xfrm>
          </p:grpSpPr>
          <p:sp>
            <p:nvSpPr>
              <p:cNvPr id="9980" name=""/>
              <p:cNvSpPr/>
              <p:nvPr/>
            </p:nvSpPr>
            <p:spPr>
              <a:xfrm rot="1560000">
                <a:off x="360000" y="130968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1" name=""/>
              <p:cNvSpPr/>
              <p:nvPr/>
            </p:nvSpPr>
            <p:spPr>
              <a:xfrm rot="1560000">
                <a:off x="450360" y="172080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2" name=""/>
            <p:cNvSpPr/>
            <p:nvPr/>
          </p:nvSpPr>
          <p:spPr>
            <a:xfrm rot="1560000">
              <a:off x="591840" y="15541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3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9984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9985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6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7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8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9989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0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1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2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3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9994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5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6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7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8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9999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0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1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2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3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10004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5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6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7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8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10009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0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1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2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3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10014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5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6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7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8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0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1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10022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3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4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5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6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10027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8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9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0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1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2" name=""/>
          <p:cNvSpPr/>
          <p:nvPr/>
        </p:nvSpPr>
        <p:spPr>
          <a:xfrm>
            <a:off x="1714680" y="786780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0" y="336"/>
                </a:moveTo>
                <a:lnTo>
                  <a:pt x="240" y="318"/>
                </a:lnTo>
                <a:lnTo>
                  <a:pt x="480" y="283"/>
                </a:lnTo>
                <a:lnTo>
                  <a:pt x="528" y="265"/>
                </a:lnTo>
                <a:lnTo>
                  <a:pt x="576" y="248"/>
                </a:lnTo>
                <a:lnTo>
                  <a:pt x="624" y="212"/>
                </a:lnTo>
                <a:lnTo>
                  <a:pt x="720" y="141"/>
                </a:lnTo>
                <a:lnTo>
                  <a:pt x="816" y="53"/>
                </a:lnTo>
                <a:lnTo>
                  <a:pt x="864" y="18"/>
                </a:lnTo>
                <a:lnTo>
                  <a:pt x="912" y="0"/>
                </a:lnTo>
                <a:lnTo>
                  <a:pt x="1008" y="0"/>
                </a:lnTo>
                <a:lnTo>
                  <a:pt x="1056" y="18"/>
                </a:lnTo>
                <a:lnTo>
                  <a:pt x="1104" y="53"/>
                </a:lnTo>
                <a:lnTo>
                  <a:pt x="1488" y="336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>
            <a:off x="3011400" y="619272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E à 1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5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9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41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2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10043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4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5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6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47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49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0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1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2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10053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10054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10055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6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7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8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10059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10060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1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62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3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10064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5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6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7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8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10069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0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1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2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3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10074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5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6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7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8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10079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0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1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2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3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10084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5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6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7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8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10089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0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1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2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3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4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5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96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10097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8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9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0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1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10102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3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4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5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6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7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8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10109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10110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1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12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3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10114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10115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6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17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8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10119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0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1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2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3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10124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5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6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7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8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10129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0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1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2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3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10134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5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6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7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8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10139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0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1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2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3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10144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5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6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7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8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9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0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1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10152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6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10157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1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2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10163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10164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6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7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10168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10169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1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2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10173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7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10178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2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10183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6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7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10188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2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10193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7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10198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02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3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4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5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10206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0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10211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15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6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10217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10218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20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1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10222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10223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25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6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10227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1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10232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6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10237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1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10242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6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10247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1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10252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6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7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8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9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10260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4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10265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9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0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10271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10272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4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5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10276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10277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9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0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10281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5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10286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0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10291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5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10296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0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10301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5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10306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10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1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2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3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10314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8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10319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23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4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10325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10326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28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9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10330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4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10335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9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10340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4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10345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9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10350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1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4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10355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9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0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1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2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10363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7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10368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2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3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10374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5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6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7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8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9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10380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5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6" name=""/>
          <p:cNvSpPr/>
          <p:nvPr/>
        </p:nvSpPr>
        <p:spPr>
          <a:xfrm>
            <a:off x="5987880" y="2844720"/>
            <a:ext cx="10544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7" name=""/>
          <p:cNvSpPr/>
          <p:nvPr/>
        </p:nvSpPr>
        <p:spPr>
          <a:xfrm>
            <a:off x="1714680" y="786780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0" y="336"/>
                </a:moveTo>
                <a:lnTo>
                  <a:pt x="240" y="318"/>
                </a:lnTo>
                <a:lnTo>
                  <a:pt x="480" y="283"/>
                </a:lnTo>
                <a:lnTo>
                  <a:pt x="528" y="265"/>
                </a:lnTo>
                <a:lnTo>
                  <a:pt x="576" y="248"/>
                </a:lnTo>
                <a:lnTo>
                  <a:pt x="624" y="212"/>
                </a:lnTo>
                <a:lnTo>
                  <a:pt x="720" y="141"/>
                </a:lnTo>
                <a:lnTo>
                  <a:pt x="816" y="53"/>
                </a:lnTo>
                <a:lnTo>
                  <a:pt x="864" y="18"/>
                </a:lnTo>
                <a:lnTo>
                  <a:pt x="912" y="0"/>
                </a:lnTo>
                <a:lnTo>
                  <a:pt x="1008" y="0"/>
                </a:lnTo>
                <a:lnTo>
                  <a:pt x="1056" y="18"/>
                </a:lnTo>
                <a:lnTo>
                  <a:pt x="1104" y="53"/>
                </a:lnTo>
                <a:lnTo>
                  <a:pt x="1488" y="336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8" name=""/>
          <p:cNvSpPr/>
          <p:nvPr/>
        </p:nvSpPr>
        <p:spPr>
          <a:xfrm>
            <a:off x="4076640" y="840096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1488" y="0"/>
                </a:moveTo>
                <a:lnTo>
                  <a:pt x="1248" y="18"/>
                </a:lnTo>
                <a:lnTo>
                  <a:pt x="1008" y="53"/>
                </a:lnTo>
                <a:lnTo>
                  <a:pt x="960" y="71"/>
                </a:lnTo>
                <a:lnTo>
                  <a:pt x="912" y="88"/>
                </a:lnTo>
                <a:lnTo>
                  <a:pt x="864" y="124"/>
                </a:lnTo>
                <a:lnTo>
                  <a:pt x="768" y="195"/>
                </a:lnTo>
                <a:lnTo>
                  <a:pt x="672" y="283"/>
                </a:lnTo>
                <a:lnTo>
                  <a:pt x="624" y="318"/>
                </a:lnTo>
                <a:lnTo>
                  <a:pt x="576" y="336"/>
                </a:lnTo>
                <a:lnTo>
                  <a:pt x="480" y="336"/>
                </a:lnTo>
                <a:lnTo>
                  <a:pt x="432" y="318"/>
                </a:lnTo>
                <a:lnTo>
                  <a:pt x="384" y="28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9" name=""/>
          <p:cNvSpPr/>
          <p:nvPr/>
        </p:nvSpPr>
        <p:spPr>
          <a:xfrm>
            <a:off x="6064200" y="5969160"/>
            <a:ext cx="901800" cy="387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0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1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2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6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7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8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9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0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1" name=""/>
          <p:cNvGrpSpPr/>
          <p:nvPr/>
        </p:nvGrpSpPr>
        <p:grpSpPr>
          <a:xfrm>
            <a:off x="281520" y="1225800"/>
            <a:ext cx="790920" cy="780840"/>
            <a:chOff x="281520" y="1225800"/>
            <a:chExt cx="790920" cy="780840"/>
          </a:xfrm>
        </p:grpSpPr>
        <p:grpSp>
          <p:nvGrpSpPr>
            <p:cNvPr id="10402" name=""/>
            <p:cNvGrpSpPr/>
            <p:nvPr/>
          </p:nvGrpSpPr>
          <p:grpSpPr>
            <a:xfrm>
              <a:off x="281520" y="1225800"/>
              <a:ext cx="790920" cy="780840"/>
              <a:chOff x="281520" y="1225800"/>
              <a:chExt cx="790920" cy="780840"/>
            </a:xfrm>
          </p:grpSpPr>
          <p:sp>
            <p:nvSpPr>
              <p:cNvPr id="10403" name=""/>
              <p:cNvSpPr/>
              <p:nvPr/>
            </p:nvSpPr>
            <p:spPr>
              <a:xfrm rot="4020000">
                <a:off x="384480" y="1319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 rot="4020000">
                <a:off x="342360" y="159696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05" name=""/>
            <p:cNvSpPr/>
            <p:nvPr/>
          </p:nvSpPr>
          <p:spPr>
            <a:xfrm rot="4020000">
              <a:off x="603000" y="1562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6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10407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10408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9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0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1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10412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6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10417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1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10422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6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10427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1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10432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6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10437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1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2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3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44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10445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9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10450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4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5" name=""/>
          <p:cNvSpPr/>
          <p:nvPr/>
        </p:nvSpPr>
        <p:spPr>
          <a:xfrm>
            <a:off x="3011400" y="619272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E à 1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6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7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8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9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0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1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63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4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10465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6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7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8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69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71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2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3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4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10475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10476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10477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8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79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0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10481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10482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3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84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85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10486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7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8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9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0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10491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2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3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4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5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10496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7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8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9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0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10501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2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3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4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5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10506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7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8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9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0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10511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2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3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4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5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18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10519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0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1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2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3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10524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5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6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7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8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29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0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10531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10532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4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5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10536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10537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9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0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10541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5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10546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0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10551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2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5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10556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0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10561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5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10566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0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1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2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3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10574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8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10579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3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4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10585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10586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8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9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10590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10591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3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4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10595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9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10600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4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10605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9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10610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4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10615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9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10620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4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6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27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10628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2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10633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37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8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10639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10640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2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3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10644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10645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7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8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10649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3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10654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8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10659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3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10664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8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10669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3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10674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8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9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0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1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10682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6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10687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91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2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10693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10694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96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7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10698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10699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01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02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10703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7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10708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2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10713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7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10718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2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10723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7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10728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2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3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4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5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10736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0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10741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45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6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10747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10748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0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1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10752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6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10757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1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10762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6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10767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1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10772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6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10777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1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2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3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84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10785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9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10790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94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5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10796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7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8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9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0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1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10802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3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4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5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6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7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8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9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0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1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2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3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4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5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6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7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8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9" name=""/>
          <p:cNvGrpSpPr/>
          <p:nvPr/>
        </p:nvGrpSpPr>
        <p:grpSpPr>
          <a:xfrm>
            <a:off x="277560" y="1317240"/>
            <a:ext cx="708480" cy="617040"/>
            <a:chOff x="277560" y="1317240"/>
            <a:chExt cx="708480" cy="617040"/>
          </a:xfrm>
        </p:grpSpPr>
        <p:grpSp>
          <p:nvGrpSpPr>
            <p:cNvPr id="10820" name=""/>
            <p:cNvGrpSpPr/>
            <p:nvPr/>
          </p:nvGrpSpPr>
          <p:grpSpPr>
            <a:xfrm>
              <a:off x="277560" y="1317240"/>
              <a:ext cx="708480" cy="617040"/>
              <a:chOff x="277560" y="1317240"/>
              <a:chExt cx="708480" cy="617040"/>
            </a:xfrm>
          </p:grpSpPr>
          <p:sp>
            <p:nvSpPr>
              <p:cNvPr id="10821" name=""/>
              <p:cNvSpPr/>
              <p:nvPr/>
            </p:nvSpPr>
            <p:spPr>
              <a:xfrm rot="5520000">
                <a:off x="381240" y="132948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 rot="5520000">
                <a:off x="313920" y="149220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3" name=""/>
            <p:cNvSpPr/>
            <p:nvPr/>
          </p:nvSpPr>
          <p:spPr>
            <a:xfrm rot="5520000">
              <a:off x="591840" y="1564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4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10825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10826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8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9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10830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4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10835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9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10840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4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10845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9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10850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4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10855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59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1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2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10863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7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10868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2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3" name=""/>
          <p:cNvSpPr/>
          <p:nvPr/>
        </p:nvSpPr>
        <p:spPr>
          <a:xfrm>
            <a:off x="1714680" y="786780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0" y="336"/>
                </a:moveTo>
                <a:lnTo>
                  <a:pt x="240" y="318"/>
                </a:lnTo>
                <a:lnTo>
                  <a:pt x="480" y="283"/>
                </a:lnTo>
                <a:lnTo>
                  <a:pt x="528" y="265"/>
                </a:lnTo>
                <a:lnTo>
                  <a:pt x="576" y="248"/>
                </a:lnTo>
                <a:lnTo>
                  <a:pt x="624" y="212"/>
                </a:lnTo>
                <a:lnTo>
                  <a:pt x="720" y="141"/>
                </a:lnTo>
                <a:lnTo>
                  <a:pt x="816" y="53"/>
                </a:lnTo>
                <a:lnTo>
                  <a:pt x="864" y="18"/>
                </a:lnTo>
                <a:lnTo>
                  <a:pt x="912" y="0"/>
                </a:lnTo>
                <a:lnTo>
                  <a:pt x="1008" y="0"/>
                </a:lnTo>
                <a:lnTo>
                  <a:pt x="1056" y="18"/>
                </a:lnTo>
                <a:lnTo>
                  <a:pt x="1104" y="53"/>
                </a:lnTo>
                <a:lnTo>
                  <a:pt x="1488" y="336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4" name=""/>
          <p:cNvSpPr/>
          <p:nvPr/>
        </p:nvSpPr>
        <p:spPr>
          <a:xfrm>
            <a:off x="4076640" y="8400960"/>
            <a:ext cx="2363760" cy="534960"/>
          </a:xfrm>
          <a:custGeom>
            <a:avLst/>
            <a:gdLst/>
            <a:ahLst/>
            <a:rect l="l" t="t" r="r" b="b"/>
            <a:pathLst>
              <a:path w="1489" h="337">
                <a:moveTo>
                  <a:pt x="1488" y="0"/>
                </a:moveTo>
                <a:lnTo>
                  <a:pt x="1248" y="18"/>
                </a:lnTo>
                <a:lnTo>
                  <a:pt x="1008" y="53"/>
                </a:lnTo>
                <a:lnTo>
                  <a:pt x="960" y="71"/>
                </a:lnTo>
                <a:lnTo>
                  <a:pt x="912" y="88"/>
                </a:lnTo>
                <a:lnTo>
                  <a:pt x="864" y="124"/>
                </a:lnTo>
                <a:lnTo>
                  <a:pt x="768" y="195"/>
                </a:lnTo>
                <a:lnTo>
                  <a:pt x="672" y="283"/>
                </a:lnTo>
                <a:lnTo>
                  <a:pt x="624" y="318"/>
                </a:lnTo>
                <a:lnTo>
                  <a:pt x="576" y="336"/>
                </a:lnTo>
                <a:lnTo>
                  <a:pt x="480" y="336"/>
                </a:lnTo>
                <a:lnTo>
                  <a:pt x="432" y="318"/>
                </a:lnTo>
                <a:lnTo>
                  <a:pt x="384" y="28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5" name=""/>
          <p:cNvSpPr/>
          <p:nvPr/>
        </p:nvSpPr>
        <p:spPr>
          <a:xfrm>
            <a:off x="3011400" y="619272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E à 1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6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408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464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465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469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470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474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479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484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489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494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499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507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512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518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519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523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524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528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533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538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543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548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553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561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566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572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573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577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578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582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587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592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597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602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607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615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620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626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627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631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632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636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641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646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651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656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661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669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674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84040" y="1320840"/>
            <a:ext cx="695520" cy="598320"/>
            <a:chOff x="284040" y="1320840"/>
            <a:chExt cx="695520" cy="598320"/>
          </a:xfrm>
        </p:grpSpPr>
        <p:grpSp>
          <p:nvGrpSpPr>
            <p:cNvPr id="680" name=""/>
            <p:cNvGrpSpPr/>
            <p:nvPr/>
          </p:nvGrpSpPr>
          <p:grpSpPr>
            <a:xfrm>
              <a:off x="284040" y="1320840"/>
              <a:ext cx="695520" cy="598320"/>
              <a:chOff x="284040" y="1320840"/>
              <a:chExt cx="695520" cy="598320"/>
            </a:xfrm>
          </p:grpSpPr>
          <p:sp>
            <p:nvSpPr>
              <p:cNvPr id="681" name=""/>
              <p:cNvSpPr/>
              <p:nvPr/>
            </p:nvSpPr>
            <p:spPr>
              <a:xfrm>
                <a:off x="387360" y="1320840"/>
                <a:ext cx="592200" cy="59832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84040" y="1530360"/>
                <a:ext cx="26064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595440" y="1560600"/>
              <a:ext cx="14436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685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686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690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695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700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705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710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715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723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728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7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8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9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0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81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83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4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10885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6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7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8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89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91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2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3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4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5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6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7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8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9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0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1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2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3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4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5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6" name=""/>
          <p:cNvSpPr/>
          <p:nvPr/>
        </p:nvSpPr>
        <p:spPr>
          <a:xfrm>
            <a:off x="3011400" y="619272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E à 1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7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8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9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10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2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3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10914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5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6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7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18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20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1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2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3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10924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5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6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7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8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9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10930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1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2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4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5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6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7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8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9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0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1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2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3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4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5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6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7" name=""/>
          <p:cNvGrpSpPr/>
          <p:nvPr/>
        </p:nvGrpSpPr>
        <p:grpSpPr>
          <a:xfrm>
            <a:off x="1714680" y="7867800"/>
            <a:ext cx="4725720" cy="1068120"/>
            <a:chOff x="1714680" y="7867800"/>
            <a:chExt cx="4725720" cy="1068120"/>
          </a:xfrm>
        </p:grpSpPr>
        <p:sp>
          <p:nvSpPr>
            <p:cNvPr id="10948" name=""/>
            <p:cNvSpPr/>
            <p:nvPr/>
          </p:nvSpPr>
          <p:spPr>
            <a:xfrm>
              <a:off x="1714680" y="7867800"/>
              <a:ext cx="2363760" cy="534960"/>
            </a:xfrm>
            <a:custGeom>
              <a:avLst/>
              <a:gdLst/>
              <a:ahLst/>
              <a:rect l="l" t="t" r="r" b="b"/>
              <a:pathLst>
                <a:path w="1489" h="337">
                  <a:moveTo>
                    <a:pt x="0" y="336"/>
                  </a:moveTo>
                  <a:lnTo>
                    <a:pt x="240" y="318"/>
                  </a:lnTo>
                  <a:lnTo>
                    <a:pt x="480" y="283"/>
                  </a:lnTo>
                  <a:lnTo>
                    <a:pt x="528" y="265"/>
                  </a:lnTo>
                  <a:lnTo>
                    <a:pt x="576" y="248"/>
                  </a:lnTo>
                  <a:lnTo>
                    <a:pt x="624" y="212"/>
                  </a:lnTo>
                  <a:lnTo>
                    <a:pt x="720" y="141"/>
                  </a:lnTo>
                  <a:lnTo>
                    <a:pt x="816" y="53"/>
                  </a:lnTo>
                  <a:lnTo>
                    <a:pt x="864" y="18"/>
                  </a:lnTo>
                  <a:lnTo>
                    <a:pt x="912" y="0"/>
                  </a:lnTo>
                  <a:lnTo>
                    <a:pt x="1008" y="0"/>
                  </a:lnTo>
                  <a:lnTo>
                    <a:pt x="1056" y="18"/>
                  </a:lnTo>
                  <a:lnTo>
                    <a:pt x="1104" y="53"/>
                  </a:lnTo>
                  <a:lnTo>
                    <a:pt x="1488" y="336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9" name=""/>
            <p:cNvSpPr/>
            <p:nvPr/>
          </p:nvSpPr>
          <p:spPr>
            <a:xfrm>
              <a:off x="4076640" y="8400960"/>
              <a:ext cx="2363760" cy="534960"/>
            </a:xfrm>
            <a:custGeom>
              <a:avLst/>
              <a:gdLst/>
              <a:ahLst/>
              <a:rect l="l" t="t" r="r" b="b"/>
              <a:pathLst>
                <a:path w="1489" h="337">
                  <a:moveTo>
                    <a:pt x="1488" y="0"/>
                  </a:moveTo>
                  <a:lnTo>
                    <a:pt x="1248" y="18"/>
                  </a:lnTo>
                  <a:lnTo>
                    <a:pt x="1008" y="53"/>
                  </a:lnTo>
                  <a:lnTo>
                    <a:pt x="960" y="71"/>
                  </a:lnTo>
                  <a:lnTo>
                    <a:pt x="912" y="88"/>
                  </a:lnTo>
                  <a:lnTo>
                    <a:pt x="864" y="124"/>
                  </a:lnTo>
                  <a:lnTo>
                    <a:pt x="768" y="195"/>
                  </a:lnTo>
                  <a:lnTo>
                    <a:pt x="672" y="283"/>
                  </a:lnTo>
                  <a:lnTo>
                    <a:pt x="624" y="318"/>
                  </a:lnTo>
                  <a:lnTo>
                    <a:pt x="576" y="336"/>
                  </a:lnTo>
                  <a:lnTo>
                    <a:pt x="480" y="336"/>
                  </a:lnTo>
                  <a:lnTo>
                    <a:pt x="432" y="318"/>
                  </a:lnTo>
                  <a:lnTo>
                    <a:pt x="384" y="283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0" name=""/>
          <p:cNvSpPr/>
          <p:nvPr/>
        </p:nvSpPr>
        <p:spPr>
          <a:xfrm>
            <a:off x="3011400" y="619272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E à 1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1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2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3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54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56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7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10958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9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0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1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62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64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5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6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7" name=""/>
          <p:cNvSpPr/>
          <p:nvPr/>
        </p:nvSpPr>
        <p:spPr>
          <a:xfrm>
            <a:off x="4002120" y="10078920"/>
            <a:ext cx="3959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 varie de 0.5v à 20v car dt est fonction du rég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8" name=""/>
          <p:cNvSpPr/>
          <p:nvPr/>
        </p:nvSpPr>
        <p:spPr>
          <a:xfrm>
            <a:off x="3854520" y="10083960"/>
            <a:ext cx="3873600" cy="977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9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0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1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2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3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4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5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6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7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8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9" name=""/>
          <p:cNvSpPr/>
          <p:nvPr/>
        </p:nvSpPr>
        <p:spPr>
          <a:xfrm>
            <a:off x="3011400" y="543096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114ffb"/>
                </a:solidFill>
                <a:latin typeface="Times New Roman"/>
              </a:rPr>
              <a:t>E à 2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0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1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2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3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85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6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10987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8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9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0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91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93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4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5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6" name=""/>
          <p:cNvSpPr/>
          <p:nvPr/>
        </p:nvSpPr>
        <p:spPr>
          <a:xfrm>
            <a:off x="4002120" y="10078920"/>
            <a:ext cx="3959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 varie de 0.5v à 20v car dt est fonction du rég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7" name=""/>
          <p:cNvGrpSpPr/>
          <p:nvPr/>
        </p:nvGrpSpPr>
        <p:grpSpPr>
          <a:xfrm>
            <a:off x="724680" y="545400"/>
            <a:ext cx="4302720" cy="4228920"/>
            <a:chOff x="724680" y="545400"/>
            <a:chExt cx="4302720" cy="4228920"/>
          </a:xfrm>
        </p:grpSpPr>
        <p:grpSp>
          <p:nvGrpSpPr>
            <p:cNvPr id="10998" name=""/>
            <p:cNvGrpSpPr/>
            <p:nvPr/>
          </p:nvGrpSpPr>
          <p:grpSpPr>
            <a:xfrm>
              <a:off x="2515320" y="545400"/>
              <a:ext cx="2512080" cy="4228920"/>
              <a:chOff x="2515320" y="545400"/>
              <a:chExt cx="2512080" cy="4228920"/>
            </a:xfrm>
          </p:grpSpPr>
          <p:sp>
            <p:nvSpPr>
              <p:cNvPr id="10999" name=""/>
              <p:cNvSpPr/>
              <p:nvPr/>
            </p:nvSpPr>
            <p:spPr>
              <a:xfrm>
                <a:off x="3124080" y="545400"/>
                <a:ext cx="1903320" cy="422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2974320" y="2590920"/>
                <a:ext cx="222120" cy="149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2515320" y="3039120"/>
                <a:ext cx="684720" cy="90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5" y="0"/>
                    </a:moveTo>
                    <a:arcTo wR="10800" hR="10800" stAng="-5407958" swAng="54079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5" y="0"/>
                    </a:moveTo>
                    <a:arcTo wR="10800" hR="10800" stAng="-5407958" swAng="5407958"/>
                  </a:path>
                </a:pathLst>
              </a:custGeom>
              <a:noFill/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3085200" y="3188520"/>
                <a:ext cx="114840" cy="228240"/>
              </a:xfrm>
              <a:custGeom>
                <a:avLst/>
                <a:gdLst/>
                <a:ahLst/>
                <a:rect l="l" t="t" r="r" b="b"/>
                <a:pathLst>
                  <a:path w="145" h="145">
                    <a:moveTo>
                      <a:pt x="144" y="96"/>
                    </a:moveTo>
                    <a:lnTo>
                      <a:pt x="0" y="0"/>
                    </a:lnTo>
                    <a:lnTo>
                      <a:pt x="144" y="144"/>
                    </a:lnTo>
                    <a:lnTo>
                      <a:pt x="144" y="96"/>
                    </a:lnTo>
                  </a:path>
                </a:pathLst>
              </a:custGeom>
              <a:solidFill>
                <a:srgbClr val="037c03"/>
              </a:solidFill>
              <a:ln cap="rnd" w="1260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3161520" y="3339720"/>
                <a:ext cx="38520" cy="15228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48" y="48"/>
                    </a:moveTo>
                    <a:lnTo>
                      <a:pt x="48" y="48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48" y="48"/>
                    </a:lnTo>
                  </a:path>
                </a:pathLst>
              </a:custGeom>
              <a:solidFill>
                <a:srgbClr val="037c03"/>
              </a:solidFill>
              <a:ln cap="rnd" w="1260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4" name=""/>
            <p:cNvGrpSpPr/>
            <p:nvPr/>
          </p:nvGrpSpPr>
          <p:grpSpPr>
            <a:xfrm>
              <a:off x="724680" y="545400"/>
              <a:ext cx="2513160" cy="4228920"/>
              <a:chOff x="724680" y="545400"/>
              <a:chExt cx="2513160" cy="4228920"/>
            </a:xfrm>
          </p:grpSpPr>
          <p:sp>
            <p:nvSpPr>
              <p:cNvPr id="11005" name=""/>
              <p:cNvSpPr/>
              <p:nvPr/>
            </p:nvSpPr>
            <p:spPr>
              <a:xfrm>
                <a:off x="724680" y="545400"/>
                <a:ext cx="1903320" cy="422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2555280" y="2590920"/>
                <a:ext cx="222120" cy="149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2553120" y="3039120"/>
                <a:ext cx="684720" cy="90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20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2042"/>
                  </a:path>
                </a:pathLst>
              </a:custGeom>
              <a:noFill/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2552400" y="3188520"/>
                <a:ext cx="114840" cy="228240"/>
              </a:xfrm>
              <a:custGeom>
                <a:avLst/>
                <a:gdLst/>
                <a:ahLst/>
                <a:rect l="l" t="t" r="r" b="b"/>
                <a:pathLst>
                  <a:path w="145" h="145">
                    <a:moveTo>
                      <a:pt x="0" y="96"/>
                    </a:moveTo>
                    <a:lnTo>
                      <a:pt x="144" y="0"/>
                    </a:lnTo>
                    <a:lnTo>
                      <a:pt x="0" y="144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037c03"/>
              </a:solidFill>
              <a:ln cap="rnd" w="1260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2552400" y="3339720"/>
                <a:ext cx="38520" cy="15228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0" y="48"/>
                    </a:moveTo>
                    <a:lnTo>
                      <a:pt x="0" y="48"/>
                    </a:lnTo>
                    <a:lnTo>
                      <a:pt x="0" y="96"/>
                    </a:lnTo>
                    <a:lnTo>
                      <a:pt x="48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37c03"/>
              </a:solidFill>
              <a:ln cap="rnd" w="1260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0" name=""/>
          <p:cNvSpPr/>
          <p:nvPr/>
        </p:nvSpPr>
        <p:spPr>
          <a:xfrm>
            <a:off x="3854520" y="10083960"/>
            <a:ext cx="3873600" cy="977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1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2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3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4" name=""/>
          <p:cNvSpPr/>
          <p:nvPr/>
        </p:nvSpPr>
        <p:spPr>
          <a:xfrm>
            <a:off x="1676520" y="838188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5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6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7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8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9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0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1" name=""/>
          <p:cNvSpPr/>
          <p:nvPr/>
        </p:nvSpPr>
        <p:spPr>
          <a:xfrm>
            <a:off x="3011400" y="543096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114ffb"/>
                </a:solidFill>
                <a:latin typeface="Times New Roman"/>
              </a:rPr>
              <a:t>E à 2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2" name=""/>
          <p:cNvGrpSpPr/>
          <p:nvPr/>
        </p:nvGrpSpPr>
        <p:grpSpPr>
          <a:xfrm>
            <a:off x="1714680" y="6934320"/>
            <a:ext cx="4724280" cy="2916000"/>
            <a:chOff x="1714680" y="6934320"/>
            <a:chExt cx="4724280" cy="2916000"/>
          </a:xfrm>
        </p:grpSpPr>
        <p:grpSp>
          <p:nvGrpSpPr>
            <p:cNvPr id="11023" name=""/>
            <p:cNvGrpSpPr/>
            <p:nvPr/>
          </p:nvGrpSpPr>
          <p:grpSpPr>
            <a:xfrm>
              <a:off x="1714680" y="6953400"/>
              <a:ext cx="2323440" cy="2896920"/>
              <a:chOff x="1714680" y="6953400"/>
              <a:chExt cx="2323440" cy="2896920"/>
            </a:xfrm>
          </p:grpSpPr>
          <p:sp>
            <p:nvSpPr>
              <p:cNvPr id="11024" name=""/>
              <p:cNvSpPr/>
              <p:nvPr/>
            </p:nvSpPr>
            <p:spPr>
              <a:xfrm>
                <a:off x="1714680" y="6953400"/>
                <a:ext cx="1162080" cy="1449360"/>
              </a:xfrm>
              <a:custGeom>
                <a:avLst/>
                <a:gdLst/>
                <a:ahLst/>
                <a:rect l="l" t="t" r="r" b="b"/>
                <a:pathLst>
                  <a:path w="1489" h="913">
                    <a:moveTo>
                      <a:pt x="0" y="912"/>
                    </a:moveTo>
                    <a:lnTo>
                      <a:pt x="240" y="864"/>
                    </a:lnTo>
                    <a:lnTo>
                      <a:pt x="480" y="768"/>
                    </a:lnTo>
                    <a:lnTo>
                      <a:pt x="528" y="720"/>
                    </a:lnTo>
                    <a:lnTo>
                      <a:pt x="576" y="672"/>
                    </a:lnTo>
                    <a:lnTo>
                      <a:pt x="624" y="576"/>
                    </a:lnTo>
                    <a:lnTo>
                      <a:pt x="720" y="384"/>
                    </a:lnTo>
                    <a:lnTo>
                      <a:pt x="816" y="144"/>
                    </a:lnTo>
                    <a:lnTo>
                      <a:pt x="864" y="48"/>
                    </a:lnTo>
                    <a:lnTo>
                      <a:pt x="912" y="0"/>
                    </a:lnTo>
                    <a:lnTo>
                      <a:pt x="1008" y="0"/>
                    </a:lnTo>
                    <a:lnTo>
                      <a:pt x="1056" y="48"/>
                    </a:lnTo>
                    <a:lnTo>
                      <a:pt x="1104" y="144"/>
                    </a:lnTo>
                    <a:lnTo>
                      <a:pt x="1488" y="912"/>
                    </a:lnTo>
                  </a:path>
                </a:pathLst>
              </a:custGeom>
              <a:noFill/>
              <a:ln cap="rnd" w="5076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2876040" y="8400960"/>
                <a:ext cx="1162080" cy="1449360"/>
              </a:xfrm>
              <a:custGeom>
                <a:avLst/>
                <a:gdLst/>
                <a:ahLst/>
                <a:rect l="l" t="t" r="r" b="b"/>
                <a:pathLst>
                  <a:path w="1489" h="913">
                    <a:moveTo>
                      <a:pt x="1488" y="0"/>
                    </a:moveTo>
                    <a:lnTo>
                      <a:pt x="1248" y="48"/>
                    </a:lnTo>
                    <a:lnTo>
                      <a:pt x="1008" y="144"/>
                    </a:lnTo>
                    <a:lnTo>
                      <a:pt x="960" y="192"/>
                    </a:lnTo>
                    <a:lnTo>
                      <a:pt x="912" y="240"/>
                    </a:lnTo>
                    <a:lnTo>
                      <a:pt x="864" y="336"/>
                    </a:lnTo>
                    <a:lnTo>
                      <a:pt x="768" y="528"/>
                    </a:lnTo>
                    <a:lnTo>
                      <a:pt x="672" y="768"/>
                    </a:lnTo>
                    <a:lnTo>
                      <a:pt x="624" y="864"/>
                    </a:lnTo>
                    <a:lnTo>
                      <a:pt x="576" y="912"/>
                    </a:lnTo>
                    <a:lnTo>
                      <a:pt x="480" y="912"/>
                    </a:lnTo>
                    <a:lnTo>
                      <a:pt x="432" y="864"/>
                    </a:lnTo>
                    <a:lnTo>
                      <a:pt x="384" y="76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6" name=""/>
            <p:cNvGrpSpPr/>
            <p:nvPr/>
          </p:nvGrpSpPr>
          <p:grpSpPr>
            <a:xfrm>
              <a:off x="4114800" y="6934320"/>
              <a:ext cx="2324160" cy="2896920"/>
              <a:chOff x="4114800" y="6934320"/>
              <a:chExt cx="2324160" cy="2896920"/>
            </a:xfrm>
          </p:grpSpPr>
          <p:sp>
            <p:nvSpPr>
              <p:cNvPr id="11027" name=""/>
              <p:cNvSpPr/>
              <p:nvPr/>
            </p:nvSpPr>
            <p:spPr>
              <a:xfrm>
                <a:off x="4114800" y="6934320"/>
                <a:ext cx="1162440" cy="1449360"/>
              </a:xfrm>
              <a:custGeom>
                <a:avLst/>
                <a:gdLst/>
                <a:ahLst/>
                <a:rect l="l" t="t" r="r" b="b"/>
                <a:pathLst>
                  <a:path w="1489" h="913">
                    <a:moveTo>
                      <a:pt x="0" y="912"/>
                    </a:moveTo>
                    <a:lnTo>
                      <a:pt x="240" y="864"/>
                    </a:lnTo>
                    <a:lnTo>
                      <a:pt x="480" y="768"/>
                    </a:lnTo>
                    <a:lnTo>
                      <a:pt x="528" y="720"/>
                    </a:lnTo>
                    <a:lnTo>
                      <a:pt x="576" y="672"/>
                    </a:lnTo>
                    <a:lnTo>
                      <a:pt x="624" y="576"/>
                    </a:lnTo>
                    <a:lnTo>
                      <a:pt x="720" y="384"/>
                    </a:lnTo>
                    <a:lnTo>
                      <a:pt x="816" y="144"/>
                    </a:lnTo>
                    <a:lnTo>
                      <a:pt x="864" y="48"/>
                    </a:lnTo>
                    <a:lnTo>
                      <a:pt x="912" y="0"/>
                    </a:lnTo>
                    <a:lnTo>
                      <a:pt x="1008" y="0"/>
                    </a:lnTo>
                    <a:lnTo>
                      <a:pt x="1056" y="48"/>
                    </a:lnTo>
                    <a:lnTo>
                      <a:pt x="1104" y="144"/>
                    </a:lnTo>
                    <a:lnTo>
                      <a:pt x="1488" y="912"/>
                    </a:lnTo>
                  </a:path>
                </a:pathLst>
              </a:custGeom>
              <a:noFill/>
              <a:ln cap="rnd" w="5076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5276520" y="8381880"/>
                <a:ext cx="1162440" cy="1449360"/>
              </a:xfrm>
              <a:custGeom>
                <a:avLst/>
                <a:gdLst/>
                <a:ahLst/>
                <a:rect l="l" t="t" r="r" b="b"/>
                <a:pathLst>
                  <a:path w="1489" h="913">
                    <a:moveTo>
                      <a:pt x="1488" y="0"/>
                    </a:moveTo>
                    <a:lnTo>
                      <a:pt x="1248" y="48"/>
                    </a:lnTo>
                    <a:lnTo>
                      <a:pt x="1008" y="144"/>
                    </a:lnTo>
                    <a:lnTo>
                      <a:pt x="960" y="192"/>
                    </a:lnTo>
                    <a:lnTo>
                      <a:pt x="912" y="240"/>
                    </a:lnTo>
                    <a:lnTo>
                      <a:pt x="864" y="336"/>
                    </a:lnTo>
                    <a:lnTo>
                      <a:pt x="768" y="528"/>
                    </a:lnTo>
                    <a:lnTo>
                      <a:pt x="672" y="768"/>
                    </a:lnTo>
                    <a:lnTo>
                      <a:pt x="624" y="864"/>
                    </a:lnTo>
                    <a:lnTo>
                      <a:pt x="576" y="912"/>
                    </a:lnTo>
                    <a:lnTo>
                      <a:pt x="480" y="912"/>
                    </a:lnTo>
                    <a:lnTo>
                      <a:pt x="432" y="864"/>
                    </a:lnTo>
                    <a:lnTo>
                      <a:pt x="384" y="76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29" name=""/>
          <p:cNvGrpSpPr/>
          <p:nvPr/>
        </p:nvGrpSpPr>
        <p:grpSpPr>
          <a:xfrm>
            <a:off x="3086640" y="545400"/>
            <a:ext cx="4303800" cy="4228920"/>
            <a:chOff x="3086640" y="545400"/>
            <a:chExt cx="4303800" cy="4228920"/>
          </a:xfrm>
        </p:grpSpPr>
        <p:grpSp>
          <p:nvGrpSpPr>
            <p:cNvPr id="11030" name=""/>
            <p:cNvGrpSpPr/>
            <p:nvPr/>
          </p:nvGrpSpPr>
          <p:grpSpPr>
            <a:xfrm>
              <a:off x="4877640" y="545400"/>
              <a:ext cx="2512800" cy="4228920"/>
              <a:chOff x="4877640" y="545400"/>
              <a:chExt cx="2512800" cy="4228920"/>
            </a:xfrm>
          </p:grpSpPr>
          <p:sp>
            <p:nvSpPr>
              <p:cNvPr id="11031" name=""/>
              <p:cNvSpPr/>
              <p:nvPr/>
            </p:nvSpPr>
            <p:spPr>
              <a:xfrm>
                <a:off x="5486400" y="545400"/>
                <a:ext cx="1904040" cy="422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5336640" y="2590920"/>
                <a:ext cx="222120" cy="149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4877640" y="3039120"/>
                <a:ext cx="684720" cy="90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5" y="0"/>
                    </a:moveTo>
                    <a:arcTo wR="10800" hR="10800" stAng="-5407958" swAng="54079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5" y="0"/>
                    </a:moveTo>
                    <a:arcTo wR="10800" hR="10800" stAng="-5407958" swAng="5407958"/>
                  </a:path>
                </a:pathLst>
              </a:custGeom>
              <a:noFill/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5447520" y="3188520"/>
                <a:ext cx="114840" cy="228240"/>
              </a:xfrm>
              <a:custGeom>
                <a:avLst/>
                <a:gdLst/>
                <a:ahLst/>
                <a:rect l="l" t="t" r="r" b="b"/>
                <a:pathLst>
                  <a:path w="145" h="145">
                    <a:moveTo>
                      <a:pt x="144" y="96"/>
                    </a:moveTo>
                    <a:lnTo>
                      <a:pt x="0" y="0"/>
                    </a:lnTo>
                    <a:lnTo>
                      <a:pt x="144" y="144"/>
                    </a:lnTo>
                    <a:lnTo>
                      <a:pt x="144" y="96"/>
                    </a:lnTo>
                  </a:path>
                </a:pathLst>
              </a:custGeom>
              <a:solidFill>
                <a:srgbClr val="037c03"/>
              </a:solidFill>
              <a:ln cap="rnd" w="1260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5523840" y="3339720"/>
                <a:ext cx="38520" cy="15228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48" y="48"/>
                    </a:moveTo>
                    <a:lnTo>
                      <a:pt x="48" y="48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48" y="48"/>
                    </a:lnTo>
                  </a:path>
                </a:pathLst>
              </a:custGeom>
              <a:solidFill>
                <a:srgbClr val="037c03"/>
              </a:solidFill>
              <a:ln cap="rnd" w="1260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6" name=""/>
            <p:cNvGrpSpPr/>
            <p:nvPr/>
          </p:nvGrpSpPr>
          <p:grpSpPr>
            <a:xfrm>
              <a:off x="3086640" y="545400"/>
              <a:ext cx="2513160" cy="4228920"/>
              <a:chOff x="3086640" y="545400"/>
              <a:chExt cx="2513160" cy="4228920"/>
            </a:xfrm>
          </p:grpSpPr>
          <p:sp>
            <p:nvSpPr>
              <p:cNvPr id="11037" name=""/>
              <p:cNvSpPr/>
              <p:nvPr/>
            </p:nvSpPr>
            <p:spPr>
              <a:xfrm>
                <a:off x="3086640" y="545400"/>
                <a:ext cx="1903320" cy="422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4917240" y="2590920"/>
                <a:ext cx="222120" cy="149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4915080" y="3039120"/>
                <a:ext cx="684720" cy="90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20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2042"/>
                  </a:path>
                </a:pathLst>
              </a:custGeom>
              <a:noFill/>
              <a:ln cap="rnd"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4914360" y="3188520"/>
                <a:ext cx="114840" cy="228240"/>
              </a:xfrm>
              <a:custGeom>
                <a:avLst/>
                <a:gdLst/>
                <a:ahLst/>
                <a:rect l="l" t="t" r="r" b="b"/>
                <a:pathLst>
                  <a:path w="145" h="145">
                    <a:moveTo>
                      <a:pt x="0" y="96"/>
                    </a:moveTo>
                    <a:lnTo>
                      <a:pt x="144" y="0"/>
                    </a:lnTo>
                    <a:lnTo>
                      <a:pt x="0" y="144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037c03"/>
              </a:solidFill>
              <a:ln cap="rnd" w="1260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4914360" y="3339720"/>
                <a:ext cx="38520" cy="15228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0" y="48"/>
                    </a:moveTo>
                    <a:lnTo>
                      <a:pt x="0" y="48"/>
                    </a:lnTo>
                    <a:lnTo>
                      <a:pt x="0" y="96"/>
                    </a:lnTo>
                    <a:lnTo>
                      <a:pt x="48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37c03"/>
              </a:solidFill>
              <a:ln cap="rnd" w="1260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advTm="3000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2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3" name=""/>
          <p:cNvSpPr/>
          <p:nvPr/>
        </p:nvSpPr>
        <p:spPr>
          <a:xfrm>
            <a:off x="6683400" y="629748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4" name=""/>
          <p:cNvSpPr/>
          <p:nvPr/>
        </p:nvSpPr>
        <p:spPr>
          <a:xfrm>
            <a:off x="966600" y="470520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5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11046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7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8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9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50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52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3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4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5" name=""/>
          <p:cNvSpPr/>
          <p:nvPr/>
        </p:nvSpPr>
        <p:spPr>
          <a:xfrm>
            <a:off x="4002120" y="10078920"/>
            <a:ext cx="3959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 varie de 0.5v à 20v car dt est fonction du rég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6" name=""/>
          <p:cNvSpPr/>
          <p:nvPr/>
        </p:nvSpPr>
        <p:spPr>
          <a:xfrm>
            <a:off x="3854520" y="10083960"/>
            <a:ext cx="3873600" cy="977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7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8" name=""/>
          <p:cNvSpPr/>
          <p:nvPr/>
        </p:nvSpPr>
        <p:spPr>
          <a:xfrm flipH="1">
            <a:off x="1655640" y="3092400"/>
            <a:ext cx="7920" cy="648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9" name=""/>
          <p:cNvSpPr/>
          <p:nvPr/>
        </p:nvSpPr>
        <p:spPr>
          <a:xfrm>
            <a:off x="1689120" y="634212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0" name=""/>
          <p:cNvSpPr/>
          <p:nvPr/>
        </p:nvSpPr>
        <p:spPr>
          <a:xfrm>
            <a:off x="4017960" y="314964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1" name=""/>
          <p:cNvSpPr/>
          <p:nvPr/>
        </p:nvSpPr>
        <p:spPr>
          <a:xfrm>
            <a:off x="6380280" y="314964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2" name=""/>
          <p:cNvSpPr/>
          <p:nvPr/>
        </p:nvSpPr>
        <p:spPr>
          <a:xfrm>
            <a:off x="1579680" y="2935440"/>
            <a:ext cx="14580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3" name=""/>
          <p:cNvSpPr/>
          <p:nvPr/>
        </p:nvSpPr>
        <p:spPr>
          <a:xfrm>
            <a:off x="6605280" y="64738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4" name=""/>
          <p:cNvSpPr/>
          <p:nvPr/>
        </p:nvSpPr>
        <p:spPr>
          <a:xfrm>
            <a:off x="1863720" y="244152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ae00"/>
                </a:solidFill>
                <a:latin typeface="Times New Roman"/>
              </a:rPr>
              <a:t>E à 4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5" name=""/>
          <p:cNvGrpSpPr/>
          <p:nvPr/>
        </p:nvGrpSpPr>
        <p:grpSpPr>
          <a:xfrm>
            <a:off x="1690560" y="3846600"/>
            <a:ext cx="4671360" cy="5108040"/>
            <a:chOff x="1690560" y="3846600"/>
            <a:chExt cx="4671360" cy="5108040"/>
          </a:xfrm>
        </p:grpSpPr>
        <p:grpSp>
          <p:nvGrpSpPr>
            <p:cNvPr id="11066" name=""/>
            <p:cNvGrpSpPr/>
            <p:nvPr/>
          </p:nvGrpSpPr>
          <p:grpSpPr>
            <a:xfrm>
              <a:off x="1690560" y="3846600"/>
              <a:ext cx="2352600" cy="5078160"/>
              <a:chOff x="1690560" y="3846600"/>
              <a:chExt cx="2352600" cy="5078160"/>
            </a:xfrm>
          </p:grpSpPr>
          <p:grpSp>
            <p:nvGrpSpPr>
              <p:cNvPr id="11067" name=""/>
              <p:cNvGrpSpPr/>
              <p:nvPr/>
            </p:nvGrpSpPr>
            <p:grpSpPr>
              <a:xfrm>
                <a:off x="1690560" y="3879720"/>
                <a:ext cx="1157400" cy="5045040"/>
                <a:chOff x="1690560" y="3879720"/>
                <a:chExt cx="1157400" cy="5045040"/>
              </a:xfrm>
            </p:grpSpPr>
            <p:sp>
              <p:nvSpPr>
                <p:cNvPr id="11068" name=""/>
                <p:cNvSpPr/>
                <p:nvPr/>
              </p:nvSpPr>
              <p:spPr>
                <a:xfrm>
                  <a:off x="1690560" y="3879720"/>
                  <a:ext cx="578880" cy="252396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0" y="912"/>
                      </a:moveTo>
                      <a:lnTo>
                        <a:pt x="240" y="864"/>
                      </a:lnTo>
                      <a:lnTo>
                        <a:pt x="480" y="768"/>
                      </a:lnTo>
                      <a:lnTo>
                        <a:pt x="528" y="720"/>
                      </a:lnTo>
                      <a:lnTo>
                        <a:pt x="576" y="672"/>
                      </a:lnTo>
                      <a:lnTo>
                        <a:pt x="624" y="576"/>
                      </a:lnTo>
                      <a:lnTo>
                        <a:pt x="720" y="384"/>
                      </a:lnTo>
                      <a:lnTo>
                        <a:pt x="816" y="144"/>
                      </a:lnTo>
                      <a:lnTo>
                        <a:pt x="864" y="48"/>
                      </a:lnTo>
                      <a:lnTo>
                        <a:pt x="912" y="0"/>
                      </a:lnTo>
                      <a:lnTo>
                        <a:pt x="1008" y="0"/>
                      </a:lnTo>
                      <a:lnTo>
                        <a:pt x="1056" y="48"/>
                      </a:lnTo>
                      <a:lnTo>
                        <a:pt x="1104" y="144"/>
                      </a:lnTo>
                      <a:lnTo>
                        <a:pt x="1488" y="912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9" name=""/>
                <p:cNvSpPr/>
                <p:nvPr/>
              </p:nvSpPr>
              <p:spPr>
                <a:xfrm>
                  <a:off x="2269080" y="6400800"/>
                  <a:ext cx="578880" cy="252396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1488" y="0"/>
                      </a:moveTo>
                      <a:lnTo>
                        <a:pt x="1248" y="48"/>
                      </a:lnTo>
                      <a:lnTo>
                        <a:pt x="1008" y="144"/>
                      </a:lnTo>
                      <a:lnTo>
                        <a:pt x="960" y="192"/>
                      </a:lnTo>
                      <a:lnTo>
                        <a:pt x="912" y="240"/>
                      </a:lnTo>
                      <a:lnTo>
                        <a:pt x="864" y="336"/>
                      </a:lnTo>
                      <a:lnTo>
                        <a:pt x="768" y="528"/>
                      </a:lnTo>
                      <a:lnTo>
                        <a:pt x="672" y="768"/>
                      </a:lnTo>
                      <a:lnTo>
                        <a:pt x="624" y="864"/>
                      </a:lnTo>
                      <a:lnTo>
                        <a:pt x="576" y="912"/>
                      </a:lnTo>
                      <a:lnTo>
                        <a:pt x="480" y="912"/>
                      </a:lnTo>
                      <a:lnTo>
                        <a:pt x="432" y="864"/>
                      </a:lnTo>
                      <a:lnTo>
                        <a:pt x="384" y="7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0" name=""/>
              <p:cNvGrpSpPr/>
              <p:nvPr/>
            </p:nvGrpSpPr>
            <p:grpSpPr>
              <a:xfrm>
                <a:off x="2885760" y="3846600"/>
                <a:ext cx="1157400" cy="5045040"/>
                <a:chOff x="2885760" y="3846600"/>
                <a:chExt cx="1157400" cy="5045040"/>
              </a:xfrm>
            </p:grpSpPr>
            <p:sp>
              <p:nvSpPr>
                <p:cNvPr id="11071" name=""/>
                <p:cNvSpPr/>
                <p:nvPr/>
              </p:nvSpPr>
              <p:spPr>
                <a:xfrm>
                  <a:off x="2885760" y="3846600"/>
                  <a:ext cx="578880" cy="252396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0" y="912"/>
                      </a:moveTo>
                      <a:lnTo>
                        <a:pt x="240" y="864"/>
                      </a:lnTo>
                      <a:lnTo>
                        <a:pt x="480" y="768"/>
                      </a:lnTo>
                      <a:lnTo>
                        <a:pt x="528" y="720"/>
                      </a:lnTo>
                      <a:lnTo>
                        <a:pt x="576" y="672"/>
                      </a:lnTo>
                      <a:lnTo>
                        <a:pt x="624" y="576"/>
                      </a:lnTo>
                      <a:lnTo>
                        <a:pt x="720" y="384"/>
                      </a:lnTo>
                      <a:lnTo>
                        <a:pt x="816" y="144"/>
                      </a:lnTo>
                      <a:lnTo>
                        <a:pt x="864" y="48"/>
                      </a:lnTo>
                      <a:lnTo>
                        <a:pt x="912" y="0"/>
                      </a:lnTo>
                      <a:lnTo>
                        <a:pt x="1008" y="0"/>
                      </a:lnTo>
                      <a:lnTo>
                        <a:pt x="1056" y="48"/>
                      </a:lnTo>
                      <a:lnTo>
                        <a:pt x="1104" y="144"/>
                      </a:lnTo>
                      <a:lnTo>
                        <a:pt x="1488" y="912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2" name=""/>
                <p:cNvSpPr/>
                <p:nvPr/>
              </p:nvSpPr>
              <p:spPr>
                <a:xfrm>
                  <a:off x="3464280" y="6367680"/>
                  <a:ext cx="578880" cy="252396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1488" y="0"/>
                      </a:moveTo>
                      <a:lnTo>
                        <a:pt x="1248" y="48"/>
                      </a:lnTo>
                      <a:lnTo>
                        <a:pt x="1008" y="144"/>
                      </a:lnTo>
                      <a:lnTo>
                        <a:pt x="960" y="192"/>
                      </a:lnTo>
                      <a:lnTo>
                        <a:pt x="912" y="240"/>
                      </a:lnTo>
                      <a:lnTo>
                        <a:pt x="864" y="336"/>
                      </a:lnTo>
                      <a:lnTo>
                        <a:pt x="768" y="528"/>
                      </a:lnTo>
                      <a:lnTo>
                        <a:pt x="672" y="768"/>
                      </a:lnTo>
                      <a:lnTo>
                        <a:pt x="624" y="864"/>
                      </a:lnTo>
                      <a:lnTo>
                        <a:pt x="576" y="912"/>
                      </a:lnTo>
                      <a:lnTo>
                        <a:pt x="480" y="912"/>
                      </a:lnTo>
                      <a:lnTo>
                        <a:pt x="432" y="864"/>
                      </a:lnTo>
                      <a:lnTo>
                        <a:pt x="384" y="7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73" name=""/>
            <p:cNvGrpSpPr/>
            <p:nvPr/>
          </p:nvGrpSpPr>
          <p:grpSpPr>
            <a:xfrm>
              <a:off x="3979800" y="3877200"/>
              <a:ext cx="2382120" cy="5077440"/>
              <a:chOff x="3979800" y="3877200"/>
              <a:chExt cx="2382120" cy="5077440"/>
            </a:xfrm>
          </p:grpSpPr>
          <p:grpSp>
            <p:nvGrpSpPr>
              <p:cNvPr id="11074" name=""/>
              <p:cNvGrpSpPr/>
              <p:nvPr/>
            </p:nvGrpSpPr>
            <p:grpSpPr>
              <a:xfrm>
                <a:off x="3979800" y="3910320"/>
                <a:ext cx="1171800" cy="5044320"/>
                <a:chOff x="3979800" y="3910320"/>
                <a:chExt cx="1171800" cy="5044320"/>
              </a:xfrm>
            </p:grpSpPr>
            <p:sp>
              <p:nvSpPr>
                <p:cNvPr id="11075" name=""/>
                <p:cNvSpPr/>
                <p:nvPr/>
              </p:nvSpPr>
              <p:spPr>
                <a:xfrm>
                  <a:off x="3979800" y="3910320"/>
                  <a:ext cx="586080" cy="252360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0" y="912"/>
                      </a:moveTo>
                      <a:lnTo>
                        <a:pt x="240" y="864"/>
                      </a:lnTo>
                      <a:lnTo>
                        <a:pt x="480" y="768"/>
                      </a:lnTo>
                      <a:lnTo>
                        <a:pt x="528" y="720"/>
                      </a:lnTo>
                      <a:lnTo>
                        <a:pt x="576" y="672"/>
                      </a:lnTo>
                      <a:lnTo>
                        <a:pt x="624" y="576"/>
                      </a:lnTo>
                      <a:lnTo>
                        <a:pt x="720" y="384"/>
                      </a:lnTo>
                      <a:lnTo>
                        <a:pt x="816" y="144"/>
                      </a:lnTo>
                      <a:lnTo>
                        <a:pt x="864" y="48"/>
                      </a:lnTo>
                      <a:lnTo>
                        <a:pt x="912" y="0"/>
                      </a:lnTo>
                      <a:lnTo>
                        <a:pt x="1008" y="0"/>
                      </a:lnTo>
                      <a:lnTo>
                        <a:pt x="1056" y="48"/>
                      </a:lnTo>
                      <a:lnTo>
                        <a:pt x="1104" y="144"/>
                      </a:lnTo>
                      <a:lnTo>
                        <a:pt x="1488" y="912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6" name=""/>
                <p:cNvSpPr/>
                <p:nvPr/>
              </p:nvSpPr>
              <p:spPr>
                <a:xfrm>
                  <a:off x="4565520" y="6431040"/>
                  <a:ext cx="586080" cy="252360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1488" y="0"/>
                      </a:moveTo>
                      <a:lnTo>
                        <a:pt x="1248" y="48"/>
                      </a:lnTo>
                      <a:lnTo>
                        <a:pt x="1008" y="144"/>
                      </a:lnTo>
                      <a:lnTo>
                        <a:pt x="960" y="192"/>
                      </a:lnTo>
                      <a:lnTo>
                        <a:pt x="912" y="240"/>
                      </a:lnTo>
                      <a:lnTo>
                        <a:pt x="864" y="336"/>
                      </a:lnTo>
                      <a:lnTo>
                        <a:pt x="768" y="528"/>
                      </a:lnTo>
                      <a:lnTo>
                        <a:pt x="672" y="768"/>
                      </a:lnTo>
                      <a:lnTo>
                        <a:pt x="624" y="864"/>
                      </a:lnTo>
                      <a:lnTo>
                        <a:pt x="576" y="912"/>
                      </a:lnTo>
                      <a:lnTo>
                        <a:pt x="480" y="912"/>
                      </a:lnTo>
                      <a:lnTo>
                        <a:pt x="432" y="864"/>
                      </a:lnTo>
                      <a:lnTo>
                        <a:pt x="384" y="7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7" name=""/>
              <p:cNvGrpSpPr/>
              <p:nvPr/>
            </p:nvGrpSpPr>
            <p:grpSpPr>
              <a:xfrm>
                <a:off x="5190120" y="3877200"/>
                <a:ext cx="1171800" cy="5044320"/>
                <a:chOff x="5190120" y="3877200"/>
                <a:chExt cx="1171800" cy="5044320"/>
              </a:xfrm>
            </p:grpSpPr>
            <p:sp>
              <p:nvSpPr>
                <p:cNvPr id="11078" name=""/>
                <p:cNvSpPr/>
                <p:nvPr/>
              </p:nvSpPr>
              <p:spPr>
                <a:xfrm>
                  <a:off x="5190120" y="3877200"/>
                  <a:ext cx="586080" cy="252360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0" y="912"/>
                      </a:moveTo>
                      <a:lnTo>
                        <a:pt x="240" y="864"/>
                      </a:lnTo>
                      <a:lnTo>
                        <a:pt x="480" y="768"/>
                      </a:lnTo>
                      <a:lnTo>
                        <a:pt x="528" y="720"/>
                      </a:lnTo>
                      <a:lnTo>
                        <a:pt x="576" y="672"/>
                      </a:lnTo>
                      <a:lnTo>
                        <a:pt x="624" y="576"/>
                      </a:lnTo>
                      <a:lnTo>
                        <a:pt x="720" y="384"/>
                      </a:lnTo>
                      <a:lnTo>
                        <a:pt x="816" y="144"/>
                      </a:lnTo>
                      <a:lnTo>
                        <a:pt x="864" y="48"/>
                      </a:lnTo>
                      <a:lnTo>
                        <a:pt x="912" y="0"/>
                      </a:lnTo>
                      <a:lnTo>
                        <a:pt x="1008" y="0"/>
                      </a:lnTo>
                      <a:lnTo>
                        <a:pt x="1056" y="48"/>
                      </a:lnTo>
                      <a:lnTo>
                        <a:pt x="1104" y="144"/>
                      </a:lnTo>
                      <a:lnTo>
                        <a:pt x="1488" y="912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9" name=""/>
                <p:cNvSpPr/>
                <p:nvPr/>
              </p:nvSpPr>
              <p:spPr>
                <a:xfrm>
                  <a:off x="5775840" y="6397920"/>
                  <a:ext cx="586080" cy="252360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1488" y="0"/>
                      </a:moveTo>
                      <a:lnTo>
                        <a:pt x="1248" y="48"/>
                      </a:lnTo>
                      <a:lnTo>
                        <a:pt x="1008" y="144"/>
                      </a:lnTo>
                      <a:lnTo>
                        <a:pt x="960" y="192"/>
                      </a:lnTo>
                      <a:lnTo>
                        <a:pt x="912" y="240"/>
                      </a:lnTo>
                      <a:lnTo>
                        <a:pt x="864" y="336"/>
                      </a:lnTo>
                      <a:lnTo>
                        <a:pt x="768" y="528"/>
                      </a:lnTo>
                      <a:lnTo>
                        <a:pt x="672" y="768"/>
                      </a:lnTo>
                      <a:lnTo>
                        <a:pt x="624" y="864"/>
                      </a:lnTo>
                      <a:lnTo>
                        <a:pt x="576" y="912"/>
                      </a:lnTo>
                      <a:lnTo>
                        <a:pt x="480" y="912"/>
                      </a:lnTo>
                      <a:lnTo>
                        <a:pt x="432" y="864"/>
                      </a:lnTo>
                      <a:lnTo>
                        <a:pt x="384" y="7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0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1" name=""/>
          <p:cNvSpPr/>
          <p:nvPr/>
        </p:nvSpPr>
        <p:spPr>
          <a:xfrm>
            <a:off x="6683400" y="629748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2" name=""/>
          <p:cNvSpPr/>
          <p:nvPr/>
        </p:nvSpPr>
        <p:spPr>
          <a:xfrm>
            <a:off x="966600" y="470520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3" name=""/>
          <p:cNvGrpSpPr/>
          <p:nvPr/>
        </p:nvGrpSpPr>
        <p:grpSpPr>
          <a:xfrm>
            <a:off x="1747800" y="10010880"/>
            <a:ext cx="1643040" cy="1182600"/>
            <a:chOff x="1747800" y="10010880"/>
            <a:chExt cx="1643040" cy="1182600"/>
          </a:xfrm>
        </p:grpSpPr>
        <p:sp>
          <p:nvSpPr>
            <p:cNvPr id="11084" name=""/>
            <p:cNvSpPr/>
            <p:nvPr/>
          </p:nvSpPr>
          <p:spPr>
            <a:xfrm>
              <a:off x="1747800" y="102744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5" name=""/>
            <p:cNvSpPr/>
            <p:nvPr/>
          </p:nvSpPr>
          <p:spPr>
            <a:xfrm>
              <a:off x="2157480" y="1049328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6" name=""/>
            <p:cNvSpPr/>
            <p:nvPr/>
          </p:nvSpPr>
          <p:spPr>
            <a:xfrm>
              <a:off x="2157480" y="106394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7" name=""/>
            <p:cNvSpPr/>
            <p:nvPr/>
          </p:nvSpPr>
          <p:spPr>
            <a:xfrm>
              <a:off x="2660760" y="10615680"/>
              <a:ext cx="26964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88" name=""/>
            <p:cNvGraphicFramePr/>
            <p:nvPr/>
          </p:nvGraphicFramePr>
          <p:xfrm>
            <a:off x="2930400" y="10010880"/>
            <a:ext cx="460440" cy="57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30400" y="10010880"/>
                      <a:ext cx="46044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90" name=""/>
            <p:cNvSpPr/>
            <p:nvPr/>
          </p:nvSpPr>
          <p:spPr>
            <a:xfrm>
              <a:off x="2419200" y="10542600"/>
              <a:ext cx="96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1" name=""/>
            <p:cNvSpPr/>
            <p:nvPr/>
          </p:nvSpPr>
          <p:spPr>
            <a:xfrm>
              <a:off x="3047760" y="1049508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2" name=""/>
            <p:cNvSpPr/>
            <p:nvPr/>
          </p:nvSpPr>
          <p:spPr>
            <a:xfrm>
              <a:off x="2608200" y="10078920"/>
              <a:ext cx="268200" cy="36036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3" name=""/>
          <p:cNvSpPr/>
          <p:nvPr/>
        </p:nvSpPr>
        <p:spPr>
          <a:xfrm>
            <a:off x="4002120" y="10078920"/>
            <a:ext cx="3959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 varie de 0.5v à 20v car dt est fonction du rég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4" name=""/>
          <p:cNvSpPr/>
          <p:nvPr/>
        </p:nvSpPr>
        <p:spPr>
          <a:xfrm>
            <a:off x="3854520" y="10083960"/>
            <a:ext cx="3873600" cy="977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5" name=""/>
          <p:cNvSpPr/>
          <p:nvPr/>
        </p:nvSpPr>
        <p:spPr>
          <a:xfrm>
            <a:off x="1720800" y="10083960"/>
            <a:ext cx="1739880" cy="1054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6" name=""/>
          <p:cNvSpPr/>
          <p:nvPr/>
        </p:nvSpPr>
        <p:spPr>
          <a:xfrm flipH="1">
            <a:off x="1655640" y="3092400"/>
            <a:ext cx="7920" cy="648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7" name=""/>
          <p:cNvSpPr/>
          <p:nvPr/>
        </p:nvSpPr>
        <p:spPr>
          <a:xfrm>
            <a:off x="1689120" y="634212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8" name=""/>
          <p:cNvSpPr/>
          <p:nvPr/>
        </p:nvSpPr>
        <p:spPr>
          <a:xfrm>
            <a:off x="4017960" y="314964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9" name=""/>
          <p:cNvSpPr/>
          <p:nvPr/>
        </p:nvSpPr>
        <p:spPr>
          <a:xfrm>
            <a:off x="6380280" y="314964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0" name=""/>
          <p:cNvSpPr/>
          <p:nvPr/>
        </p:nvSpPr>
        <p:spPr>
          <a:xfrm>
            <a:off x="1579680" y="2935440"/>
            <a:ext cx="14580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1" name=""/>
          <p:cNvSpPr/>
          <p:nvPr/>
        </p:nvSpPr>
        <p:spPr>
          <a:xfrm>
            <a:off x="6605280" y="64738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2" name=""/>
          <p:cNvSpPr/>
          <p:nvPr/>
        </p:nvSpPr>
        <p:spPr>
          <a:xfrm>
            <a:off x="1857240" y="160956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114ffb"/>
                </a:solidFill>
                <a:latin typeface="Times New Roman"/>
              </a:rPr>
              <a:t>E à 2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3" name=""/>
          <p:cNvSpPr/>
          <p:nvPr/>
        </p:nvSpPr>
        <p:spPr>
          <a:xfrm>
            <a:off x="1901880" y="927000"/>
            <a:ext cx="38066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E à 1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4" name=""/>
          <p:cNvSpPr/>
          <p:nvPr/>
        </p:nvSpPr>
        <p:spPr>
          <a:xfrm>
            <a:off x="1863720" y="2441520"/>
            <a:ext cx="3807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ae00"/>
                </a:solidFill>
                <a:latin typeface="Times New Roman"/>
              </a:rPr>
              <a:t>E à 4000 tr/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5" name=""/>
          <p:cNvGrpSpPr/>
          <p:nvPr/>
        </p:nvGrpSpPr>
        <p:grpSpPr>
          <a:xfrm>
            <a:off x="1714680" y="5803920"/>
            <a:ext cx="4725720" cy="1068120"/>
            <a:chOff x="1714680" y="5803920"/>
            <a:chExt cx="4725720" cy="1068120"/>
          </a:xfrm>
        </p:grpSpPr>
        <p:sp>
          <p:nvSpPr>
            <p:cNvPr id="11106" name=""/>
            <p:cNvSpPr/>
            <p:nvPr/>
          </p:nvSpPr>
          <p:spPr>
            <a:xfrm>
              <a:off x="1714680" y="5803920"/>
              <a:ext cx="2363760" cy="534960"/>
            </a:xfrm>
            <a:custGeom>
              <a:avLst/>
              <a:gdLst/>
              <a:ahLst/>
              <a:rect l="l" t="t" r="r" b="b"/>
              <a:pathLst>
                <a:path w="1489" h="337">
                  <a:moveTo>
                    <a:pt x="0" y="336"/>
                  </a:moveTo>
                  <a:lnTo>
                    <a:pt x="240" y="318"/>
                  </a:lnTo>
                  <a:lnTo>
                    <a:pt x="480" y="283"/>
                  </a:lnTo>
                  <a:lnTo>
                    <a:pt x="528" y="265"/>
                  </a:lnTo>
                  <a:lnTo>
                    <a:pt x="576" y="248"/>
                  </a:lnTo>
                  <a:lnTo>
                    <a:pt x="624" y="212"/>
                  </a:lnTo>
                  <a:lnTo>
                    <a:pt x="720" y="141"/>
                  </a:lnTo>
                  <a:lnTo>
                    <a:pt x="816" y="53"/>
                  </a:lnTo>
                  <a:lnTo>
                    <a:pt x="864" y="18"/>
                  </a:lnTo>
                  <a:lnTo>
                    <a:pt x="912" y="0"/>
                  </a:lnTo>
                  <a:lnTo>
                    <a:pt x="1008" y="0"/>
                  </a:lnTo>
                  <a:lnTo>
                    <a:pt x="1056" y="18"/>
                  </a:lnTo>
                  <a:lnTo>
                    <a:pt x="1104" y="53"/>
                  </a:lnTo>
                  <a:lnTo>
                    <a:pt x="1488" y="336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7" name=""/>
            <p:cNvSpPr/>
            <p:nvPr/>
          </p:nvSpPr>
          <p:spPr>
            <a:xfrm>
              <a:off x="4076640" y="6337080"/>
              <a:ext cx="2363760" cy="534960"/>
            </a:xfrm>
            <a:custGeom>
              <a:avLst/>
              <a:gdLst/>
              <a:ahLst/>
              <a:rect l="l" t="t" r="r" b="b"/>
              <a:pathLst>
                <a:path w="1489" h="337">
                  <a:moveTo>
                    <a:pt x="1488" y="0"/>
                  </a:moveTo>
                  <a:lnTo>
                    <a:pt x="1248" y="18"/>
                  </a:lnTo>
                  <a:lnTo>
                    <a:pt x="1008" y="53"/>
                  </a:lnTo>
                  <a:lnTo>
                    <a:pt x="960" y="71"/>
                  </a:lnTo>
                  <a:lnTo>
                    <a:pt x="912" y="88"/>
                  </a:lnTo>
                  <a:lnTo>
                    <a:pt x="864" y="124"/>
                  </a:lnTo>
                  <a:lnTo>
                    <a:pt x="768" y="195"/>
                  </a:lnTo>
                  <a:lnTo>
                    <a:pt x="672" y="283"/>
                  </a:lnTo>
                  <a:lnTo>
                    <a:pt x="624" y="318"/>
                  </a:lnTo>
                  <a:lnTo>
                    <a:pt x="576" y="336"/>
                  </a:lnTo>
                  <a:lnTo>
                    <a:pt x="480" y="336"/>
                  </a:lnTo>
                  <a:lnTo>
                    <a:pt x="432" y="318"/>
                  </a:lnTo>
                  <a:lnTo>
                    <a:pt x="384" y="283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8" name=""/>
          <p:cNvGrpSpPr/>
          <p:nvPr/>
        </p:nvGrpSpPr>
        <p:grpSpPr>
          <a:xfrm>
            <a:off x="1714680" y="4870440"/>
            <a:ext cx="4724280" cy="2916000"/>
            <a:chOff x="1714680" y="4870440"/>
            <a:chExt cx="4724280" cy="2916000"/>
          </a:xfrm>
        </p:grpSpPr>
        <p:grpSp>
          <p:nvGrpSpPr>
            <p:cNvPr id="11109" name=""/>
            <p:cNvGrpSpPr/>
            <p:nvPr/>
          </p:nvGrpSpPr>
          <p:grpSpPr>
            <a:xfrm>
              <a:off x="1714680" y="4889520"/>
              <a:ext cx="2323440" cy="2896920"/>
              <a:chOff x="1714680" y="4889520"/>
              <a:chExt cx="2323440" cy="2896920"/>
            </a:xfrm>
          </p:grpSpPr>
          <p:sp>
            <p:nvSpPr>
              <p:cNvPr id="11110" name=""/>
              <p:cNvSpPr/>
              <p:nvPr/>
            </p:nvSpPr>
            <p:spPr>
              <a:xfrm>
                <a:off x="1714680" y="4889520"/>
                <a:ext cx="1162080" cy="1449360"/>
              </a:xfrm>
              <a:custGeom>
                <a:avLst/>
                <a:gdLst/>
                <a:ahLst/>
                <a:rect l="l" t="t" r="r" b="b"/>
                <a:pathLst>
                  <a:path w="1489" h="913">
                    <a:moveTo>
                      <a:pt x="0" y="912"/>
                    </a:moveTo>
                    <a:lnTo>
                      <a:pt x="240" y="864"/>
                    </a:lnTo>
                    <a:lnTo>
                      <a:pt x="480" y="768"/>
                    </a:lnTo>
                    <a:lnTo>
                      <a:pt x="528" y="720"/>
                    </a:lnTo>
                    <a:lnTo>
                      <a:pt x="576" y="672"/>
                    </a:lnTo>
                    <a:lnTo>
                      <a:pt x="624" y="576"/>
                    </a:lnTo>
                    <a:lnTo>
                      <a:pt x="720" y="384"/>
                    </a:lnTo>
                    <a:lnTo>
                      <a:pt x="816" y="144"/>
                    </a:lnTo>
                    <a:lnTo>
                      <a:pt x="864" y="48"/>
                    </a:lnTo>
                    <a:lnTo>
                      <a:pt x="912" y="0"/>
                    </a:lnTo>
                    <a:lnTo>
                      <a:pt x="1008" y="0"/>
                    </a:lnTo>
                    <a:lnTo>
                      <a:pt x="1056" y="48"/>
                    </a:lnTo>
                    <a:lnTo>
                      <a:pt x="1104" y="144"/>
                    </a:lnTo>
                    <a:lnTo>
                      <a:pt x="1488" y="912"/>
                    </a:lnTo>
                  </a:path>
                </a:pathLst>
              </a:custGeom>
              <a:noFill/>
              <a:ln cap="rnd" w="5076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2876040" y="6337080"/>
                <a:ext cx="1162080" cy="1449360"/>
              </a:xfrm>
              <a:custGeom>
                <a:avLst/>
                <a:gdLst/>
                <a:ahLst/>
                <a:rect l="l" t="t" r="r" b="b"/>
                <a:pathLst>
                  <a:path w="1489" h="913">
                    <a:moveTo>
                      <a:pt x="1488" y="0"/>
                    </a:moveTo>
                    <a:lnTo>
                      <a:pt x="1248" y="48"/>
                    </a:lnTo>
                    <a:lnTo>
                      <a:pt x="1008" y="144"/>
                    </a:lnTo>
                    <a:lnTo>
                      <a:pt x="960" y="192"/>
                    </a:lnTo>
                    <a:lnTo>
                      <a:pt x="912" y="240"/>
                    </a:lnTo>
                    <a:lnTo>
                      <a:pt x="864" y="336"/>
                    </a:lnTo>
                    <a:lnTo>
                      <a:pt x="768" y="528"/>
                    </a:lnTo>
                    <a:lnTo>
                      <a:pt x="672" y="768"/>
                    </a:lnTo>
                    <a:lnTo>
                      <a:pt x="624" y="864"/>
                    </a:lnTo>
                    <a:lnTo>
                      <a:pt x="576" y="912"/>
                    </a:lnTo>
                    <a:lnTo>
                      <a:pt x="480" y="912"/>
                    </a:lnTo>
                    <a:lnTo>
                      <a:pt x="432" y="864"/>
                    </a:lnTo>
                    <a:lnTo>
                      <a:pt x="384" y="76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2" name=""/>
            <p:cNvGrpSpPr/>
            <p:nvPr/>
          </p:nvGrpSpPr>
          <p:grpSpPr>
            <a:xfrm>
              <a:off x="4114800" y="4870440"/>
              <a:ext cx="2324160" cy="2896920"/>
              <a:chOff x="4114800" y="4870440"/>
              <a:chExt cx="2324160" cy="2896920"/>
            </a:xfrm>
          </p:grpSpPr>
          <p:sp>
            <p:nvSpPr>
              <p:cNvPr id="11113" name=""/>
              <p:cNvSpPr/>
              <p:nvPr/>
            </p:nvSpPr>
            <p:spPr>
              <a:xfrm>
                <a:off x="4114800" y="4870440"/>
                <a:ext cx="1162440" cy="1449360"/>
              </a:xfrm>
              <a:custGeom>
                <a:avLst/>
                <a:gdLst/>
                <a:ahLst/>
                <a:rect l="l" t="t" r="r" b="b"/>
                <a:pathLst>
                  <a:path w="1489" h="913">
                    <a:moveTo>
                      <a:pt x="0" y="912"/>
                    </a:moveTo>
                    <a:lnTo>
                      <a:pt x="240" y="864"/>
                    </a:lnTo>
                    <a:lnTo>
                      <a:pt x="480" y="768"/>
                    </a:lnTo>
                    <a:lnTo>
                      <a:pt x="528" y="720"/>
                    </a:lnTo>
                    <a:lnTo>
                      <a:pt x="576" y="672"/>
                    </a:lnTo>
                    <a:lnTo>
                      <a:pt x="624" y="576"/>
                    </a:lnTo>
                    <a:lnTo>
                      <a:pt x="720" y="384"/>
                    </a:lnTo>
                    <a:lnTo>
                      <a:pt x="816" y="144"/>
                    </a:lnTo>
                    <a:lnTo>
                      <a:pt x="864" y="48"/>
                    </a:lnTo>
                    <a:lnTo>
                      <a:pt x="912" y="0"/>
                    </a:lnTo>
                    <a:lnTo>
                      <a:pt x="1008" y="0"/>
                    </a:lnTo>
                    <a:lnTo>
                      <a:pt x="1056" y="48"/>
                    </a:lnTo>
                    <a:lnTo>
                      <a:pt x="1104" y="144"/>
                    </a:lnTo>
                    <a:lnTo>
                      <a:pt x="1488" y="912"/>
                    </a:lnTo>
                  </a:path>
                </a:pathLst>
              </a:custGeom>
              <a:noFill/>
              <a:ln cap="rnd" w="5076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5276520" y="6318000"/>
                <a:ext cx="1162440" cy="1449360"/>
              </a:xfrm>
              <a:custGeom>
                <a:avLst/>
                <a:gdLst/>
                <a:ahLst/>
                <a:rect l="l" t="t" r="r" b="b"/>
                <a:pathLst>
                  <a:path w="1489" h="913">
                    <a:moveTo>
                      <a:pt x="1488" y="0"/>
                    </a:moveTo>
                    <a:lnTo>
                      <a:pt x="1248" y="48"/>
                    </a:lnTo>
                    <a:lnTo>
                      <a:pt x="1008" y="144"/>
                    </a:lnTo>
                    <a:lnTo>
                      <a:pt x="960" y="192"/>
                    </a:lnTo>
                    <a:lnTo>
                      <a:pt x="912" y="240"/>
                    </a:lnTo>
                    <a:lnTo>
                      <a:pt x="864" y="336"/>
                    </a:lnTo>
                    <a:lnTo>
                      <a:pt x="768" y="528"/>
                    </a:lnTo>
                    <a:lnTo>
                      <a:pt x="672" y="768"/>
                    </a:lnTo>
                    <a:lnTo>
                      <a:pt x="624" y="864"/>
                    </a:lnTo>
                    <a:lnTo>
                      <a:pt x="576" y="912"/>
                    </a:lnTo>
                    <a:lnTo>
                      <a:pt x="480" y="912"/>
                    </a:lnTo>
                    <a:lnTo>
                      <a:pt x="432" y="864"/>
                    </a:lnTo>
                    <a:lnTo>
                      <a:pt x="384" y="76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15" name=""/>
          <p:cNvGrpSpPr/>
          <p:nvPr/>
        </p:nvGrpSpPr>
        <p:grpSpPr>
          <a:xfrm>
            <a:off x="1690560" y="3846600"/>
            <a:ext cx="4671360" cy="5108040"/>
            <a:chOff x="1690560" y="3846600"/>
            <a:chExt cx="4671360" cy="5108040"/>
          </a:xfrm>
        </p:grpSpPr>
        <p:grpSp>
          <p:nvGrpSpPr>
            <p:cNvPr id="11116" name=""/>
            <p:cNvGrpSpPr/>
            <p:nvPr/>
          </p:nvGrpSpPr>
          <p:grpSpPr>
            <a:xfrm>
              <a:off x="1690560" y="3846600"/>
              <a:ext cx="2352600" cy="5078160"/>
              <a:chOff x="1690560" y="3846600"/>
              <a:chExt cx="2352600" cy="5078160"/>
            </a:xfrm>
          </p:grpSpPr>
          <p:grpSp>
            <p:nvGrpSpPr>
              <p:cNvPr id="11117" name=""/>
              <p:cNvGrpSpPr/>
              <p:nvPr/>
            </p:nvGrpSpPr>
            <p:grpSpPr>
              <a:xfrm>
                <a:off x="1690560" y="3879720"/>
                <a:ext cx="1157400" cy="5045040"/>
                <a:chOff x="1690560" y="3879720"/>
                <a:chExt cx="1157400" cy="5045040"/>
              </a:xfrm>
            </p:grpSpPr>
            <p:sp>
              <p:nvSpPr>
                <p:cNvPr id="11118" name=""/>
                <p:cNvSpPr/>
                <p:nvPr/>
              </p:nvSpPr>
              <p:spPr>
                <a:xfrm>
                  <a:off x="1690560" y="3879720"/>
                  <a:ext cx="578880" cy="252396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0" y="912"/>
                      </a:moveTo>
                      <a:lnTo>
                        <a:pt x="240" y="864"/>
                      </a:lnTo>
                      <a:lnTo>
                        <a:pt x="480" y="768"/>
                      </a:lnTo>
                      <a:lnTo>
                        <a:pt x="528" y="720"/>
                      </a:lnTo>
                      <a:lnTo>
                        <a:pt x="576" y="672"/>
                      </a:lnTo>
                      <a:lnTo>
                        <a:pt x="624" y="576"/>
                      </a:lnTo>
                      <a:lnTo>
                        <a:pt x="720" y="384"/>
                      </a:lnTo>
                      <a:lnTo>
                        <a:pt x="816" y="144"/>
                      </a:lnTo>
                      <a:lnTo>
                        <a:pt x="864" y="48"/>
                      </a:lnTo>
                      <a:lnTo>
                        <a:pt x="912" y="0"/>
                      </a:lnTo>
                      <a:lnTo>
                        <a:pt x="1008" y="0"/>
                      </a:lnTo>
                      <a:lnTo>
                        <a:pt x="1056" y="48"/>
                      </a:lnTo>
                      <a:lnTo>
                        <a:pt x="1104" y="144"/>
                      </a:lnTo>
                      <a:lnTo>
                        <a:pt x="1488" y="912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9" name=""/>
                <p:cNvSpPr/>
                <p:nvPr/>
              </p:nvSpPr>
              <p:spPr>
                <a:xfrm>
                  <a:off x="2269080" y="6400800"/>
                  <a:ext cx="578880" cy="252396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1488" y="0"/>
                      </a:moveTo>
                      <a:lnTo>
                        <a:pt x="1248" y="48"/>
                      </a:lnTo>
                      <a:lnTo>
                        <a:pt x="1008" y="144"/>
                      </a:lnTo>
                      <a:lnTo>
                        <a:pt x="960" y="192"/>
                      </a:lnTo>
                      <a:lnTo>
                        <a:pt x="912" y="240"/>
                      </a:lnTo>
                      <a:lnTo>
                        <a:pt x="864" y="336"/>
                      </a:lnTo>
                      <a:lnTo>
                        <a:pt x="768" y="528"/>
                      </a:lnTo>
                      <a:lnTo>
                        <a:pt x="672" y="768"/>
                      </a:lnTo>
                      <a:lnTo>
                        <a:pt x="624" y="864"/>
                      </a:lnTo>
                      <a:lnTo>
                        <a:pt x="576" y="912"/>
                      </a:lnTo>
                      <a:lnTo>
                        <a:pt x="480" y="912"/>
                      </a:lnTo>
                      <a:lnTo>
                        <a:pt x="432" y="864"/>
                      </a:lnTo>
                      <a:lnTo>
                        <a:pt x="384" y="7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0" name=""/>
              <p:cNvGrpSpPr/>
              <p:nvPr/>
            </p:nvGrpSpPr>
            <p:grpSpPr>
              <a:xfrm>
                <a:off x="2885760" y="3846600"/>
                <a:ext cx="1157400" cy="5045040"/>
                <a:chOff x="2885760" y="3846600"/>
                <a:chExt cx="1157400" cy="5045040"/>
              </a:xfrm>
            </p:grpSpPr>
            <p:sp>
              <p:nvSpPr>
                <p:cNvPr id="11121" name=""/>
                <p:cNvSpPr/>
                <p:nvPr/>
              </p:nvSpPr>
              <p:spPr>
                <a:xfrm>
                  <a:off x="2885760" y="3846600"/>
                  <a:ext cx="578880" cy="252396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0" y="912"/>
                      </a:moveTo>
                      <a:lnTo>
                        <a:pt x="240" y="864"/>
                      </a:lnTo>
                      <a:lnTo>
                        <a:pt x="480" y="768"/>
                      </a:lnTo>
                      <a:lnTo>
                        <a:pt x="528" y="720"/>
                      </a:lnTo>
                      <a:lnTo>
                        <a:pt x="576" y="672"/>
                      </a:lnTo>
                      <a:lnTo>
                        <a:pt x="624" y="576"/>
                      </a:lnTo>
                      <a:lnTo>
                        <a:pt x="720" y="384"/>
                      </a:lnTo>
                      <a:lnTo>
                        <a:pt x="816" y="144"/>
                      </a:lnTo>
                      <a:lnTo>
                        <a:pt x="864" y="48"/>
                      </a:lnTo>
                      <a:lnTo>
                        <a:pt x="912" y="0"/>
                      </a:lnTo>
                      <a:lnTo>
                        <a:pt x="1008" y="0"/>
                      </a:lnTo>
                      <a:lnTo>
                        <a:pt x="1056" y="48"/>
                      </a:lnTo>
                      <a:lnTo>
                        <a:pt x="1104" y="144"/>
                      </a:lnTo>
                      <a:lnTo>
                        <a:pt x="1488" y="912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2" name=""/>
                <p:cNvSpPr/>
                <p:nvPr/>
              </p:nvSpPr>
              <p:spPr>
                <a:xfrm>
                  <a:off x="3464280" y="6367680"/>
                  <a:ext cx="578880" cy="252396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1488" y="0"/>
                      </a:moveTo>
                      <a:lnTo>
                        <a:pt x="1248" y="48"/>
                      </a:lnTo>
                      <a:lnTo>
                        <a:pt x="1008" y="144"/>
                      </a:lnTo>
                      <a:lnTo>
                        <a:pt x="960" y="192"/>
                      </a:lnTo>
                      <a:lnTo>
                        <a:pt x="912" y="240"/>
                      </a:lnTo>
                      <a:lnTo>
                        <a:pt x="864" y="336"/>
                      </a:lnTo>
                      <a:lnTo>
                        <a:pt x="768" y="528"/>
                      </a:lnTo>
                      <a:lnTo>
                        <a:pt x="672" y="768"/>
                      </a:lnTo>
                      <a:lnTo>
                        <a:pt x="624" y="864"/>
                      </a:lnTo>
                      <a:lnTo>
                        <a:pt x="576" y="912"/>
                      </a:lnTo>
                      <a:lnTo>
                        <a:pt x="480" y="912"/>
                      </a:lnTo>
                      <a:lnTo>
                        <a:pt x="432" y="864"/>
                      </a:lnTo>
                      <a:lnTo>
                        <a:pt x="384" y="7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23" name=""/>
            <p:cNvGrpSpPr/>
            <p:nvPr/>
          </p:nvGrpSpPr>
          <p:grpSpPr>
            <a:xfrm>
              <a:off x="3979800" y="3877200"/>
              <a:ext cx="2382120" cy="5077440"/>
              <a:chOff x="3979800" y="3877200"/>
              <a:chExt cx="2382120" cy="5077440"/>
            </a:xfrm>
          </p:grpSpPr>
          <p:grpSp>
            <p:nvGrpSpPr>
              <p:cNvPr id="11124" name=""/>
              <p:cNvGrpSpPr/>
              <p:nvPr/>
            </p:nvGrpSpPr>
            <p:grpSpPr>
              <a:xfrm>
                <a:off x="3979800" y="3910320"/>
                <a:ext cx="1171800" cy="5044320"/>
                <a:chOff x="3979800" y="3910320"/>
                <a:chExt cx="1171800" cy="5044320"/>
              </a:xfrm>
            </p:grpSpPr>
            <p:sp>
              <p:nvSpPr>
                <p:cNvPr id="11125" name=""/>
                <p:cNvSpPr/>
                <p:nvPr/>
              </p:nvSpPr>
              <p:spPr>
                <a:xfrm>
                  <a:off x="3979800" y="3910320"/>
                  <a:ext cx="586080" cy="252360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0" y="912"/>
                      </a:moveTo>
                      <a:lnTo>
                        <a:pt x="240" y="864"/>
                      </a:lnTo>
                      <a:lnTo>
                        <a:pt x="480" y="768"/>
                      </a:lnTo>
                      <a:lnTo>
                        <a:pt x="528" y="720"/>
                      </a:lnTo>
                      <a:lnTo>
                        <a:pt x="576" y="672"/>
                      </a:lnTo>
                      <a:lnTo>
                        <a:pt x="624" y="576"/>
                      </a:lnTo>
                      <a:lnTo>
                        <a:pt x="720" y="384"/>
                      </a:lnTo>
                      <a:lnTo>
                        <a:pt x="816" y="144"/>
                      </a:lnTo>
                      <a:lnTo>
                        <a:pt x="864" y="48"/>
                      </a:lnTo>
                      <a:lnTo>
                        <a:pt x="912" y="0"/>
                      </a:lnTo>
                      <a:lnTo>
                        <a:pt x="1008" y="0"/>
                      </a:lnTo>
                      <a:lnTo>
                        <a:pt x="1056" y="48"/>
                      </a:lnTo>
                      <a:lnTo>
                        <a:pt x="1104" y="144"/>
                      </a:lnTo>
                      <a:lnTo>
                        <a:pt x="1488" y="912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6" name=""/>
                <p:cNvSpPr/>
                <p:nvPr/>
              </p:nvSpPr>
              <p:spPr>
                <a:xfrm>
                  <a:off x="4565520" y="6431040"/>
                  <a:ext cx="586080" cy="252360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1488" y="0"/>
                      </a:moveTo>
                      <a:lnTo>
                        <a:pt x="1248" y="48"/>
                      </a:lnTo>
                      <a:lnTo>
                        <a:pt x="1008" y="144"/>
                      </a:lnTo>
                      <a:lnTo>
                        <a:pt x="960" y="192"/>
                      </a:lnTo>
                      <a:lnTo>
                        <a:pt x="912" y="240"/>
                      </a:lnTo>
                      <a:lnTo>
                        <a:pt x="864" y="336"/>
                      </a:lnTo>
                      <a:lnTo>
                        <a:pt x="768" y="528"/>
                      </a:lnTo>
                      <a:lnTo>
                        <a:pt x="672" y="768"/>
                      </a:lnTo>
                      <a:lnTo>
                        <a:pt x="624" y="864"/>
                      </a:lnTo>
                      <a:lnTo>
                        <a:pt x="576" y="912"/>
                      </a:lnTo>
                      <a:lnTo>
                        <a:pt x="480" y="912"/>
                      </a:lnTo>
                      <a:lnTo>
                        <a:pt x="432" y="864"/>
                      </a:lnTo>
                      <a:lnTo>
                        <a:pt x="384" y="7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7" name=""/>
              <p:cNvGrpSpPr/>
              <p:nvPr/>
            </p:nvGrpSpPr>
            <p:grpSpPr>
              <a:xfrm>
                <a:off x="5190120" y="3877200"/>
                <a:ext cx="1171800" cy="5044320"/>
                <a:chOff x="5190120" y="3877200"/>
                <a:chExt cx="1171800" cy="5044320"/>
              </a:xfrm>
            </p:grpSpPr>
            <p:sp>
              <p:nvSpPr>
                <p:cNvPr id="11128" name=""/>
                <p:cNvSpPr/>
                <p:nvPr/>
              </p:nvSpPr>
              <p:spPr>
                <a:xfrm>
                  <a:off x="5190120" y="3877200"/>
                  <a:ext cx="586080" cy="252360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0" y="912"/>
                      </a:moveTo>
                      <a:lnTo>
                        <a:pt x="240" y="864"/>
                      </a:lnTo>
                      <a:lnTo>
                        <a:pt x="480" y="768"/>
                      </a:lnTo>
                      <a:lnTo>
                        <a:pt x="528" y="720"/>
                      </a:lnTo>
                      <a:lnTo>
                        <a:pt x="576" y="672"/>
                      </a:lnTo>
                      <a:lnTo>
                        <a:pt x="624" y="576"/>
                      </a:lnTo>
                      <a:lnTo>
                        <a:pt x="720" y="384"/>
                      </a:lnTo>
                      <a:lnTo>
                        <a:pt x="816" y="144"/>
                      </a:lnTo>
                      <a:lnTo>
                        <a:pt x="864" y="48"/>
                      </a:lnTo>
                      <a:lnTo>
                        <a:pt x="912" y="0"/>
                      </a:lnTo>
                      <a:lnTo>
                        <a:pt x="1008" y="0"/>
                      </a:lnTo>
                      <a:lnTo>
                        <a:pt x="1056" y="48"/>
                      </a:lnTo>
                      <a:lnTo>
                        <a:pt x="1104" y="144"/>
                      </a:lnTo>
                      <a:lnTo>
                        <a:pt x="1488" y="912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9" name=""/>
                <p:cNvSpPr/>
                <p:nvPr/>
              </p:nvSpPr>
              <p:spPr>
                <a:xfrm>
                  <a:off x="5775840" y="6397920"/>
                  <a:ext cx="586080" cy="2523600"/>
                </a:xfrm>
                <a:custGeom>
                  <a:avLst/>
                  <a:gdLst/>
                  <a:ahLst/>
                  <a:rect l="l" t="t" r="r" b="b"/>
                  <a:pathLst>
                    <a:path w="1489" h="913">
                      <a:moveTo>
                        <a:pt x="1488" y="0"/>
                      </a:moveTo>
                      <a:lnTo>
                        <a:pt x="1248" y="48"/>
                      </a:lnTo>
                      <a:lnTo>
                        <a:pt x="1008" y="144"/>
                      </a:lnTo>
                      <a:lnTo>
                        <a:pt x="960" y="192"/>
                      </a:lnTo>
                      <a:lnTo>
                        <a:pt x="912" y="240"/>
                      </a:lnTo>
                      <a:lnTo>
                        <a:pt x="864" y="336"/>
                      </a:lnTo>
                      <a:lnTo>
                        <a:pt x="768" y="528"/>
                      </a:lnTo>
                      <a:lnTo>
                        <a:pt x="672" y="768"/>
                      </a:lnTo>
                      <a:lnTo>
                        <a:pt x="624" y="864"/>
                      </a:lnTo>
                      <a:lnTo>
                        <a:pt x="576" y="912"/>
                      </a:lnTo>
                      <a:lnTo>
                        <a:pt x="480" y="912"/>
                      </a:lnTo>
                      <a:lnTo>
                        <a:pt x="432" y="864"/>
                      </a:lnTo>
                      <a:lnTo>
                        <a:pt x="384" y="7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130" name=""/>
          <p:cNvSpPr/>
          <p:nvPr/>
        </p:nvSpPr>
        <p:spPr>
          <a:xfrm>
            <a:off x="3805200" y="10058400"/>
            <a:ext cx="3922920" cy="963720"/>
          </a:xfrm>
          <a:prstGeom prst="rect">
            <a:avLst/>
          </a:prstGeom>
          <a:noFill/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1" name=""/>
          <p:cNvSpPr/>
          <p:nvPr/>
        </p:nvSpPr>
        <p:spPr>
          <a:xfrm>
            <a:off x="76320" y="57240"/>
            <a:ext cx="7848360" cy="1120140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2" name=""/>
          <p:cNvSpPr/>
          <p:nvPr/>
        </p:nvSpPr>
        <p:spPr>
          <a:xfrm>
            <a:off x="100080" y="3457440"/>
            <a:ext cx="784260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2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3" name=""/>
          <p:cNvSpPr/>
          <p:nvPr/>
        </p:nvSpPr>
        <p:spPr>
          <a:xfrm>
            <a:off x="176760" y="1059660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754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3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810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811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815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816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820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825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830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835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840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845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853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858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864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865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869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870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879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884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889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894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899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907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912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918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919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923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924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928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933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938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943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948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953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961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966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972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973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5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977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978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982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987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992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997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1002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1007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1015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1020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4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66760" y="1211040"/>
            <a:ext cx="840600" cy="840240"/>
            <a:chOff x="266760" y="1211040"/>
            <a:chExt cx="840600" cy="840240"/>
          </a:xfrm>
        </p:grpSpPr>
        <p:grpSp>
          <p:nvGrpSpPr>
            <p:cNvPr id="1026" name=""/>
            <p:cNvGrpSpPr/>
            <p:nvPr/>
          </p:nvGrpSpPr>
          <p:grpSpPr>
            <a:xfrm>
              <a:off x="266760" y="1211040"/>
              <a:ext cx="840600" cy="840240"/>
              <a:chOff x="266760" y="1211040"/>
              <a:chExt cx="840600" cy="840240"/>
            </a:xfrm>
          </p:grpSpPr>
          <p:sp>
            <p:nvSpPr>
              <p:cNvPr id="1027" name=""/>
              <p:cNvSpPr/>
              <p:nvPr/>
            </p:nvSpPr>
            <p:spPr>
              <a:xfrm rot="8100000">
                <a:off x="388440" y="1334880"/>
                <a:ext cx="596880" cy="5918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8100000">
                <a:off x="394920" y="131400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 rot="8100000">
              <a:off x="594720" y="1557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1031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1032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4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1036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1041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1046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1051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1056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1061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1069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1074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1508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5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1100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4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1106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9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0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0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3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3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4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1156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1157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9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1161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1162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1166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1171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1176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1181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1186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1191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5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1199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1204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1210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1211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1215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1220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1225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1230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1235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1245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1253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1258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2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1264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1265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7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1269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1270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1274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1279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1284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1289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1294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1299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3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1307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1312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1318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1319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1323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1324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7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1328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1333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1338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1343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1348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1353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1361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1366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0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384120" y="1241280"/>
            <a:ext cx="598680" cy="695520"/>
            <a:chOff x="384120" y="1241280"/>
            <a:chExt cx="598680" cy="695520"/>
          </a:xfrm>
        </p:grpSpPr>
        <p:grpSp>
          <p:nvGrpSpPr>
            <p:cNvPr id="1372" name=""/>
            <p:cNvGrpSpPr/>
            <p:nvPr/>
          </p:nvGrpSpPr>
          <p:grpSpPr>
            <a:xfrm>
              <a:off x="384120" y="1241280"/>
              <a:ext cx="598680" cy="695520"/>
              <a:chOff x="384120" y="1241280"/>
              <a:chExt cx="598680" cy="695520"/>
            </a:xfrm>
          </p:grpSpPr>
          <p:sp>
            <p:nvSpPr>
              <p:cNvPr id="1373" name=""/>
              <p:cNvSpPr/>
              <p:nvPr/>
            </p:nvSpPr>
            <p:spPr>
              <a:xfrm>
                <a:off x="384120" y="1344600"/>
                <a:ext cx="5986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79600" y="1241280"/>
                <a:ext cx="193680" cy="26064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596880" y="1552680"/>
              <a:ext cx="1461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1377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1382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1387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1392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1397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1402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1407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4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1415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1420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1446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1447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0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1452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6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1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6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9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9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0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1502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1503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1507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1508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0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1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1512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1517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1522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1527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1532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1537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1545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1550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1556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1557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9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1561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1562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4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1566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1571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1581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1586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1591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8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1599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1604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8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1610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1611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3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1615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1616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8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1620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1625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1630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1635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1640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1645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1653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1658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2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1664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1665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7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1669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1670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2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3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1674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8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1679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1689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1694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1699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3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6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1707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1712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252000" y="1225440"/>
            <a:ext cx="840600" cy="840960"/>
            <a:chOff x="252000" y="1225440"/>
            <a:chExt cx="840600" cy="840960"/>
          </a:xfrm>
        </p:grpSpPr>
        <p:grpSp>
          <p:nvGrpSpPr>
            <p:cNvPr id="1718" name=""/>
            <p:cNvGrpSpPr/>
            <p:nvPr/>
          </p:nvGrpSpPr>
          <p:grpSpPr>
            <a:xfrm>
              <a:off x="252000" y="1225440"/>
              <a:ext cx="840600" cy="840960"/>
              <a:chOff x="252000" y="1225440"/>
              <a:chExt cx="840600" cy="840960"/>
            </a:xfrm>
          </p:grpSpPr>
          <p:sp>
            <p:nvSpPr>
              <p:cNvPr id="1719" name=""/>
              <p:cNvSpPr/>
              <p:nvPr/>
            </p:nvSpPr>
            <p:spPr>
              <a:xfrm rot="13500000">
                <a:off x="373680" y="13496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rot="13500000">
                <a:off x="761760" y="131868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 rot="13500000">
              <a:off x="603000" y="15519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1723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1724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6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7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1728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1733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1738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1743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1748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1753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7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0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1761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1766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0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1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5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7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1792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1793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1794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6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7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1798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1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2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7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1808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2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7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2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0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1841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5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6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1848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1849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1853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1854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1858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1863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1868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1873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1878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2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1883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0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1891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1896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1902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1903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1907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1908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0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1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1912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1917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1922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1927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1932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1937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1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1945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9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1950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4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5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1956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1957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9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0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1961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1962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4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5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1966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1971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1976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1981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5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1986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1991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5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8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1999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2004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8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2010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2011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2015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2016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8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9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2020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4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2025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9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2030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2035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9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2040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4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2045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9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2053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2058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2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366840" y="1341360"/>
            <a:ext cx="695160" cy="598680"/>
            <a:chOff x="366840" y="1341360"/>
            <a:chExt cx="695160" cy="598680"/>
          </a:xfrm>
        </p:grpSpPr>
        <p:grpSp>
          <p:nvGrpSpPr>
            <p:cNvPr id="2064" name=""/>
            <p:cNvGrpSpPr/>
            <p:nvPr/>
          </p:nvGrpSpPr>
          <p:grpSpPr>
            <a:xfrm>
              <a:off x="366840" y="1341360"/>
              <a:ext cx="695160" cy="598680"/>
              <a:chOff x="366840" y="1341360"/>
              <a:chExt cx="695160" cy="598680"/>
            </a:xfrm>
          </p:grpSpPr>
          <p:sp>
            <p:nvSpPr>
              <p:cNvPr id="2065" name=""/>
              <p:cNvSpPr/>
              <p:nvPr/>
            </p:nvSpPr>
            <p:spPr>
              <a:xfrm>
                <a:off x="366840" y="1341360"/>
                <a:ext cx="591840" cy="59868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801720" y="15368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7" name=""/>
            <p:cNvSpPr/>
            <p:nvPr/>
          </p:nvSpPr>
          <p:spPr>
            <a:xfrm>
              <a:off x="606600" y="1554120"/>
              <a:ext cx="14436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2069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2070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2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3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2074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2079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2084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2089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2094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2099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3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6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2107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2112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6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7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3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5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6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2127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2128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1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2133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2134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6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7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2138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2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2143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7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2148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2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2153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7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2158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2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2163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7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0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2171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5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2176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0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1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2183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2184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6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2188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2189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1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2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2193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2198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2203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7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2208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2213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2218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2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5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2226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2231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5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2237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2238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0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2242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2243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5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6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2247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2252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6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2257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2262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6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2267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2272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6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9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2280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4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2285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9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2291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2292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4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2296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2297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9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0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2301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5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2306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2311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5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2316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2321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5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2326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0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3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2334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2339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3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4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2345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2346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8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2350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2351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3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4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2355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2360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2365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9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2370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2375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9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2380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4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7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2388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2393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7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8" name=""/>
          <p:cNvGrpSpPr/>
          <p:nvPr/>
        </p:nvGrpSpPr>
        <p:grpSpPr>
          <a:xfrm>
            <a:off x="237600" y="1211400"/>
            <a:ext cx="840600" cy="840960"/>
            <a:chOff x="237600" y="1211400"/>
            <a:chExt cx="840600" cy="840960"/>
          </a:xfrm>
        </p:grpSpPr>
        <p:grpSp>
          <p:nvGrpSpPr>
            <p:cNvPr id="2399" name=""/>
            <p:cNvGrpSpPr/>
            <p:nvPr/>
          </p:nvGrpSpPr>
          <p:grpSpPr>
            <a:xfrm>
              <a:off x="237600" y="1211400"/>
              <a:ext cx="840600" cy="840960"/>
              <a:chOff x="237600" y="1211400"/>
              <a:chExt cx="840600" cy="840960"/>
            </a:xfrm>
          </p:grpSpPr>
          <p:sp>
            <p:nvSpPr>
              <p:cNvPr id="2400" name=""/>
              <p:cNvSpPr/>
              <p:nvPr/>
            </p:nvSpPr>
            <p:spPr>
              <a:xfrm rot="18840000">
                <a:off x="359280" y="133560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rot="18840000">
                <a:off x="759960" y="168300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2" name=""/>
            <p:cNvSpPr/>
            <p:nvPr/>
          </p:nvSpPr>
          <p:spPr>
            <a:xfrm rot="18840000">
              <a:off x="608040" y="15602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2404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2405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7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8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2409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2414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8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2419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3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2424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8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2429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3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2434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1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2442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6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2447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1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2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2453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8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0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2461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6" name=""/>
          <p:cNvSpPr/>
          <p:nvPr/>
        </p:nvSpPr>
        <p:spPr>
          <a:xfrm>
            <a:off x="2558880" y="2844720"/>
            <a:ext cx="44834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568520" y="5969160"/>
            <a:ext cx="5397480" cy="40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"/>
          <p:cNvSpPr/>
          <p:nvPr/>
        </p:nvSpPr>
        <p:spPr>
          <a:xfrm>
            <a:off x="1538640" y="461880"/>
            <a:ext cx="512676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Force éléctromotrice en fonction du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638360" y="281628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6624720" y="468468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0" y="0"/>
                </a:moveTo>
                <a:lnTo>
                  <a:pt x="0" y="57"/>
                </a:lnTo>
                <a:lnTo>
                  <a:pt x="65" y="2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654960" y="833292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5" name=""/>
          <p:cNvGraphicFramePr/>
          <p:nvPr/>
        </p:nvGraphicFramePr>
        <p:xfrm>
          <a:off x="1104840" y="2619360"/>
          <a:ext cx="547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19360"/>
                    <a:ext cx="547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7" name=""/>
          <p:cNvSpPr/>
          <p:nvPr/>
        </p:nvSpPr>
        <p:spPr>
          <a:xfrm>
            <a:off x="937800" y="674064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8" name=""/>
          <p:cNvGrpSpPr/>
          <p:nvPr/>
        </p:nvGrpSpPr>
        <p:grpSpPr>
          <a:xfrm>
            <a:off x="3767040" y="1305000"/>
            <a:ext cx="596880" cy="1298520"/>
            <a:chOff x="3767040" y="1305000"/>
            <a:chExt cx="596880" cy="1298520"/>
          </a:xfrm>
        </p:grpSpPr>
        <p:grpSp>
          <p:nvGrpSpPr>
            <p:cNvPr id="2489" name=""/>
            <p:cNvGrpSpPr/>
            <p:nvPr/>
          </p:nvGrpSpPr>
          <p:grpSpPr>
            <a:xfrm>
              <a:off x="3767040" y="1305000"/>
              <a:ext cx="596880" cy="695160"/>
              <a:chOff x="3767040" y="1305000"/>
              <a:chExt cx="596880" cy="695160"/>
            </a:xfrm>
          </p:grpSpPr>
          <p:grpSp>
            <p:nvGrpSpPr>
              <p:cNvPr id="2490" name=""/>
              <p:cNvGrpSpPr/>
              <p:nvPr/>
            </p:nvGrpSpPr>
            <p:grpSpPr>
              <a:xfrm>
                <a:off x="3767040" y="1305000"/>
                <a:ext cx="596880" cy="695160"/>
                <a:chOff x="3767040" y="1305000"/>
                <a:chExt cx="596880" cy="69516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3767040" y="1305000"/>
                  <a:ext cx="596880" cy="592200"/>
                </a:xfrm>
                <a:prstGeom prst="ellipse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3975120" y="1739880"/>
                  <a:ext cx="193680" cy="260280"/>
                </a:xfrm>
                <a:prstGeom prst="rect">
                  <a:avLst/>
                </a:prstGeom>
                <a:solidFill>
                  <a:srgbClr val="11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3" name=""/>
              <p:cNvSpPr/>
              <p:nvPr/>
            </p:nvSpPr>
            <p:spPr>
              <a:xfrm>
                <a:off x="4006800" y="15447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3809880" y="2077920"/>
              <a:ext cx="352080" cy="525600"/>
              <a:chOff x="3809880" y="2077920"/>
              <a:chExt cx="352080" cy="525600"/>
            </a:xfrm>
          </p:grpSpPr>
          <p:grpSp>
            <p:nvGrpSpPr>
              <p:cNvPr id="2495" name=""/>
              <p:cNvGrpSpPr/>
              <p:nvPr/>
            </p:nvGrpSpPr>
            <p:grpSpPr>
              <a:xfrm>
                <a:off x="4035600" y="2455920"/>
                <a:ext cx="82440" cy="147600"/>
                <a:chOff x="4035600" y="2455920"/>
                <a:chExt cx="82440" cy="147600"/>
              </a:xfrm>
            </p:grpSpPr>
            <p:sp>
              <p:nvSpPr>
                <p:cNvPr id="2496" name=""/>
                <p:cNvSpPr/>
                <p:nvPr/>
              </p:nvSpPr>
              <p:spPr>
                <a:xfrm>
                  <a:off x="4035600" y="2455920"/>
                  <a:ext cx="82440" cy="14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4035600" y="2536920"/>
                  <a:ext cx="82440" cy="66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8" name=""/>
              <p:cNvSpPr/>
              <p:nvPr/>
            </p:nvSpPr>
            <p:spPr>
              <a:xfrm>
                <a:off x="4006800" y="2077920"/>
                <a:ext cx="130320" cy="3412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9" name=""/>
              <p:cNvGrpSpPr/>
              <p:nvPr/>
            </p:nvGrpSpPr>
            <p:grpSpPr>
              <a:xfrm>
                <a:off x="3934440" y="2130480"/>
                <a:ext cx="227520" cy="135720"/>
                <a:chOff x="3934440" y="2130480"/>
                <a:chExt cx="227520" cy="13572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3934440" y="213048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4124160" y="2177640"/>
                  <a:ext cx="37800" cy="44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3992400" y="21420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3992400" y="21319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4" name=""/>
              <p:cNvGrpSpPr/>
              <p:nvPr/>
            </p:nvGrpSpPr>
            <p:grpSpPr>
              <a:xfrm>
                <a:off x="3934080" y="2152800"/>
                <a:ext cx="227880" cy="139320"/>
                <a:chOff x="3934080" y="2152800"/>
                <a:chExt cx="227880" cy="139320"/>
              </a:xfrm>
            </p:grpSpPr>
            <p:sp>
              <p:nvSpPr>
                <p:cNvPr id="2505" name=""/>
                <p:cNvSpPr/>
                <p:nvPr/>
              </p:nvSpPr>
              <p:spPr>
                <a:xfrm>
                  <a:off x="3934080" y="21528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4124160" y="219852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3992400" y="216360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3992400" y="215280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9" name=""/>
              <p:cNvGrpSpPr/>
              <p:nvPr/>
            </p:nvGrpSpPr>
            <p:grpSpPr>
              <a:xfrm>
                <a:off x="3934080" y="2176560"/>
                <a:ext cx="227880" cy="139320"/>
                <a:chOff x="3934080" y="2176560"/>
                <a:chExt cx="227880" cy="139320"/>
              </a:xfrm>
            </p:grpSpPr>
            <p:sp>
              <p:nvSpPr>
                <p:cNvPr id="2510" name=""/>
                <p:cNvSpPr/>
                <p:nvPr/>
              </p:nvSpPr>
              <p:spPr>
                <a:xfrm>
                  <a:off x="3934080" y="217656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4124160" y="2220840"/>
                  <a:ext cx="3780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3992400" y="218592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3992400" y="217800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4" name=""/>
              <p:cNvGrpSpPr/>
              <p:nvPr/>
            </p:nvGrpSpPr>
            <p:grpSpPr>
              <a:xfrm>
                <a:off x="3934440" y="2200320"/>
                <a:ext cx="227520" cy="135720"/>
                <a:chOff x="3934440" y="2200320"/>
                <a:chExt cx="227520" cy="135720"/>
              </a:xfrm>
            </p:grpSpPr>
            <p:sp>
              <p:nvSpPr>
                <p:cNvPr id="2515" name=""/>
                <p:cNvSpPr/>
                <p:nvPr/>
              </p:nvSpPr>
              <p:spPr>
                <a:xfrm>
                  <a:off x="3934440" y="220032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4124160" y="224640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3992400" y="221148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3992400" y="2200320"/>
                  <a:ext cx="114120" cy="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9" name=""/>
              <p:cNvGrpSpPr/>
              <p:nvPr/>
            </p:nvGrpSpPr>
            <p:grpSpPr>
              <a:xfrm>
                <a:off x="3934440" y="2222640"/>
                <a:ext cx="227520" cy="135720"/>
                <a:chOff x="3934440" y="2222640"/>
                <a:chExt cx="227520" cy="13572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3934440" y="2222640"/>
                  <a:ext cx="227520" cy="135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4124160" y="2265480"/>
                  <a:ext cx="3780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3992400" y="22348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3992400" y="222264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4" name=""/>
              <p:cNvGrpSpPr/>
              <p:nvPr/>
            </p:nvGrpSpPr>
            <p:grpSpPr>
              <a:xfrm>
                <a:off x="3934080" y="2244600"/>
                <a:ext cx="227880" cy="139320"/>
                <a:chOff x="3934080" y="2244600"/>
                <a:chExt cx="227880" cy="139320"/>
              </a:xfrm>
            </p:grpSpPr>
            <p:sp>
              <p:nvSpPr>
                <p:cNvPr id="2525" name=""/>
                <p:cNvSpPr/>
                <p:nvPr/>
              </p:nvSpPr>
              <p:spPr>
                <a:xfrm>
                  <a:off x="3934080" y="224460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4124160" y="229248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3992400" y="225576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3992400" y="224640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9" name=""/>
              <p:cNvSpPr/>
              <p:nvPr/>
            </p:nvSpPr>
            <p:spPr>
              <a:xfrm>
                <a:off x="3934440" y="210816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4124160" y="215100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>
                <a:off x="3809880" y="2106720"/>
                <a:ext cx="23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2" name=""/>
              <p:cNvGrpSpPr/>
              <p:nvPr/>
            </p:nvGrpSpPr>
            <p:grpSpPr>
              <a:xfrm>
                <a:off x="3934080" y="2266920"/>
                <a:ext cx="227880" cy="139320"/>
                <a:chOff x="3934080" y="2266920"/>
                <a:chExt cx="227880" cy="139320"/>
              </a:xfrm>
            </p:grpSpPr>
            <p:sp>
              <p:nvSpPr>
                <p:cNvPr id="2533" name=""/>
                <p:cNvSpPr/>
                <p:nvPr/>
              </p:nvSpPr>
              <p:spPr>
                <a:xfrm>
                  <a:off x="3934080" y="2266920"/>
                  <a:ext cx="227880" cy="13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09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09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4124160" y="2313720"/>
                  <a:ext cx="378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3992400" y="2278080"/>
                  <a:ext cx="190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3992400" y="2266920"/>
                  <a:ext cx="11412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045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045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7" name=""/>
              <p:cNvGrpSpPr/>
              <p:nvPr/>
            </p:nvGrpSpPr>
            <p:grpSpPr>
              <a:xfrm>
                <a:off x="3934440" y="2290680"/>
                <a:ext cx="227520" cy="136440"/>
                <a:chOff x="3934440" y="2290680"/>
                <a:chExt cx="227520" cy="136440"/>
              </a:xfrm>
            </p:grpSpPr>
            <p:sp>
              <p:nvSpPr>
                <p:cNvPr id="2538" name=""/>
                <p:cNvSpPr/>
                <p:nvPr/>
              </p:nvSpPr>
              <p:spPr>
                <a:xfrm>
                  <a:off x="3934440" y="2290680"/>
                  <a:ext cx="227520" cy="13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4124160" y="2338560"/>
                  <a:ext cx="3780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0057"/>
                      </a:moveTo>
                      <a:arcTo wR="10800" hR="10800" stAng="-236711" swAng="5636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0057"/>
                      </a:moveTo>
                      <a:arcTo wR="10800" hR="10800" stAng="-236711" swAng="563671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3992400" y="2303640"/>
                  <a:ext cx="19080" cy="2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855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85567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3992400" y="2292480"/>
                  <a:ext cx="1141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" y="10057"/>
                      </a:moveTo>
                      <a:arcTo wR="10800" hR="10800" stAng="-10563289" swAng="5071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" y="10057"/>
                      </a:moveTo>
                      <a:arcTo wR="10800" hR="10800" stAng="-10563289" swAng="50710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2" name=""/>
              <p:cNvSpPr/>
              <p:nvPr/>
            </p:nvSpPr>
            <p:spPr>
              <a:xfrm flipH="1">
                <a:off x="3828600" y="2381400"/>
                <a:ext cx="1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3" name=""/>
          <p:cNvSpPr/>
          <p:nvPr/>
        </p:nvSpPr>
        <p:spPr>
          <a:xfrm flipV="1">
            <a:off x="4076640" y="10094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4" name=""/>
          <p:cNvGrpSpPr/>
          <p:nvPr/>
        </p:nvGrpSpPr>
        <p:grpSpPr>
          <a:xfrm>
            <a:off x="2787480" y="1211400"/>
            <a:ext cx="812880" cy="811440"/>
            <a:chOff x="2787480" y="1211400"/>
            <a:chExt cx="812880" cy="811440"/>
          </a:xfrm>
        </p:grpSpPr>
        <p:grpSp>
          <p:nvGrpSpPr>
            <p:cNvPr id="2545" name=""/>
            <p:cNvGrpSpPr/>
            <p:nvPr/>
          </p:nvGrpSpPr>
          <p:grpSpPr>
            <a:xfrm>
              <a:off x="2787480" y="1211400"/>
              <a:ext cx="812880" cy="811440"/>
              <a:chOff x="2787480" y="1211400"/>
              <a:chExt cx="812880" cy="811440"/>
            </a:xfrm>
          </p:grpSpPr>
          <p:sp>
            <p:nvSpPr>
              <p:cNvPr id="2546" name=""/>
              <p:cNvSpPr/>
              <p:nvPr/>
            </p:nvSpPr>
            <p:spPr>
              <a:xfrm rot="19800000">
                <a:off x="2895480" y="132084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rot="19800000">
                <a:off x="323676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8" name=""/>
            <p:cNvSpPr/>
            <p:nvPr/>
          </p:nvSpPr>
          <p:spPr>
            <a:xfrm rot="19800000">
              <a:off x="3141360" y="15505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2971440" y="2077920"/>
            <a:ext cx="352440" cy="525600"/>
            <a:chOff x="2971440" y="2077920"/>
            <a:chExt cx="352440" cy="525600"/>
          </a:xfrm>
        </p:grpSpPr>
        <p:grpSp>
          <p:nvGrpSpPr>
            <p:cNvPr id="2550" name=""/>
            <p:cNvGrpSpPr/>
            <p:nvPr/>
          </p:nvGrpSpPr>
          <p:grpSpPr>
            <a:xfrm>
              <a:off x="3197160" y="2455920"/>
              <a:ext cx="82440" cy="147600"/>
              <a:chOff x="3197160" y="2455920"/>
              <a:chExt cx="82440" cy="147600"/>
            </a:xfrm>
          </p:grpSpPr>
          <p:sp>
            <p:nvSpPr>
              <p:cNvPr id="2551" name=""/>
              <p:cNvSpPr/>
              <p:nvPr/>
            </p:nvSpPr>
            <p:spPr>
              <a:xfrm>
                <a:off x="31971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1971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3" name=""/>
            <p:cNvSpPr/>
            <p:nvPr/>
          </p:nvSpPr>
          <p:spPr>
            <a:xfrm>
              <a:off x="31687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3095640" y="2130480"/>
              <a:ext cx="228240" cy="135720"/>
              <a:chOff x="3095640" y="2130480"/>
              <a:chExt cx="228240" cy="135720"/>
            </a:xfrm>
          </p:grpSpPr>
          <p:sp>
            <p:nvSpPr>
              <p:cNvPr id="2555" name=""/>
              <p:cNvSpPr/>
              <p:nvPr/>
            </p:nvSpPr>
            <p:spPr>
              <a:xfrm>
                <a:off x="30956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2860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1543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1543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9" name=""/>
            <p:cNvGrpSpPr/>
            <p:nvPr/>
          </p:nvGrpSpPr>
          <p:grpSpPr>
            <a:xfrm>
              <a:off x="3095280" y="2152800"/>
              <a:ext cx="228600" cy="139320"/>
              <a:chOff x="3095280" y="2152800"/>
              <a:chExt cx="228600" cy="139320"/>
            </a:xfrm>
          </p:grpSpPr>
          <p:sp>
            <p:nvSpPr>
              <p:cNvPr id="2560" name=""/>
              <p:cNvSpPr/>
              <p:nvPr/>
            </p:nvSpPr>
            <p:spPr>
              <a:xfrm>
                <a:off x="30952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2860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1543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1543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4" name=""/>
            <p:cNvGrpSpPr/>
            <p:nvPr/>
          </p:nvGrpSpPr>
          <p:grpSpPr>
            <a:xfrm>
              <a:off x="3095280" y="2176560"/>
              <a:ext cx="228600" cy="139320"/>
              <a:chOff x="3095280" y="2176560"/>
              <a:chExt cx="228600" cy="139320"/>
            </a:xfrm>
          </p:grpSpPr>
          <p:sp>
            <p:nvSpPr>
              <p:cNvPr id="2565" name=""/>
              <p:cNvSpPr/>
              <p:nvPr/>
            </p:nvSpPr>
            <p:spPr>
              <a:xfrm>
                <a:off x="30952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2860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1543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1543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9" name=""/>
            <p:cNvGrpSpPr/>
            <p:nvPr/>
          </p:nvGrpSpPr>
          <p:grpSpPr>
            <a:xfrm>
              <a:off x="3095640" y="2200320"/>
              <a:ext cx="228240" cy="135720"/>
              <a:chOff x="3095640" y="2200320"/>
              <a:chExt cx="228240" cy="135720"/>
            </a:xfrm>
          </p:grpSpPr>
          <p:sp>
            <p:nvSpPr>
              <p:cNvPr id="2570" name=""/>
              <p:cNvSpPr/>
              <p:nvPr/>
            </p:nvSpPr>
            <p:spPr>
              <a:xfrm>
                <a:off x="30956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2860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1543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1543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4" name=""/>
            <p:cNvGrpSpPr/>
            <p:nvPr/>
          </p:nvGrpSpPr>
          <p:grpSpPr>
            <a:xfrm>
              <a:off x="3095640" y="2222640"/>
              <a:ext cx="228240" cy="135720"/>
              <a:chOff x="3095640" y="2222640"/>
              <a:chExt cx="228240" cy="135720"/>
            </a:xfrm>
          </p:grpSpPr>
          <p:sp>
            <p:nvSpPr>
              <p:cNvPr id="2575" name=""/>
              <p:cNvSpPr/>
              <p:nvPr/>
            </p:nvSpPr>
            <p:spPr>
              <a:xfrm>
                <a:off x="30956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2860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1543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1543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9" name=""/>
            <p:cNvGrpSpPr/>
            <p:nvPr/>
          </p:nvGrpSpPr>
          <p:grpSpPr>
            <a:xfrm>
              <a:off x="3095280" y="2244600"/>
              <a:ext cx="228600" cy="139320"/>
              <a:chOff x="3095280" y="2244600"/>
              <a:chExt cx="228600" cy="139320"/>
            </a:xfrm>
          </p:grpSpPr>
          <p:sp>
            <p:nvSpPr>
              <p:cNvPr id="2580" name=""/>
              <p:cNvSpPr/>
              <p:nvPr/>
            </p:nvSpPr>
            <p:spPr>
              <a:xfrm>
                <a:off x="30952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2860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1543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1543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4" name=""/>
            <p:cNvSpPr/>
            <p:nvPr/>
          </p:nvSpPr>
          <p:spPr>
            <a:xfrm>
              <a:off x="30956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2860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H="1">
              <a:off x="29714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7" name=""/>
            <p:cNvGrpSpPr/>
            <p:nvPr/>
          </p:nvGrpSpPr>
          <p:grpSpPr>
            <a:xfrm>
              <a:off x="3095280" y="2266920"/>
              <a:ext cx="228600" cy="139320"/>
              <a:chOff x="3095280" y="2266920"/>
              <a:chExt cx="228600" cy="139320"/>
            </a:xfrm>
          </p:grpSpPr>
          <p:sp>
            <p:nvSpPr>
              <p:cNvPr id="2588" name=""/>
              <p:cNvSpPr/>
              <p:nvPr/>
            </p:nvSpPr>
            <p:spPr>
              <a:xfrm>
                <a:off x="30952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2860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1543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1543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2" name=""/>
            <p:cNvGrpSpPr/>
            <p:nvPr/>
          </p:nvGrpSpPr>
          <p:grpSpPr>
            <a:xfrm>
              <a:off x="3095640" y="2290680"/>
              <a:ext cx="228240" cy="136440"/>
              <a:chOff x="3095640" y="2290680"/>
              <a:chExt cx="228240" cy="136440"/>
            </a:xfrm>
          </p:grpSpPr>
          <p:sp>
            <p:nvSpPr>
              <p:cNvPr id="2593" name=""/>
              <p:cNvSpPr/>
              <p:nvPr/>
            </p:nvSpPr>
            <p:spPr>
              <a:xfrm>
                <a:off x="30956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2860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1543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1543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7" name=""/>
            <p:cNvSpPr/>
            <p:nvPr/>
          </p:nvSpPr>
          <p:spPr>
            <a:xfrm flipH="1">
              <a:off x="29908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8" name=""/>
          <p:cNvGrpSpPr/>
          <p:nvPr/>
        </p:nvGrpSpPr>
        <p:grpSpPr>
          <a:xfrm>
            <a:off x="4524120" y="1203480"/>
            <a:ext cx="809280" cy="807480"/>
            <a:chOff x="4524120" y="1203480"/>
            <a:chExt cx="809280" cy="807480"/>
          </a:xfrm>
        </p:grpSpPr>
        <p:grpSp>
          <p:nvGrpSpPr>
            <p:cNvPr id="2599" name=""/>
            <p:cNvGrpSpPr/>
            <p:nvPr/>
          </p:nvGrpSpPr>
          <p:grpSpPr>
            <a:xfrm>
              <a:off x="4524120" y="1203480"/>
              <a:ext cx="809280" cy="807480"/>
              <a:chOff x="4524120" y="1203480"/>
              <a:chExt cx="809280" cy="807480"/>
            </a:xfrm>
          </p:grpSpPr>
          <p:sp>
            <p:nvSpPr>
              <p:cNvPr id="2600" name=""/>
              <p:cNvSpPr/>
              <p:nvPr/>
            </p:nvSpPr>
            <p:spPr>
              <a:xfrm rot="1740000">
                <a:off x="4630320" y="1310760"/>
                <a:ext cx="596880" cy="59220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rot="1740000">
                <a:off x="4707000" y="171612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2" name=""/>
            <p:cNvSpPr/>
            <p:nvPr/>
          </p:nvSpPr>
          <p:spPr>
            <a:xfrm rot="1740000">
              <a:off x="4860720" y="1555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4647960" y="2077920"/>
            <a:ext cx="352440" cy="525600"/>
            <a:chOff x="4647960" y="2077920"/>
            <a:chExt cx="352440" cy="525600"/>
          </a:xfrm>
        </p:grpSpPr>
        <p:grpSp>
          <p:nvGrpSpPr>
            <p:cNvPr id="2604" name=""/>
            <p:cNvGrpSpPr/>
            <p:nvPr/>
          </p:nvGrpSpPr>
          <p:grpSpPr>
            <a:xfrm>
              <a:off x="4873680" y="2455920"/>
              <a:ext cx="82440" cy="147600"/>
              <a:chOff x="4873680" y="2455920"/>
              <a:chExt cx="82440" cy="147600"/>
            </a:xfrm>
          </p:grpSpPr>
          <p:sp>
            <p:nvSpPr>
              <p:cNvPr id="2605" name=""/>
              <p:cNvSpPr/>
              <p:nvPr/>
            </p:nvSpPr>
            <p:spPr>
              <a:xfrm>
                <a:off x="487368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487368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7" name=""/>
            <p:cNvSpPr/>
            <p:nvPr/>
          </p:nvSpPr>
          <p:spPr>
            <a:xfrm>
              <a:off x="484488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8" name=""/>
            <p:cNvGrpSpPr/>
            <p:nvPr/>
          </p:nvGrpSpPr>
          <p:grpSpPr>
            <a:xfrm>
              <a:off x="4772160" y="2130480"/>
              <a:ext cx="228240" cy="135720"/>
              <a:chOff x="4772160" y="2130480"/>
              <a:chExt cx="228240" cy="135720"/>
            </a:xfrm>
          </p:grpSpPr>
          <p:sp>
            <p:nvSpPr>
              <p:cNvPr id="2609" name=""/>
              <p:cNvSpPr/>
              <p:nvPr/>
            </p:nvSpPr>
            <p:spPr>
              <a:xfrm>
                <a:off x="477216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96260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830840" y="2142000"/>
                <a:ext cx="1836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483084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3" name=""/>
            <p:cNvGrpSpPr/>
            <p:nvPr/>
          </p:nvGrpSpPr>
          <p:grpSpPr>
            <a:xfrm>
              <a:off x="4771800" y="2152800"/>
              <a:ext cx="228600" cy="139320"/>
              <a:chOff x="4771800" y="2152800"/>
              <a:chExt cx="228600" cy="139320"/>
            </a:xfrm>
          </p:grpSpPr>
          <p:sp>
            <p:nvSpPr>
              <p:cNvPr id="2614" name=""/>
              <p:cNvSpPr/>
              <p:nvPr/>
            </p:nvSpPr>
            <p:spPr>
              <a:xfrm>
                <a:off x="477180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96260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830840" y="2163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483084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8" name=""/>
            <p:cNvGrpSpPr/>
            <p:nvPr/>
          </p:nvGrpSpPr>
          <p:grpSpPr>
            <a:xfrm>
              <a:off x="4771800" y="2176560"/>
              <a:ext cx="228600" cy="139320"/>
              <a:chOff x="4771800" y="2176560"/>
              <a:chExt cx="228600" cy="139320"/>
            </a:xfrm>
          </p:grpSpPr>
          <p:sp>
            <p:nvSpPr>
              <p:cNvPr id="2619" name=""/>
              <p:cNvSpPr/>
              <p:nvPr/>
            </p:nvSpPr>
            <p:spPr>
              <a:xfrm>
                <a:off x="477180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496260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830840" y="21859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483084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3" name=""/>
            <p:cNvGrpSpPr/>
            <p:nvPr/>
          </p:nvGrpSpPr>
          <p:grpSpPr>
            <a:xfrm>
              <a:off x="4772160" y="2200320"/>
              <a:ext cx="228240" cy="135720"/>
              <a:chOff x="4772160" y="2200320"/>
              <a:chExt cx="228240" cy="135720"/>
            </a:xfrm>
          </p:grpSpPr>
          <p:sp>
            <p:nvSpPr>
              <p:cNvPr id="2624" name=""/>
              <p:cNvSpPr/>
              <p:nvPr/>
            </p:nvSpPr>
            <p:spPr>
              <a:xfrm>
                <a:off x="477216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496260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4830840" y="221148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483084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8" name=""/>
            <p:cNvGrpSpPr/>
            <p:nvPr/>
          </p:nvGrpSpPr>
          <p:grpSpPr>
            <a:xfrm>
              <a:off x="4772160" y="2222640"/>
              <a:ext cx="228240" cy="135720"/>
              <a:chOff x="4772160" y="2222640"/>
              <a:chExt cx="228240" cy="135720"/>
            </a:xfrm>
          </p:grpSpPr>
          <p:sp>
            <p:nvSpPr>
              <p:cNvPr id="2629" name=""/>
              <p:cNvSpPr/>
              <p:nvPr/>
            </p:nvSpPr>
            <p:spPr>
              <a:xfrm>
                <a:off x="477216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496260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4830840" y="2234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483084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3" name=""/>
            <p:cNvGrpSpPr/>
            <p:nvPr/>
          </p:nvGrpSpPr>
          <p:grpSpPr>
            <a:xfrm>
              <a:off x="4771800" y="2244600"/>
              <a:ext cx="228600" cy="139320"/>
              <a:chOff x="4771800" y="2244600"/>
              <a:chExt cx="228600" cy="139320"/>
            </a:xfrm>
          </p:grpSpPr>
          <p:sp>
            <p:nvSpPr>
              <p:cNvPr id="2634" name=""/>
              <p:cNvSpPr/>
              <p:nvPr/>
            </p:nvSpPr>
            <p:spPr>
              <a:xfrm>
                <a:off x="477180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496260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4830840" y="225576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483084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8" name=""/>
            <p:cNvSpPr/>
            <p:nvPr/>
          </p:nvSpPr>
          <p:spPr>
            <a:xfrm>
              <a:off x="477216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496260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464796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1" name=""/>
            <p:cNvGrpSpPr/>
            <p:nvPr/>
          </p:nvGrpSpPr>
          <p:grpSpPr>
            <a:xfrm>
              <a:off x="4771800" y="2266920"/>
              <a:ext cx="228600" cy="139320"/>
              <a:chOff x="4771800" y="2266920"/>
              <a:chExt cx="228600" cy="139320"/>
            </a:xfrm>
          </p:grpSpPr>
          <p:sp>
            <p:nvSpPr>
              <p:cNvPr id="2642" name=""/>
              <p:cNvSpPr/>
              <p:nvPr/>
            </p:nvSpPr>
            <p:spPr>
              <a:xfrm>
                <a:off x="477180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96260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830840" y="22780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83084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6" name=""/>
            <p:cNvGrpSpPr/>
            <p:nvPr/>
          </p:nvGrpSpPr>
          <p:grpSpPr>
            <a:xfrm>
              <a:off x="4772160" y="2290680"/>
              <a:ext cx="228240" cy="136440"/>
              <a:chOff x="4772160" y="2290680"/>
              <a:chExt cx="228240" cy="136440"/>
            </a:xfrm>
          </p:grpSpPr>
          <p:sp>
            <p:nvSpPr>
              <p:cNvPr id="2647" name=""/>
              <p:cNvSpPr/>
              <p:nvPr/>
            </p:nvSpPr>
            <p:spPr>
              <a:xfrm>
                <a:off x="477216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496260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830840" y="2303640"/>
                <a:ext cx="1836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83084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1" name=""/>
            <p:cNvSpPr/>
            <p:nvPr/>
          </p:nvSpPr>
          <p:spPr>
            <a:xfrm flipH="1">
              <a:off x="466740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2" name=""/>
          <p:cNvGrpSpPr/>
          <p:nvPr/>
        </p:nvGrpSpPr>
        <p:grpSpPr>
          <a:xfrm>
            <a:off x="6080040" y="1353960"/>
            <a:ext cx="695520" cy="597240"/>
            <a:chOff x="6080040" y="1353960"/>
            <a:chExt cx="695520" cy="597240"/>
          </a:xfrm>
        </p:grpSpPr>
        <p:grpSp>
          <p:nvGrpSpPr>
            <p:cNvPr id="2653" name=""/>
            <p:cNvGrpSpPr/>
            <p:nvPr/>
          </p:nvGrpSpPr>
          <p:grpSpPr>
            <a:xfrm>
              <a:off x="6080040" y="1353960"/>
              <a:ext cx="695520" cy="597240"/>
              <a:chOff x="6080040" y="1353960"/>
              <a:chExt cx="695520" cy="597240"/>
            </a:xfrm>
          </p:grpSpPr>
          <p:sp>
            <p:nvSpPr>
              <p:cNvPr id="2654" name=""/>
              <p:cNvSpPr/>
              <p:nvPr/>
            </p:nvSpPr>
            <p:spPr>
              <a:xfrm>
                <a:off x="618336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080040" y="15620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6" name=""/>
            <p:cNvSpPr/>
            <p:nvPr/>
          </p:nvSpPr>
          <p:spPr>
            <a:xfrm>
              <a:off x="6391440" y="1593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7" name=""/>
          <p:cNvGrpSpPr/>
          <p:nvPr/>
        </p:nvGrpSpPr>
        <p:grpSpPr>
          <a:xfrm>
            <a:off x="6171840" y="2077920"/>
            <a:ext cx="352440" cy="525600"/>
            <a:chOff x="6171840" y="2077920"/>
            <a:chExt cx="352440" cy="525600"/>
          </a:xfrm>
        </p:grpSpPr>
        <p:grpSp>
          <p:nvGrpSpPr>
            <p:cNvPr id="2658" name=""/>
            <p:cNvGrpSpPr/>
            <p:nvPr/>
          </p:nvGrpSpPr>
          <p:grpSpPr>
            <a:xfrm>
              <a:off x="6397560" y="2455920"/>
              <a:ext cx="82440" cy="147600"/>
              <a:chOff x="6397560" y="2455920"/>
              <a:chExt cx="82440" cy="147600"/>
            </a:xfrm>
          </p:grpSpPr>
          <p:sp>
            <p:nvSpPr>
              <p:cNvPr id="2659" name=""/>
              <p:cNvSpPr/>
              <p:nvPr/>
            </p:nvSpPr>
            <p:spPr>
              <a:xfrm>
                <a:off x="63975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3975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1" name=""/>
            <p:cNvSpPr/>
            <p:nvPr/>
          </p:nvSpPr>
          <p:spPr>
            <a:xfrm>
              <a:off x="63691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2" name=""/>
            <p:cNvGrpSpPr/>
            <p:nvPr/>
          </p:nvGrpSpPr>
          <p:grpSpPr>
            <a:xfrm>
              <a:off x="6296040" y="2130480"/>
              <a:ext cx="228240" cy="135720"/>
              <a:chOff x="6296040" y="2130480"/>
              <a:chExt cx="228240" cy="135720"/>
            </a:xfrm>
          </p:grpSpPr>
          <p:sp>
            <p:nvSpPr>
              <p:cNvPr id="2663" name=""/>
              <p:cNvSpPr/>
              <p:nvPr/>
            </p:nvSpPr>
            <p:spPr>
              <a:xfrm>
                <a:off x="62960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4864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3547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3547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7" name=""/>
            <p:cNvGrpSpPr/>
            <p:nvPr/>
          </p:nvGrpSpPr>
          <p:grpSpPr>
            <a:xfrm>
              <a:off x="6295680" y="2152800"/>
              <a:ext cx="228600" cy="139320"/>
              <a:chOff x="6295680" y="2152800"/>
              <a:chExt cx="228600" cy="139320"/>
            </a:xfrm>
          </p:grpSpPr>
          <p:sp>
            <p:nvSpPr>
              <p:cNvPr id="2668" name=""/>
              <p:cNvSpPr/>
              <p:nvPr/>
            </p:nvSpPr>
            <p:spPr>
              <a:xfrm>
                <a:off x="62956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4864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3547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3547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2" name=""/>
            <p:cNvGrpSpPr/>
            <p:nvPr/>
          </p:nvGrpSpPr>
          <p:grpSpPr>
            <a:xfrm>
              <a:off x="6295680" y="2176560"/>
              <a:ext cx="228600" cy="139320"/>
              <a:chOff x="6295680" y="2176560"/>
              <a:chExt cx="228600" cy="139320"/>
            </a:xfrm>
          </p:grpSpPr>
          <p:sp>
            <p:nvSpPr>
              <p:cNvPr id="2673" name=""/>
              <p:cNvSpPr/>
              <p:nvPr/>
            </p:nvSpPr>
            <p:spPr>
              <a:xfrm>
                <a:off x="62956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4864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3547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63547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7" name=""/>
            <p:cNvGrpSpPr/>
            <p:nvPr/>
          </p:nvGrpSpPr>
          <p:grpSpPr>
            <a:xfrm>
              <a:off x="6296040" y="2200320"/>
              <a:ext cx="228240" cy="135720"/>
              <a:chOff x="6296040" y="2200320"/>
              <a:chExt cx="228240" cy="135720"/>
            </a:xfrm>
          </p:grpSpPr>
          <p:sp>
            <p:nvSpPr>
              <p:cNvPr id="2678" name=""/>
              <p:cNvSpPr/>
              <p:nvPr/>
            </p:nvSpPr>
            <p:spPr>
              <a:xfrm>
                <a:off x="62960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64864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63547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63547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2" name=""/>
            <p:cNvGrpSpPr/>
            <p:nvPr/>
          </p:nvGrpSpPr>
          <p:grpSpPr>
            <a:xfrm>
              <a:off x="6296040" y="2222640"/>
              <a:ext cx="228240" cy="135720"/>
              <a:chOff x="6296040" y="2222640"/>
              <a:chExt cx="228240" cy="135720"/>
            </a:xfrm>
          </p:grpSpPr>
          <p:sp>
            <p:nvSpPr>
              <p:cNvPr id="2683" name=""/>
              <p:cNvSpPr/>
              <p:nvPr/>
            </p:nvSpPr>
            <p:spPr>
              <a:xfrm>
                <a:off x="62960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4864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3547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63547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7" name=""/>
            <p:cNvGrpSpPr/>
            <p:nvPr/>
          </p:nvGrpSpPr>
          <p:grpSpPr>
            <a:xfrm>
              <a:off x="6295680" y="2244600"/>
              <a:ext cx="228600" cy="139320"/>
              <a:chOff x="6295680" y="2244600"/>
              <a:chExt cx="228600" cy="139320"/>
            </a:xfrm>
          </p:grpSpPr>
          <p:sp>
            <p:nvSpPr>
              <p:cNvPr id="2688" name=""/>
              <p:cNvSpPr/>
              <p:nvPr/>
            </p:nvSpPr>
            <p:spPr>
              <a:xfrm>
                <a:off x="62956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64864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63547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63547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2" name=""/>
            <p:cNvSpPr/>
            <p:nvPr/>
          </p:nvSpPr>
          <p:spPr>
            <a:xfrm>
              <a:off x="62960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4864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61718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5" name=""/>
            <p:cNvGrpSpPr/>
            <p:nvPr/>
          </p:nvGrpSpPr>
          <p:grpSpPr>
            <a:xfrm>
              <a:off x="6295680" y="2266920"/>
              <a:ext cx="228600" cy="139320"/>
              <a:chOff x="6295680" y="2266920"/>
              <a:chExt cx="228600" cy="139320"/>
            </a:xfrm>
          </p:grpSpPr>
          <p:sp>
            <p:nvSpPr>
              <p:cNvPr id="2696" name=""/>
              <p:cNvSpPr/>
              <p:nvPr/>
            </p:nvSpPr>
            <p:spPr>
              <a:xfrm>
                <a:off x="62956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4864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3547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3547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0" name=""/>
            <p:cNvGrpSpPr/>
            <p:nvPr/>
          </p:nvGrpSpPr>
          <p:grpSpPr>
            <a:xfrm>
              <a:off x="6296040" y="2290680"/>
              <a:ext cx="228240" cy="136440"/>
              <a:chOff x="6296040" y="2290680"/>
              <a:chExt cx="228240" cy="136440"/>
            </a:xfrm>
          </p:grpSpPr>
          <p:sp>
            <p:nvSpPr>
              <p:cNvPr id="2701" name=""/>
              <p:cNvSpPr/>
              <p:nvPr/>
            </p:nvSpPr>
            <p:spPr>
              <a:xfrm>
                <a:off x="62960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64864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3547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3547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5" name=""/>
            <p:cNvSpPr/>
            <p:nvPr/>
          </p:nvSpPr>
          <p:spPr>
            <a:xfrm flipH="1">
              <a:off x="61912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1279440" y="1353960"/>
            <a:ext cx="695520" cy="597240"/>
            <a:chOff x="1279440" y="1353960"/>
            <a:chExt cx="695520" cy="597240"/>
          </a:xfrm>
        </p:grpSpPr>
        <p:grpSp>
          <p:nvGrpSpPr>
            <p:cNvPr id="2707" name=""/>
            <p:cNvGrpSpPr/>
            <p:nvPr/>
          </p:nvGrpSpPr>
          <p:grpSpPr>
            <a:xfrm>
              <a:off x="1279440" y="1353960"/>
              <a:ext cx="695520" cy="597240"/>
              <a:chOff x="1279440" y="1353960"/>
              <a:chExt cx="695520" cy="597240"/>
            </a:xfrm>
          </p:grpSpPr>
          <p:sp>
            <p:nvSpPr>
              <p:cNvPr id="2708" name=""/>
              <p:cNvSpPr/>
              <p:nvPr/>
            </p:nvSpPr>
            <p:spPr>
              <a:xfrm>
                <a:off x="1279440" y="1353960"/>
                <a:ext cx="592200" cy="5972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714680" y="1549440"/>
                <a:ext cx="260280" cy="1936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0" name=""/>
            <p:cNvSpPr/>
            <p:nvPr/>
          </p:nvSpPr>
          <p:spPr>
            <a:xfrm>
              <a:off x="151920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1" name=""/>
          <p:cNvGrpSpPr/>
          <p:nvPr/>
        </p:nvGrpSpPr>
        <p:grpSpPr>
          <a:xfrm>
            <a:off x="1371240" y="2077920"/>
            <a:ext cx="352440" cy="525600"/>
            <a:chOff x="1371240" y="2077920"/>
            <a:chExt cx="352440" cy="525600"/>
          </a:xfrm>
        </p:grpSpPr>
        <p:grpSp>
          <p:nvGrpSpPr>
            <p:cNvPr id="2712" name=""/>
            <p:cNvGrpSpPr/>
            <p:nvPr/>
          </p:nvGrpSpPr>
          <p:grpSpPr>
            <a:xfrm>
              <a:off x="1596960" y="2455920"/>
              <a:ext cx="82440" cy="147600"/>
              <a:chOff x="1596960" y="2455920"/>
              <a:chExt cx="82440" cy="147600"/>
            </a:xfrm>
          </p:grpSpPr>
          <p:sp>
            <p:nvSpPr>
              <p:cNvPr id="2713" name=""/>
              <p:cNvSpPr/>
              <p:nvPr/>
            </p:nvSpPr>
            <p:spPr>
              <a:xfrm>
                <a:off x="159696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59696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5" name=""/>
            <p:cNvSpPr/>
            <p:nvPr/>
          </p:nvSpPr>
          <p:spPr>
            <a:xfrm>
              <a:off x="1568520" y="2077920"/>
              <a:ext cx="12996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6" name=""/>
            <p:cNvGrpSpPr/>
            <p:nvPr/>
          </p:nvGrpSpPr>
          <p:grpSpPr>
            <a:xfrm>
              <a:off x="1495440" y="2130480"/>
              <a:ext cx="228240" cy="135720"/>
              <a:chOff x="1495440" y="2130480"/>
              <a:chExt cx="228240" cy="135720"/>
            </a:xfrm>
          </p:grpSpPr>
          <p:sp>
            <p:nvSpPr>
              <p:cNvPr id="2717" name=""/>
              <p:cNvSpPr/>
              <p:nvPr/>
            </p:nvSpPr>
            <p:spPr>
              <a:xfrm>
                <a:off x="1495440" y="213048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68588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155412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55412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1" name=""/>
            <p:cNvGrpSpPr/>
            <p:nvPr/>
          </p:nvGrpSpPr>
          <p:grpSpPr>
            <a:xfrm>
              <a:off x="1495080" y="2152800"/>
              <a:ext cx="228600" cy="139320"/>
              <a:chOff x="1495080" y="2152800"/>
              <a:chExt cx="228600" cy="139320"/>
            </a:xfrm>
          </p:grpSpPr>
          <p:sp>
            <p:nvSpPr>
              <p:cNvPr id="2722" name=""/>
              <p:cNvSpPr/>
              <p:nvPr/>
            </p:nvSpPr>
            <p:spPr>
              <a:xfrm>
                <a:off x="1495080" y="21528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168588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155412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155412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6" name=""/>
            <p:cNvGrpSpPr/>
            <p:nvPr/>
          </p:nvGrpSpPr>
          <p:grpSpPr>
            <a:xfrm>
              <a:off x="1495080" y="2176560"/>
              <a:ext cx="228600" cy="139320"/>
              <a:chOff x="1495080" y="2176560"/>
              <a:chExt cx="228600" cy="139320"/>
            </a:xfrm>
          </p:grpSpPr>
          <p:sp>
            <p:nvSpPr>
              <p:cNvPr id="2727" name=""/>
              <p:cNvSpPr/>
              <p:nvPr/>
            </p:nvSpPr>
            <p:spPr>
              <a:xfrm>
                <a:off x="1495080" y="217656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68588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55412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55412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1" name=""/>
            <p:cNvGrpSpPr/>
            <p:nvPr/>
          </p:nvGrpSpPr>
          <p:grpSpPr>
            <a:xfrm>
              <a:off x="1495440" y="2200320"/>
              <a:ext cx="228240" cy="135720"/>
              <a:chOff x="1495440" y="2200320"/>
              <a:chExt cx="228240" cy="135720"/>
            </a:xfrm>
          </p:grpSpPr>
          <p:sp>
            <p:nvSpPr>
              <p:cNvPr id="2732" name=""/>
              <p:cNvSpPr/>
              <p:nvPr/>
            </p:nvSpPr>
            <p:spPr>
              <a:xfrm>
                <a:off x="1495440" y="220032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68588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55412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55412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6" name=""/>
            <p:cNvGrpSpPr/>
            <p:nvPr/>
          </p:nvGrpSpPr>
          <p:grpSpPr>
            <a:xfrm>
              <a:off x="1495440" y="2222640"/>
              <a:ext cx="228240" cy="135720"/>
              <a:chOff x="1495440" y="2222640"/>
              <a:chExt cx="228240" cy="135720"/>
            </a:xfrm>
          </p:grpSpPr>
          <p:sp>
            <p:nvSpPr>
              <p:cNvPr id="2737" name=""/>
              <p:cNvSpPr/>
              <p:nvPr/>
            </p:nvSpPr>
            <p:spPr>
              <a:xfrm>
                <a:off x="1495440" y="222264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68588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55412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55412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1" name=""/>
            <p:cNvGrpSpPr/>
            <p:nvPr/>
          </p:nvGrpSpPr>
          <p:grpSpPr>
            <a:xfrm>
              <a:off x="1495080" y="2244600"/>
              <a:ext cx="228600" cy="139320"/>
              <a:chOff x="1495080" y="2244600"/>
              <a:chExt cx="228600" cy="139320"/>
            </a:xfrm>
          </p:grpSpPr>
          <p:sp>
            <p:nvSpPr>
              <p:cNvPr id="2742" name=""/>
              <p:cNvSpPr/>
              <p:nvPr/>
            </p:nvSpPr>
            <p:spPr>
              <a:xfrm>
                <a:off x="1495080" y="224460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68588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55412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155412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6" name=""/>
            <p:cNvSpPr/>
            <p:nvPr/>
          </p:nvSpPr>
          <p:spPr>
            <a:xfrm>
              <a:off x="1495440" y="2108160"/>
              <a:ext cx="22824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68588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1371240" y="2106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9" name=""/>
            <p:cNvGrpSpPr/>
            <p:nvPr/>
          </p:nvGrpSpPr>
          <p:grpSpPr>
            <a:xfrm>
              <a:off x="1495080" y="2266920"/>
              <a:ext cx="228600" cy="139320"/>
              <a:chOff x="1495080" y="2266920"/>
              <a:chExt cx="228600" cy="139320"/>
            </a:xfrm>
          </p:grpSpPr>
          <p:sp>
            <p:nvSpPr>
              <p:cNvPr id="2750" name=""/>
              <p:cNvSpPr/>
              <p:nvPr/>
            </p:nvSpPr>
            <p:spPr>
              <a:xfrm>
                <a:off x="1495080" y="2266920"/>
                <a:ext cx="2286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168588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155412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155412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1495440" y="2290680"/>
              <a:ext cx="228240" cy="136440"/>
              <a:chOff x="1495440" y="2290680"/>
              <a:chExt cx="228240" cy="136440"/>
            </a:xfrm>
          </p:grpSpPr>
          <p:sp>
            <p:nvSpPr>
              <p:cNvPr id="2755" name=""/>
              <p:cNvSpPr/>
              <p:nvPr/>
            </p:nvSpPr>
            <p:spPr>
              <a:xfrm>
                <a:off x="1495440" y="229068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168588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155412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155412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9" name=""/>
            <p:cNvSpPr/>
            <p:nvPr/>
          </p:nvSpPr>
          <p:spPr>
            <a:xfrm flipH="1">
              <a:off x="1390680" y="2381400"/>
              <a:ext cx="17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0" name=""/>
          <p:cNvGrpSpPr/>
          <p:nvPr/>
        </p:nvGrpSpPr>
        <p:grpSpPr>
          <a:xfrm>
            <a:off x="261720" y="1231920"/>
            <a:ext cx="800640" cy="798480"/>
            <a:chOff x="261720" y="1231920"/>
            <a:chExt cx="800640" cy="798480"/>
          </a:xfrm>
        </p:grpSpPr>
        <p:grpSp>
          <p:nvGrpSpPr>
            <p:cNvPr id="2761" name=""/>
            <p:cNvGrpSpPr/>
            <p:nvPr/>
          </p:nvGrpSpPr>
          <p:grpSpPr>
            <a:xfrm>
              <a:off x="261720" y="1231920"/>
              <a:ext cx="800640" cy="798480"/>
              <a:chOff x="261720" y="1231920"/>
              <a:chExt cx="800640" cy="798480"/>
            </a:xfrm>
          </p:grpSpPr>
          <p:sp>
            <p:nvSpPr>
              <p:cNvPr id="2762" name=""/>
              <p:cNvSpPr/>
              <p:nvPr/>
            </p:nvSpPr>
            <p:spPr>
              <a:xfrm rot="19980000">
                <a:off x="363240" y="1335240"/>
                <a:ext cx="596880" cy="591840"/>
              </a:xfrm>
              <a:prstGeom prst="ellipse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rot="19980000">
                <a:off x="691920" y="1738080"/>
                <a:ext cx="193680" cy="260280"/>
              </a:xfrm>
              <a:prstGeom prst="rect">
                <a:avLst/>
              </a:pr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4" name=""/>
            <p:cNvSpPr/>
            <p:nvPr/>
          </p:nvSpPr>
          <p:spPr>
            <a:xfrm rot="19980000">
              <a:off x="608040" y="1566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5" name=""/>
          <p:cNvGrpSpPr/>
          <p:nvPr/>
        </p:nvGrpSpPr>
        <p:grpSpPr>
          <a:xfrm>
            <a:off x="380880" y="2077920"/>
            <a:ext cx="352080" cy="525600"/>
            <a:chOff x="380880" y="2077920"/>
            <a:chExt cx="352080" cy="525600"/>
          </a:xfrm>
        </p:grpSpPr>
        <p:grpSp>
          <p:nvGrpSpPr>
            <p:cNvPr id="2766" name=""/>
            <p:cNvGrpSpPr/>
            <p:nvPr/>
          </p:nvGrpSpPr>
          <p:grpSpPr>
            <a:xfrm>
              <a:off x="606600" y="2455920"/>
              <a:ext cx="82440" cy="147600"/>
              <a:chOff x="606600" y="2455920"/>
              <a:chExt cx="82440" cy="147600"/>
            </a:xfrm>
          </p:grpSpPr>
          <p:sp>
            <p:nvSpPr>
              <p:cNvPr id="2767" name=""/>
              <p:cNvSpPr/>
              <p:nvPr/>
            </p:nvSpPr>
            <p:spPr>
              <a:xfrm>
                <a:off x="606600" y="2455920"/>
                <a:ext cx="82440" cy="14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06600" y="2536920"/>
                <a:ext cx="824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9" name=""/>
            <p:cNvSpPr/>
            <p:nvPr/>
          </p:nvSpPr>
          <p:spPr>
            <a:xfrm>
              <a:off x="577800" y="2077920"/>
              <a:ext cx="130320" cy="341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0" name=""/>
            <p:cNvGrpSpPr/>
            <p:nvPr/>
          </p:nvGrpSpPr>
          <p:grpSpPr>
            <a:xfrm>
              <a:off x="505440" y="2130480"/>
              <a:ext cx="227520" cy="135720"/>
              <a:chOff x="505440" y="2130480"/>
              <a:chExt cx="227520" cy="135720"/>
            </a:xfrm>
          </p:grpSpPr>
          <p:sp>
            <p:nvSpPr>
              <p:cNvPr id="2771" name=""/>
              <p:cNvSpPr/>
              <p:nvPr/>
            </p:nvSpPr>
            <p:spPr>
              <a:xfrm>
                <a:off x="505440" y="213048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95160" y="217764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63400" y="214200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63400" y="21319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505080" y="2152800"/>
              <a:ext cx="227880" cy="139320"/>
              <a:chOff x="505080" y="2152800"/>
              <a:chExt cx="227880" cy="139320"/>
            </a:xfrm>
          </p:grpSpPr>
          <p:sp>
            <p:nvSpPr>
              <p:cNvPr id="2776" name=""/>
              <p:cNvSpPr/>
              <p:nvPr/>
            </p:nvSpPr>
            <p:spPr>
              <a:xfrm>
                <a:off x="505080" y="21528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95160" y="21985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63400" y="2163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63400" y="215280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0" name=""/>
            <p:cNvGrpSpPr/>
            <p:nvPr/>
          </p:nvGrpSpPr>
          <p:grpSpPr>
            <a:xfrm>
              <a:off x="505080" y="2176560"/>
              <a:ext cx="227880" cy="139320"/>
              <a:chOff x="505080" y="2176560"/>
              <a:chExt cx="227880" cy="139320"/>
            </a:xfrm>
          </p:grpSpPr>
          <p:sp>
            <p:nvSpPr>
              <p:cNvPr id="2781" name=""/>
              <p:cNvSpPr/>
              <p:nvPr/>
            </p:nvSpPr>
            <p:spPr>
              <a:xfrm>
                <a:off x="505080" y="217656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95160" y="2220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3400" y="2185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63400" y="217800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5" name=""/>
            <p:cNvGrpSpPr/>
            <p:nvPr/>
          </p:nvGrpSpPr>
          <p:grpSpPr>
            <a:xfrm>
              <a:off x="505440" y="2200320"/>
              <a:ext cx="227520" cy="135720"/>
              <a:chOff x="505440" y="2200320"/>
              <a:chExt cx="227520" cy="135720"/>
            </a:xfrm>
          </p:grpSpPr>
          <p:sp>
            <p:nvSpPr>
              <p:cNvPr id="2786" name=""/>
              <p:cNvSpPr/>
              <p:nvPr/>
            </p:nvSpPr>
            <p:spPr>
              <a:xfrm>
                <a:off x="505440" y="220032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95160" y="22464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63400" y="2211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63400" y="220032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0" name=""/>
            <p:cNvGrpSpPr/>
            <p:nvPr/>
          </p:nvGrpSpPr>
          <p:grpSpPr>
            <a:xfrm>
              <a:off x="505440" y="2222640"/>
              <a:ext cx="227520" cy="135720"/>
              <a:chOff x="505440" y="2222640"/>
              <a:chExt cx="227520" cy="135720"/>
            </a:xfrm>
          </p:grpSpPr>
          <p:sp>
            <p:nvSpPr>
              <p:cNvPr id="2791" name=""/>
              <p:cNvSpPr/>
              <p:nvPr/>
            </p:nvSpPr>
            <p:spPr>
              <a:xfrm>
                <a:off x="505440" y="2222640"/>
                <a:ext cx="22752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95160" y="2265480"/>
                <a:ext cx="3780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3400" y="223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63400" y="222264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5" name=""/>
            <p:cNvGrpSpPr/>
            <p:nvPr/>
          </p:nvGrpSpPr>
          <p:grpSpPr>
            <a:xfrm>
              <a:off x="505080" y="2244600"/>
              <a:ext cx="227880" cy="139320"/>
              <a:chOff x="505080" y="2244600"/>
              <a:chExt cx="227880" cy="139320"/>
            </a:xfrm>
          </p:grpSpPr>
          <p:sp>
            <p:nvSpPr>
              <p:cNvPr id="2796" name=""/>
              <p:cNvSpPr/>
              <p:nvPr/>
            </p:nvSpPr>
            <p:spPr>
              <a:xfrm>
                <a:off x="505080" y="224460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95160" y="22924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63400" y="2255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63400" y="224640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0" name=""/>
            <p:cNvSpPr/>
            <p:nvPr/>
          </p:nvSpPr>
          <p:spPr>
            <a:xfrm>
              <a:off x="505440" y="2108160"/>
              <a:ext cx="227520" cy="1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95160" y="2151000"/>
              <a:ext cx="37800" cy="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380880" y="21067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3" name=""/>
            <p:cNvGrpSpPr/>
            <p:nvPr/>
          </p:nvGrpSpPr>
          <p:grpSpPr>
            <a:xfrm>
              <a:off x="505080" y="2266920"/>
              <a:ext cx="227880" cy="139320"/>
              <a:chOff x="505080" y="2266920"/>
              <a:chExt cx="227880" cy="139320"/>
            </a:xfrm>
          </p:grpSpPr>
          <p:sp>
            <p:nvSpPr>
              <p:cNvPr id="2804" name=""/>
              <p:cNvSpPr/>
              <p:nvPr/>
            </p:nvSpPr>
            <p:spPr>
              <a:xfrm>
                <a:off x="505080" y="2266920"/>
                <a:ext cx="2278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0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09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95160" y="2313720"/>
                <a:ext cx="378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63400" y="22780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63400" y="2266920"/>
                <a:ext cx="1141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45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45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8" name=""/>
            <p:cNvGrpSpPr/>
            <p:nvPr/>
          </p:nvGrpSpPr>
          <p:grpSpPr>
            <a:xfrm>
              <a:off x="505440" y="2290680"/>
              <a:ext cx="227520" cy="136440"/>
              <a:chOff x="505440" y="2290680"/>
              <a:chExt cx="227520" cy="136440"/>
            </a:xfrm>
          </p:grpSpPr>
          <p:sp>
            <p:nvSpPr>
              <p:cNvPr id="2809" name=""/>
              <p:cNvSpPr/>
              <p:nvPr/>
            </p:nvSpPr>
            <p:spPr>
              <a:xfrm>
                <a:off x="505440" y="2290680"/>
                <a:ext cx="227520" cy="1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95160" y="233856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4" y="10057"/>
                    </a:moveTo>
                    <a:arcTo wR="10800" hR="10800" stAng="-236711" swAng="56367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4" y="10057"/>
                    </a:moveTo>
                    <a:arcTo wR="10800" hR="10800" stAng="-236711" swAng="56367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63400" y="230364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556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556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63400" y="2292480"/>
                <a:ext cx="11412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7"/>
                    </a:moveTo>
                    <a:arcTo wR="10800" hR="10800" stAng="-10563289" swAng="5071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7"/>
                    </a:moveTo>
                    <a:arcTo wR="10800" hR="10800" stAng="-10563289" swAng="507100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3" name=""/>
            <p:cNvSpPr/>
            <p:nvPr/>
          </p:nvSpPr>
          <p:spPr>
            <a:xfrm flipH="1">
              <a:off x="399600" y="2381400"/>
              <a:ext cx="17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4" name=""/>
          <p:cNvGrpSpPr/>
          <p:nvPr/>
        </p:nvGrpSpPr>
        <p:grpSpPr>
          <a:xfrm>
            <a:off x="3392280" y="476640"/>
            <a:ext cx="5029200" cy="4266360"/>
            <a:chOff x="3392280" y="476640"/>
            <a:chExt cx="5029200" cy="4266360"/>
          </a:xfrm>
        </p:grpSpPr>
        <p:sp>
          <p:nvSpPr>
            <p:cNvPr id="2815" name=""/>
            <p:cNvSpPr/>
            <p:nvPr/>
          </p:nvSpPr>
          <p:spPr>
            <a:xfrm>
              <a:off x="4611600" y="476640"/>
              <a:ext cx="3809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31172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392280" y="2992320"/>
              <a:ext cx="1371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533840" y="314316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4" y="96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144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68648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48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48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0" name=""/>
          <p:cNvSpPr/>
          <p:nvPr/>
        </p:nvSpPr>
        <p:spPr>
          <a:xfrm>
            <a:off x="1714680" y="695340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4076640" y="840096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-190080" y="476640"/>
            <a:ext cx="5029920" cy="4266360"/>
            <a:chOff x="-190080" y="476640"/>
            <a:chExt cx="5029920" cy="4266360"/>
          </a:xfrm>
        </p:grpSpPr>
        <p:sp>
          <p:nvSpPr>
            <p:cNvPr id="2823" name=""/>
            <p:cNvSpPr/>
            <p:nvPr/>
          </p:nvSpPr>
          <p:spPr>
            <a:xfrm>
              <a:off x="-190080" y="476640"/>
              <a:ext cx="380916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473280" y="2540160"/>
              <a:ext cx="444600" cy="151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3468600" y="2992320"/>
              <a:ext cx="1371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467160" y="314316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96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0" y="96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3467160" y="329580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48"/>
                  </a:moveTo>
                  <a:lnTo>
                    <a:pt x="0" y="48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0" y="48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8" name=""/>
          <p:cNvSpPr/>
          <p:nvPr/>
        </p:nvSpPr>
        <p:spPr>
          <a:xfrm>
            <a:off x="3701880" y="2844720"/>
            <a:ext cx="334044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1568520" y="5969160"/>
            <a:ext cx="5397480" cy="417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714680" y="2914560"/>
            <a:ext cx="0" cy="769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714680" y="474336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660680" y="8377200"/>
            <a:ext cx="501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2385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07664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915080" y="2914560"/>
            <a:ext cx="0" cy="6477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438960" y="2914560"/>
            <a:ext cx="0" cy="640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638360" y="7007400"/>
            <a:ext cx="146160" cy="176040"/>
          </a:xfrm>
          <a:custGeom>
            <a:avLst/>
            <a:gdLst/>
            <a:ahLst/>
            <a:rect l="l" t="t" r="r" b="b"/>
            <a:pathLst>
              <a:path w="92" h="111">
                <a:moveTo>
                  <a:pt x="0" y="110"/>
                </a:moveTo>
                <a:lnTo>
                  <a:pt x="91" y="110"/>
                </a:lnTo>
                <a:lnTo>
                  <a:pt x="44" y="0"/>
                </a:lnTo>
                <a:lnTo>
                  <a:pt x="0" y="1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576840" y="469908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576840" y="8508960"/>
            <a:ext cx="826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644480" y="6578640"/>
            <a:ext cx="216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216000" y="1111320"/>
            <a:ext cx="939600" cy="16254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60520" y="6578640"/>
            <a:ext cx="6930720" cy="421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8T18:34:52Z</dcterms:created>
  <dc:creator>LE HEGARAT</dc:creator>
  <dc:description/>
  <dc:language>en-US</dc:language>
  <cp:lastModifiedBy>Yannick LE HEGARAT</cp:lastModifiedBy>
  <dcterms:modified xsi:type="dcterms:W3CDTF">2000-12-27T13:26:26Z</dcterms:modified>
  <cp:revision>4</cp:revision>
  <dc:subject/>
  <dc:title>Capteur inductif</dc:title>
</cp:coreProperties>
</file>