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arrow.wav" ContentType="audio/x-wav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C98-C22F-4E61-B656-0A1A49CB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849-9EA9-4494-B0CE-D433BACE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55F-0A18-48A8-9ED0-975624E7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836-F1E3-4F2F-A1DA-21B18AB9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EB3-4559-4DBD-959C-578897D6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1BC-23B1-43E6-A3B5-8FC66DD9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BEC-D092-49A0-80FC-42D59406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E84-1496-4D91-AFE6-A37FFFDB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2B3-180D-475D-9121-6F704DC9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A7A-6718-4FD1-A180-02D6E2AA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EFC-0ACF-478F-83FC-B8ED6049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CF7-1AF2-4ADB-B7F2-B1A51CAB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7F06-09BE-4D9E-8476-04BB1CC34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40.xml"/><Relationship Id="rId5" Type="http://schemas.openxmlformats.org/officeDocument/2006/relationships/slide" Target="slide8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r.wikipedia.org/wiki/Unit&#233;_d&#233;riv&#233;e" TargetMode="External"/><Relationship Id="rId2" Type="http://schemas.openxmlformats.org/officeDocument/2006/relationships/hyperlink" Target="http://fr.wikipedia.org/wiki/Angle" TargetMode="External"/><Relationship Id="rId3" Type="http://schemas.openxmlformats.org/officeDocument/2006/relationships/hyperlink" Target="http://fr.wikipedia.org/wiki/Syst&#232;me_international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fr.wikipedia.org/wiki/Unit&#233;_d&#233;riv&#233;e" TargetMode="External"/><Relationship Id="rId2" Type="http://schemas.openxmlformats.org/officeDocument/2006/relationships/hyperlink" Target="http://fr.wikipedia.org/wiki/Angle" TargetMode="External"/><Relationship Id="rId3" Type="http://schemas.openxmlformats.org/officeDocument/2006/relationships/hyperlink" Target="http://fr.wikipedia.org/wiki/Syst&#232;me_international" TargetMode="External"/><Relationship Id="rId4" Type="http://schemas.openxmlformats.org/officeDocument/2006/relationships/slide" Target="slide39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hyperlink" Target="http://fr.wikipedia.org/wiki/Unit&#233;_d&#233;riv&#233;e_du_syst&#232;me_international" TargetMode="External"/><Relationship Id="rId3" Type="http://schemas.openxmlformats.org/officeDocument/2006/relationships/hyperlink" Target="http://fr.wikipedia.org/wiki/Puissance_(physique)" TargetMode="External"/><Relationship Id="rId4" Type="http://schemas.openxmlformats.org/officeDocument/2006/relationships/hyperlink" Target="http://fr.wikipedia.org/wiki/James_Watt" TargetMode="External"/><Relationship Id="rId5" Type="http://schemas.openxmlformats.org/officeDocument/2006/relationships/hyperlink" Target="http://fr.wikipedia.org/wiki/&#201;nergie" TargetMode="External"/><Relationship Id="rId6" Type="http://schemas.openxmlformats.org/officeDocument/2006/relationships/hyperlink" Target="http://fr.wikipedia.org/wiki/Joule_(unit&#233;)" TargetMode="External"/><Relationship Id="rId7" Type="http://schemas.openxmlformats.org/officeDocument/2006/relationships/hyperlink" Target="http://fr.wikipedia.org/wiki/Seconde_(temps)" TargetMode="External"/><Relationship Id="rId8" Type="http://schemas.openxmlformats.org/officeDocument/2006/relationships/hyperlink" Target="http://fr.wikipedia.org/wiki/Machine_&#224;_vapeur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371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CANIQUE APPLIQU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5880" y="3429000"/>
            <a:ext cx="34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ETIQU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1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2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2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89880" y="58086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3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4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4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08120" y="5800680"/>
            <a:ext cx="782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598760" y="5029200"/>
            <a:ext cx="2293920" cy="1128240"/>
            <a:chOff x="1598760" y="5029200"/>
            <a:chExt cx="2293920" cy="1128240"/>
          </a:xfrm>
        </p:grpSpPr>
        <p:sp>
          <p:nvSpPr>
            <p:cNvPr id="250" name=""/>
            <p:cNvSpPr/>
            <p:nvPr/>
          </p:nvSpPr>
          <p:spPr>
            <a:xfrm>
              <a:off x="2274840" y="570384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598760" y="5808600"/>
              <a:ext cx="842760" cy="333360"/>
              <a:chOff x="1598760" y="5808600"/>
              <a:chExt cx="842760" cy="333360"/>
            </a:xfrm>
          </p:grpSpPr>
          <p:sp>
            <p:nvSpPr>
              <p:cNvPr id="252" name=""/>
              <p:cNvSpPr/>
              <p:nvPr/>
            </p:nvSpPr>
            <p:spPr>
              <a:xfrm>
                <a:off x="1598760" y="5808600"/>
                <a:ext cx="771480" cy="333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98760" y="5970600"/>
                <a:ext cx="77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70240" y="5859360"/>
                <a:ext cx="55440" cy="10980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69"/>
                    </a:moveTo>
                    <a:cubicBezTo>
                      <a:pt x="3" y="29"/>
                      <a:pt x="5" y="39"/>
                      <a:pt x="17" y="10"/>
                    </a:cubicBezTo>
                    <a:cubicBezTo>
                      <a:pt x="18" y="1"/>
                      <a:pt x="20" y="1"/>
                      <a:pt x="29" y="0"/>
                    </a:cubicBezTo>
                    <a:cubicBezTo>
                      <a:pt x="35" y="8"/>
                      <a:pt x="31" y="18"/>
                      <a:pt x="27" y="27"/>
                    </a:cubicBezTo>
                    <a:cubicBezTo>
                      <a:pt x="25" y="38"/>
                      <a:pt x="11" y="39"/>
                      <a:pt x="6" y="51"/>
                    </a:cubicBezTo>
                    <a:cubicBezTo>
                      <a:pt x="5" y="58"/>
                      <a:pt x="6" y="65"/>
                      <a:pt x="0" y="69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70240" y="595620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11"/>
                    </a:moveTo>
                    <a:cubicBezTo>
                      <a:pt x="9" y="7"/>
                      <a:pt x="17" y="4"/>
                      <a:pt x="26" y="0"/>
                    </a:cubicBezTo>
                    <a:cubicBezTo>
                      <a:pt x="35" y="2"/>
                      <a:pt x="40" y="0"/>
                      <a:pt x="42" y="9"/>
                    </a:cubicBezTo>
                    <a:cubicBezTo>
                      <a:pt x="41" y="27"/>
                      <a:pt x="45" y="48"/>
                      <a:pt x="23" y="32"/>
                    </a:cubicBezTo>
                    <a:cubicBezTo>
                      <a:pt x="20" y="27"/>
                      <a:pt x="7" y="4"/>
                      <a:pt x="0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87760" y="5029200"/>
              <a:ext cx="1204920" cy="1128240"/>
              <a:chOff x="2687760" y="5029200"/>
              <a:chExt cx="1204920" cy="1128240"/>
            </a:xfrm>
          </p:grpSpPr>
          <p:pic>
            <p:nvPicPr>
              <p:cNvPr id="2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87760" y="5074920"/>
                <a:ext cx="1204920" cy="10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2823840" y="5029200"/>
                <a:ext cx="397080" cy="633240"/>
              </a:xfrm>
              <a:custGeom>
                <a:avLst/>
                <a:gdLst/>
                <a:ahLst/>
                <a:rect l="l" t="t" r="r" b="b"/>
                <a:pathLst>
                  <a:path w="271" h="399">
                    <a:moveTo>
                      <a:pt x="0" y="0"/>
                    </a:moveTo>
                    <a:cubicBezTo>
                      <a:pt x="3" y="17"/>
                      <a:pt x="6" y="33"/>
                      <a:pt x="14" y="49"/>
                    </a:cubicBezTo>
                    <a:cubicBezTo>
                      <a:pt x="16" y="60"/>
                      <a:pt x="21" y="70"/>
                      <a:pt x="27" y="79"/>
                    </a:cubicBezTo>
                    <a:cubicBezTo>
                      <a:pt x="29" y="86"/>
                      <a:pt x="35" y="99"/>
                      <a:pt x="35" y="99"/>
                    </a:cubicBezTo>
                    <a:cubicBezTo>
                      <a:pt x="36" y="105"/>
                      <a:pt x="41" y="115"/>
                      <a:pt x="41" y="115"/>
                    </a:cubicBezTo>
                    <a:cubicBezTo>
                      <a:pt x="41" y="154"/>
                      <a:pt x="27" y="260"/>
                      <a:pt x="68" y="301"/>
                    </a:cubicBezTo>
                    <a:cubicBezTo>
                      <a:pt x="70" y="309"/>
                      <a:pt x="73" y="309"/>
                      <a:pt x="81" y="310"/>
                    </a:cubicBezTo>
                    <a:cubicBezTo>
                      <a:pt x="87" y="316"/>
                      <a:pt x="92" y="319"/>
                      <a:pt x="95" y="327"/>
                    </a:cubicBezTo>
                    <a:cubicBezTo>
                      <a:pt x="98" y="345"/>
                      <a:pt x="98" y="354"/>
                      <a:pt x="117" y="355"/>
                    </a:cubicBezTo>
                    <a:cubicBezTo>
                      <a:pt x="120" y="361"/>
                      <a:pt x="125" y="366"/>
                      <a:pt x="131" y="369"/>
                    </a:cubicBezTo>
                    <a:cubicBezTo>
                      <a:pt x="149" y="392"/>
                      <a:pt x="156" y="379"/>
                      <a:pt x="198" y="381"/>
                    </a:cubicBezTo>
                    <a:cubicBezTo>
                      <a:pt x="224" y="376"/>
                      <a:pt x="199" y="367"/>
                      <a:pt x="218" y="382"/>
                    </a:cubicBezTo>
                    <a:cubicBezTo>
                      <a:pt x="221" y="399"/>
                      <a:pt x="242" y="386"/>
                      <a:pt x="254" y="384"/>
                    </a:cubicBezTo>
                    <a:cubicBezTo>
                      <a:pt x="262" y="380"/>
                      <a:pt x="260" y="379"/>
                      <a:pt x="263" y="372"/>
                    </a:cubicBezTo>
                    <a:cubicBezTo>
                      <a:pt x="259" y="355"/>
                      <a:pt x="249" y="352"/>
                      <a:pt x="236" y="342"/>
                    </a:cubicBezTo>
                    <a:cubicBezTo>
                      <a:pt x="235" y="340"/>
                      <a:pt x="235" y="338"/>
                      <a:pt x="233" y="337"/>
                    </a:cubicBezTo>
                    <a:cubicBezTo>
                      <a:pt x="232" y="336"/>
                      <a:pt x="229" y="337"/>
                      <a:pt x="228" y="336"/>
                    </a:cubicBezTo>
                    <a:cubicBezTo>
                      <a:pt x="226" y="334"/>
                      <a:pt x="226" y="330"/>
                      <a:pt x="224" y="327"/>
                    </a:cubicBezTo>
                    <a:cubicBezTo>
                      <a:pt x="224" y="320"/>
                      <a:pt x="223" y="313"/>
                      <a:pt x="225" y="307"/>
                    </a:cubicBezTo>
                    <a:cubicBezTo>
                      <a:pt x="226" y="304"/>
                      <a:pt x="259" y="283"/>
                      <a:pt x="263" y="280"/>
                    </a:cubicBezTo>
                    <a:cubicBezTo>
                      <a:pt x="271" y="264"/>
                      <a:pt x="268" y="243"/>
                      <a:pt x="261" y="226"/>
                    </a:cubicBezTo>
                    <a:cubicBezTo>
                      <a:pt x="258" y="209"/>
                      <a:pt x="255" y="191"/>
                      <a:pt x="249" y="174"/>
                    </a:cubicBezTo>
                    <a:cubicBezTo>
                      <a:pt x="247" y="147"/>
                      <a:pt x="251" y="119"/>
                      <a:pt x="243" y="94"/>
                    </a:cubicBezTo>
                    <a:cubicBezTo>
                      <a:pt x="242" y="88"/>
                      <a:pt x="241" y="81"/>
                      <a:pt x="239" y="76"/>
                    </a:cubicBezTo>
                    <a:cubicBezTo>
                      <a:pt x="238" y="73"/>
                      <a:pt x="234" y="66"/>
                      <a:pt x="234" y="66"/>
                    </a:cubicBezTo>
                    <a:cubicBezTo>
                      <a:pt x="229" y="43"/>
                      <a:pt x="209" y="25"/>
                      <a:pt x="186" y="21"/>
                    </a:cubicBezTo>
                    <a:cubicBezTo>
                      <a:pt x="174" y="15"/>
                      <a:pt x="180" y="17"/>
                      <a:pt x="171" y="15"/>
                    </a:cubicBezTo>
                    <a:cubicBezTo>
                      <a:pt x="157" y="5"/>
                      <a:pt x="142" y="4"/>
                      <a:pt x="126" y="1"/>
                    </a:cubicBezTo>
                    <a:cubicBezTo>
                      <a:pt x="82" y="2"/>
                      <a:pt x="43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V="1">
              <a:off x="2352600" y="5900760"/>
              <a:ext cx="3510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55625 7.40741E-007 E">
                                      <p:cBhvr>
                                        <p:cTn id="323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66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69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73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30200" y="21949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 temps nécessair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au changement d’état n’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-2.31214E-007 L 0.55643 -2.31214E-007 E">
                                      <p:cBhvr>
                                        <p:cTn id="342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8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9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9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30200" y="21949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 temps nécessair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au changement d’état n’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-2.31214E-007 L 0.55608 -2.31214E-007 E">
                                      <p:cBhvr>
                                        <p:cTn id="352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38840" y="219492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a manière dont le chemin est parcouru n’ 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25200" y="29862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ue de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60600" y="4387680"/>
            <a:ext cx="828720" cy="662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85960" y="3489480"/>
            <a:ext cx="7948440" cy="1955520"/>
            <a:chOff x="885960" y="3489480"/>
            <a:chExt cx="7948440" cy="1955520"/>
          </a:xfrm>
        </p:grpSpPr>
        <p:sp>
          <p:nvSpPr>
            <p:cNvPr id="313" name=""/>
            <p:cNvSpPr/>
            <p:nvPr/>
          </p:nvSpPr>
          <p:spPr>
            <a:xfrm>
              <a:off x="5424480" y="419400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56204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62616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476360" y="3551400"/>
              <a:ext cx="215640" cy="708120"/>
              <a:chOff x="1476360" y="3551400"/>
              <a:chExt cx="215640" cy="708120"/>
            </a:xfrm>
          </p:grpSpPr>
          <p:sp>
            <p:nvSpPr>
              <p:cNvPr id="317" name=""/>
              <p:cNvSpPr/>
              <p:nvPr/>
            </p:nvSpPr>
            <p:spPr>
              <a:xfrm rot="16200000">
                <a:off x="1271520" y="3824280"/>
                <a:ext cx="62244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6200000">
                <a:off x="1230120" y="3797640"/>
                <a:ext cx="708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init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532560" y="3575160"/>
              <a:ext cx="215640" cy="661320"/>
              <a:chOff x="6532560" y="3575160"/>
              <a:chExt cx="215640" cy="661320"/>
            </a:xfrm>
          </p:grpSpPr>
          <p:sp>
            <p:nvSpPr>
              <p:cNvPr id="320" name=""/>
              <p:cNvSpPr/>
              <p:nvPr/>
            </p:nvSpPr>
            <p:spPr>
              <a:xfrm rot="16200000">
                <a:off x="6328080" y="3808440"/>
                <a:ext cx="62208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6319080" y="3807360"/>
                <a:ext cx="642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fin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885960" y="350352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5960" y="544500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93 L 0.55486 0.00093 E">
                                      <p:cBhvr>
                                        <p:cTn id="385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38840" y="219492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a manière dont le chemin est parcouru n’ 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25200" y="29862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ue de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60600" y="4387680"/>
            <a:ext cx="828720" cy="662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885960" y="3489480"/>
            <a:ext cx="7948440" cy="1955520"/>
            <a:chOff x="885960" y="3489480"/>
            <a:chExt cx="7948440" cy="1955520"/>
          </a:xfrm>
        </p:grpSpPr>
        <p:sp>
          <p:nvSpPr>
            <p:cNvPr id="335" name=""/>
            <p:cNvSpPr/>
            <p:nvPr/>
          </p:nvSpPr>
          <p:spPr>
            <a:xfrm>
              <a:off x="5424480" y="419400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56204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2616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476360" y="3551400"/>
              <a:ext cx="215640" cy="708120"/>
              <a:chOff x="1476360" y="3551400"/>
              <a:chExt cx="215640" cy="708120"/>
            </a:xfrm>
          </p:grpSpPr>
          <p:sp>
            <p:nvSpPr>
              <p:cNvPr id="339" name=""/>
              <p:cNvSpPr/>
              <p:nvPr/>
            </p:nvSpPr>
            <p:spPr>
              <a:xfrm rot="16200000">
                <a:off x="1271520" y="3824280"/>
                <a:ext cx="62244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1230120" y="3797640"/>
                <a:ext cx="708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init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532560" y="3575160"/>
              <a:ext cx="215640" cy="661320"/>
              <a:chOff x="6532560" y="3575160"/>
              <a:chExt cx="215640" cy="661320"/>
            </a:xfrm>
          </p:grpSpPr>
          <p:sp>
            <p:nvSpPr>
              <p:cNvPr id="342" name=""/>
              <p:cNvSpPr/>
              <p:nvPr/>
            </p:nvSpPr>
            <p:spPr>
              <a:xfrm rot="16200000">
                <a:off x="6328080" y="3808440"/>
                <a:ext cx="62208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6319080" y="3807360"/>
                <a:ext cx="642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fin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885960" y="350352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5960" y="544500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C 0.01372 -0.0162 0.02795 -0.03217 0.03368 -0.04815 C 0.03976 -0.06412 0.01667 -0.08819 0.03542 -0.09629 C 0.05382 -0.1044 0.12483 -0.11643 0.14445 -0.09629 C 0.16406 -0.07615 0.13351 -0.00115 0.15278 0.02408 C 0.17205 0.04931 0.23507 0.07014 0.26077 0.05556 C 0.28611 0.04098 0.28316 -0.0456 0.30591 -0.06296 C 0.32865 -0.08032 0.37604 -0.06643 0.39792 -0.04815 C 0.41997 -0.02986 0.41007 0.03982 0.43646 0.0463 C 0.46233 0.05278 0.50903 0.02176 0.55556 -0.00926 E">
                                      <p:cBhvr>
                                        <p:cTn id="395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57760" y="2167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pla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53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079640" y="5375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57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739520" y="5300640"/>
            <a:ext cx="405720" cy="545760"/>
            <a:chOff x="1739520" y="5300640"/>
            <a:chExt cx="405720" cy="545760"/>
          </a:xfrm>
        </p:grpSpPr>
        <p:grpSp>
          <p:nvGrpSpPr>
            <p:cNvPr id="360" name=""/>
            <p:cNvGrpSpPr/>
            <p:nvPr/>
          </p:nvGrpSpPr>
          <p:grpSpPr>
            <a:xfrm>
              <a:off x="1739520" y="5643720"/>
              <a:ext cx="211320" cy="202680"/>
              <a:chOff x="1739520" y="5643720"/>
              <a:chExt cx="211320" cy="202680"/>
            </a:xfrm>
          </p:grpSpPr>
          <p:sp>
            <p:nvSpPr>
              <p:cNvPr id="361" name=""/>
              <p:cNvSpPr/>
              <p:nvPr/>
            </p:nvSpPr>
            <p:spPr>
              <a:xfrm>
                <a:off x="1755720" y="5648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739520" y="5643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806120" y="5300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847880" y="5326200"/>
            <a:ext cx="713880" cy="493560"/>
            <a:chOff x="1847880" y="5326200"/>
            <a:chExt cx="713880" cy="493560"/>
          </a:xfrm>
        </p:grpSpPr>
        <p:sp>
          <p:nvSpPr>
            <p:cNvPr id="365" name=""/>
            <p:cNvSpPr/>
            <p:nvPr/>
          </p:nvSpPr>
          <p:spPr>
            <a:xfrm>
              <a:off x="1847880" y="5661000"/>
              <a:ext cx="684360" cy="158760"/>
            </a:xfrm>
            <a:prstGeom prst="rightArrow">
              <a:avLst>
                <a:gd name="adj1" fmla="val 50000"/>
                <a:gd name="adj2" fmla="val 10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56120" y="53262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3640" y="5373720"/>
              <a:ext cx="215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57760" y="2167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pla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73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76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079640" y="5300640"/>
            <a:ext cx="1482120" cy="844560"/>
            <a:chOff x="1079640" y="5300640"/>
            <a:chExt cx="1482120" cy="844560"/>
          </a:xfrm>
        </p:grpSpPr>
        <p:sp>
          <p:nvSpPr>
            <p:cNvPr id="379" name=""/>
            <p:cNvSpPr/>
            <p:nvPr/>
          </p:nvSpPr>
          <p:spPr>
            <a:xfrm>
              <a:off x="1079640" y="5375160"/>
              <a:ext cx="771480" cy="77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739520" y="5300640"/>
              <a:ext cx="405720" cy="545760"/>
              <a:chOff x="1739520" y="5300640"/>
              <a:chExt cx="405720" cy="5457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1739520" y="5643720"/>
                <a:ext cx="211320" cy="202680"/>
                <a:chOff x="1739520" y="5643720"/>
                <a:chExt cx="211320" cy="2026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755720" y="564840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1739520" y="564372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1806120" y="53006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847880" y="5326200"/>
              <a:ext cx="713880" cy="493560"/>
              <a:chOff x="1847880" y="5326200"/>
              <a:chExt cx="713880" cy="493560"/>
            </a:xfrm>
          </p:grpSpPr>
          <p:sp>
            <p:nvSpPr>
              <p:cNvPr id="386" name=""/>
              <p:cNvSpPr/>
              <p:nvPr/>
            </p:nvSpPr>
            <p:spPr>
              <a:xfrm>
                <a:off x="1847880" y="566100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56120" y="53262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03640" y="5373720"/>
                <a:ext cx="215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0.47396 1.85185E-006 E">
                                      <p:cBhvr>
                                        <p:cTn id="437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14120" y="2491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u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form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94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97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1079640" y="5375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77200" y="21679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déplac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096920" y="5300640"/>
            <a:ext cx="1495080" cy="844560"/>
            <a:chOff x="1096920" y="5300640"/>
            <a:chExt cx="1495080" cy="844560"/>
          </a:xfrm>
        </p:grpSpPr>
        <p:sp>
          <p:nvSpPr>
            <p:cNvPr id="402" name=""/>
            <p:cNvSpPr/>
            <p:nvPr/>
          </p:nvSpPr>
          <p:spPr>
            <a:xfrm>
              <a:off x="1096920" y="5375160"/>
              <a:ext cx="771480" cy="77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769760" y="5300640"/>
              <a:ext cx="822240" cy="545760"/>
              <a:chOff x="1769760" y="5300640"/>
              <a:chExt cx="822240" cy="54576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769760" y="5300640"/>
                <a:ext cx="405720" cy="545760"/>
                <a:chOff x="1769760" y="5300640"/>
                <a:chExt cx="405720" cy="54576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1769760" y="5643720"/>
                  <a:ext cx="211320" cy="202680"/>
                  <a:chOff x="1769760" y="5643720"/>
                  <a:chExt cx="211320" cy="2026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1785960" y="5648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1769760" y="5643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>
                  <a:off x="1836360" y="5300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878120" y="5326200"/>
                <a:ext cx="713880" cy="493560"/>
                <a:chOff x="1878120" y="5326200"/>
                <a:chExt cx="713880" cy="4935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878120" y="5661000"/>
                  <a:ext cx="684360" cy="158760"/>
                </a:xfrm>
                <a:prstGeom prst="rightArrow">
                  <a:avLst>
                    <a:gd name="adj1" fmla="val 50000"/>
                    <a:gd name="adj2" fmla="val 10776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86360" y="53262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333880" y="537372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1098360" y="5381640"/>
              <a:ext cx="3240" cy="757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>
            <a:hlinkClick r:id="rId2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04167 3.33333E-006 E">
                                      <p:cBhvr>
                                        <p:cTn id="448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3320" y="1801080"/>
            <a:ext cx="71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a valeur de la translation d’un solide provoquée par l’a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898560" y="5789520"/>
            <a:ext cx="8094600" cy="268200"/>
            <a:chOff x="898560" y="5789520"/>
            <a:chExt cx="8094600" cy="268200"/>
          </a:xfrm>
        </p:grpSpPr>
        <p:sp>
          <p:nvSpPr>
            <p:cNvPr id="420" name=""/>
            <p:cNvSpPr/>
            <p:nvPr/>
          </p:nvSpPr>
          <p:spPr>
            <a:xfrm>
              <a:off x="898560" y="580536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03240" y="578952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20640" y="14630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( W 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040" y="6460200"/>
            <a:ext cx="759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*le symbole du travail ( </a:t>
            </a:r>
            <a:r>
              <a:rPr b="1" i="1" lang="fr-FR" sz="1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) est issu du mot « </a:t>
            </a:r>
            <a:r>
              <a:rPr b="1" i="1" lang="fr-FR" sz="1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erk » (traduction du  mot travail ,en langue alleman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614680" y="1463040"/>
            <a:ext cx="6440400" cy="368280"/>
            <a:chOff x="2614680" y="1463040"/>
            <a:chExt cx="6440400" cy="368280"/>
          </a:xfrm>
        </p:grpSpPr>
        <p:sp>
          <p:nvSpPr>
            <p:cNvPr id="425" name=""/>
            <p:cNvSpPr/>
            <p:nvPr/>
          </p:nvSpPr>
          <p:spPr>
            <a:xfrm>
              <a:off x="2614680" y="1463040"/>
              <a:ext cx="64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st le résultat du produit entr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intensité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61520" y="148428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079640" y="5016600"/>
            <a:ext cx="7714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9880" y="2156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tte même for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739520" y="4941720"/>
            <a:ext cx="822240" cy="545760"/>
            <a:chOff x="1739520" y="4941720"/>
            <a:chExt cx="822240" cy="545760"/>
          </a:xfrm>
        </p:grpSpPr>
        <p:grpSp>
          <p:nvGrpSpPr>
            <p:cNvPr id="430" name=""/>
            <p:cNvGrpSpPr/>
            <p:nvPr/>
          </p:nvGrpSpPr>
          <p:grpSpPr>
            <a:xfrm>
              <a:off x="1739520" y="4941720"/>
              <a:ext cx="405720" cy="545760"/>
              <a:chOff x="1739520" y="4941720"/>
              <a:chExt cx="405720" cy="5457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1739520" y="5284800"/>
                <a:ext cx="211320" cy="202680"/>
                <a:chOff x="1739520" y="5284800"/>
                <a:chExt cx="211320" cy="20268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1755720" y="528948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1739520" y="528480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1806120" y="49417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1847880" y="4967280"/>
              <a:ext cx="713880" cy="493560"/>
              <a:chOff x="1847880" y="4967280"/>
              <a:chExt cx="713880" cy="493560"/>
            </a:xfrm>
          </p:grpSpPr>
          <p:sp>
            <p:nvSpPr>
              <p:cNvPr id="436" name=""/>
              <p:cNvSpPr/>
              <p:nvPr/>
            </p:nvSpPr>
            <p:spPr>
              <a:xfrm>
                <a:off x="1847880" y="530208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56120" y="4967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303640" y="5014800"/>
                <a:ext cx="215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1698120" y="4149720"/>
            <a:ext cx="311760" cy="1654200"/>
            <a:chOff x="1698120" y="4149720"/>
            <a:chExt cx="311760" cy="1654200"/>
          </a:xfrm>
        </p:grpSpPr>
        <p:sp>
          <p:nvSpPr>
            <p:cNvPr id="440" name=""/>
            <p:cNvSpPr/>
            <p:nvPr/>
          </p:nvSpPr>
          <p:spPr>
            <a:xfrm flipV="1">
              <a:off x="185076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98120" y="414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3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70164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6360" y="9810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énér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9760" y="1390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0574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vail d’une a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61200" y="242712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40680" y="271476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800" y="37051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issance d’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200" y="41022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4960" y="438156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4520" y="17287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Notion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27000" y="30290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quelco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7000" y="332100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rotation autour d’un axe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5120" y="46990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sur un solide en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720" y="5083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3360" y="5506920"/>
            <a:ext cx="62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,puissance et couple d’un moteur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3320" y="1801080"/>
            <a:ext cx="71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a valeur de la translation d’un solide provoquée par l’a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98560" y="5789520"/>
            <a:ext cx="8094600" cy="268200"/>
            <a:chOff x="898560" y="5789520"/>
            <a:chExt cx="8094600" cy="268200"/>
          </a:xfrm>
        </p:grpSpPr>
        <p:sp>
          <p:nvSpPr>
            <p:cNvPr id="446" name=""/>
            <p:cNvSpPr/>
            <p:nvPr/>
          </p:nvSpPr>
          <p:spPr>
            <a:xfrm>
              <a:off x="898560" y="580536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03240" y="578952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20640" y="14630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( W 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614680" y="1463040"/>
            <a:ext cx="6440400" cy="368280"/>
            <a:chOff x="2614680" y="1463040"/>
            <a:chExt cx="6440400" cy="368280"/>
          </a:xfrm>
        </p:grpSpPr>
        <p:sp>
          <p:nvSpPr>
            <p:cNvPr id="450" name=""/>
            <p:cNvSpPr/>
            <p:nvPr/>
          </p:nvSpPr>
          <p:spPr>
            <a:xfrm>
              <a:off x="2614680" y="1463040"/>
              <a:ext cx="64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st le résultat du produit entr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intensité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1520" y="148428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59880" y="2156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tte même for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079640" y="4941720"/>
            <a:ext cx="1482120" cy="844560"/>
            <a:chOff x="1079640" y="4941720"/>
            <a:chExt cx="1482120" cy="844560"/>
          </a:xfrm>
        </p:grpSpPr>
        <p:sp>
          <p:nvSpPr>
            <p:cNvPr id="454" name=""/>
            <p:cNvSpPr/>
            <p:nvPr/>
          </p:nvSpPr>
          <p:spPr>
            <a:xfrm>
              <a:off x="1079640" y="501660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739520" y="4941720"/>
              <a:ext cx="822240" cy="545760"/>
              <a:chOff x="1739520" y="4941720"/>
              <a:chExt cx="822240" cy="54576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1739520" y="4941720"/>
                <a:ext cx="405720" cy="545760"/>
                <a:chOff x="1739520" y="4941720"/>
                <a:chExt cx="405720" cy="54576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1739520" y="5284800"/>
                  <a:ext cx="211320" cy="202680"/>
                  <a:chOff x="1739520" y="5284800"/>
                  <a:chExt cx="211320" cy="20268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1755720" y="528948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1739520" y="528480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>
                  <a:off x="1806120" y="494172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1847880" y="4967280"/>
                <a:ext cx="713880" cy="493560"/>
                <a:chOff x="1847880" y="4967280"/>
                <a:chExt cx="713880" cy="493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847880" y="5302080"/>
                  <a:ext cx="684360" cy="158760"/>
                </a:xfrm>
                <a:prstGeom prst="rightArrow">
                  <a:avLst>
                    <a:gd name="adj1" fmla="val 50000"/>
                    <a:gd name="adj2" fmla="val 10776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256120" y="496728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03640" y="50148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5" name=""/>
          <p:cNvGrpSpPr/>
          <p:nvPr/>
        </p:nvGrpSpPr>
        <p:grpSpPr>
          <a:xfrm>
            <a:off x="1698120" y="4149720"/>
            <a:ext cx="311760" cy="1654200"/>
            <a:chOff x="1698120" y="4149720"/>
            <a:chExt cx="311760" cy="1654200"/>
          </a:xfrm>
        </p:grpSpPr>
        <p:sp>
          <p:nvSpPr>
            <p:cNvPr id="466" name=""/>
            <p:cNvSpPr/>
            <p:nvPr/>
          </p:nvSpPr>
          <p:spPr>
            <a:xfrm flipV="1">
              <a:off x="185076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98120" y="414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017840" y="4149720"/>
            <a:ext cx="315000" cy="1654200"/>
            <a:chOff x="7017840" y="4149720"/>
            <a:chExt cx="315000" cy="1654200"/>
          </a:xfrm>
        </p:grpSpPr>
        <p:sp>
          <p:nvSpPr>
            <p:cNvPr id="469" name=""/>
            <p:cNvSpPr/>
            <p:nvPr/>
          </p:nvSpPr>
          <p:spPr>
            <a:xfrm flipV="1">
              <a:off x="715968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17840" y="4149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841400" y="4210200"/>
            <a:ext cx="5321520" cy="425160"/>
            <a:chOff x="1841400" y="4210200"/>
            <a:chExt cx="5321520" cy="425160"/>
          </a:xfrm>
        </p:grpSpPr>
        <p:sp>
          <p:nvSpPr>
            <p:cNvPr id="472" name=""/>
            <p:cNvSpPr/>
            <p:nvPr/>
          </p:nvSpPr>
          <p:spPr>
            <a:xfrm>
              <a:off x="1841400" y="463536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7920" y="4210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828160" y="2781360"/>
            <a:ext cx="2431800" cy="581400"/>
            <a:chOff x="2828160" y="2781360"/>
            <a:chExt cx="2431800" cy="581400"/>
          </a:xfrm>
        </p:grpSpPr>
        <p:sp>
          <p:nvSpPr>
            <p:cNvPr id="475" name=""/>
            <p:cNvSpPr/>
            <p:nvPr/>
          </p:nvSpPr>
          <p:spPr>
            <a:xfrm>
              <a:off x="2828160" y="2781360"/>
              <a:ext cx="24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38480" y="28065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786120" y="332892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40200" y="332892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m 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43120" y="33289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J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52680" y="3132720"/>
            <a:ext cx="1136520" cy="736200"/>
          </a:xfrm>
          <a:prstGeom prst="rightArrow">
            <a:avLst>
              <a:gd name="adj1" fmla="val 50000"/>
              <a:gd name="adj2" fmla="val 385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u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30000" y="2530440"/>
            <a:ext cx="302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: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nité du système 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tilisée pour le travail et l’énerg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t qui doit son nom au Physic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anglais, James Prescott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Joules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0.57917 -2.96296E-006 E">
                                      <p:cBhvr>
                                        <p:cTn id="511" dur="5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6200" y="18010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48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20640" y="1463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491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492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496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822320" y="5516640"/>
            <a:ext cx="744480" cy="519120"/>
            <a:chOff x="1822320" y="5516640"/>
            <a:chExt cx="744480" cy="519120"/>
          </a:xfrm>
        </p:grpSpPr>
        <p:sp>
          <p:nvSpPr>
            <p:cNvPr id="500" name=""/>
            <p:cNvSpPr/>
            <p:nvPr/>
          </p:nvSpPr>
          <p:spPr>
            <a:xfrm>
              <a:off x="1822320" y="5877000"/>
              <a:ext cx="684360" cy="158760"/>
            </a:xfrm>
            <a:prstGeom prst="rightArrow">
              <a:avLst>
                <a:gd name="adj1" fmla="val 50000"/>
                <a:gd name="adj2" fmla="val 10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5422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78080" y="55166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04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46200" y="18010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11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620640" y="1463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15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518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521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643120" y="2781360"/>
            <a:ext cx="2975040" cy="1464480"/>
            <a:chOff x="2643120" y="2781360"/>
            <a:chExt cx="2975040" cy="1464480"/>
          </a:xfrm>
        </p:grpSpPr>
        <p:grpSp>
          <p:nvGrpSpPr>
            <p:cNvPr id="524" name=""/>
            <p:cNvGrpSpPr/>
            <p:nvPr/>
          </p:nvGrpSpPr>
          <p:grpSpPr>
            <a:xfrm>
              <a:off x="2828160" y="2781360"/>
              <a:ext cx="2431800" cy="581400"/>
              <a:chOff x="2828160" y="2781360"/>
              <a:chExt cx="2431800" cy="581400"/>
            </a:xfrm>
          </p:grpSpPr>
          <p:sp>
            <p:nvSpPr>
              <p:cNvPr id="525" name=""/>
              <p:cNvSpPr/>
              <p:nvPr/>
            </p:nvSpPr>
            <p:spPr>
              <a:xfrm>
                <a:off x="2828160" y="2781360"/>
                <a:ext cx="243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 . </a:t>
                </a:r>
                <a:r>
                  <a:rPr b="1" lang="en-US" sz="32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38480" y="280656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786120" y="3328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40200" y="3328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43120" y="332892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79640" y="5516640"/>
            <a:ext cx="1487160" cy="844560"/>
            <a:chOff x="1079640" y="5516640"/>
            <a:chExt cx="1487160" cy="844560"/>
          </a:xfrm>
        </p:grpSpPr>
        <p:sp>
          <p:nvSpPr>
            <p:cNvPr id="532" name=""/>
            <p:cNvSpPr/>
            <p:nvPr/>
          </p:nvSpPr>
          <p:spPr>
            <a:xfrm>
              <a:off x="1079640" y="559152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1739520" y="5516640"/>
              <a:ext cx="405720" cy="545760"/>
              <a:chOff x="1739520" y="5516640"/>
              <a:chExt cx="405720" cy="545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739520" y="5859720"/>
                <a:ext cx="211320" cy="202680"/>
                <a:chOff x="1739520" y="5859720"/>
                <a:chExt cx="211320" cy="2026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755720" y="586440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1739520" y="585972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1806120" y="55166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1822320" y="5516640"/>
              <a:ext cx="744480" cy="519120"/>
              <a:chOff x="1822320" y="5516640"/>
              <a:chExt cx="744480" cy="519120"/>
            </a:xfrm>
          </p:grpSpPr>
          <p:sp>
            <p:nvSpPr>
              <p:cNvPr id="539" name=""/>
              <p:cNvSpPr/>
              <p:nvPr/>
            </p:nvSpPr>
            <p:spPr>
              <a:xfrm>
                <a:off x="1822320" y="587700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30560" y="55422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78080" y="5516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43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07407E-006 L 0.57916 4.07407E-006 E">
                                      <p:cBhvr>
                                        <p:cTn id="586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50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54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58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563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565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568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569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574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580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87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91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95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600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602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605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606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611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617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622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627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630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63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640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27160" y="3043080"/>
            <a:ext cx="2975040" cy="1464840"/>
            <a:chOff x="227160" y="3043080"/>
            <a:chExt cx="2975040" cy="1464840"/>
          </a:xfrm>
        </p:grpSpPr>
        <p:grpSp>
          <p:nvGrpSpPr>
            <p:cNvPr id="643" name=""/>
            <p:cNvGrpSpPr/>
            <p:nvPr/>
          </p:nvGrpSpPr>
          <p:grpSpPr>
            <a:xfrm>
              <a:off x="420480" y="3043080"/>
              <a:ext cx="2712240" cy="648720"/>
              <a:chOff x="420480" y="3043080"/>
              <a:chExt cx="2712240" cy="648720"/>
            </a:xfrm>
          </p:grpSpPr>
          <p:sp>
            <p:nvSpPr>
              <p:cNvPr id="644" name=""/>
              <p:cNvSpPr/>
              <p:nvPr/>
            </p:nvSpPr>
            <p:spPr>
              <a:xfrm>
                <a:off x="420480" y="3043080"/>
                <a:ext cx="2712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Comic Sans MS"/>
                  </a:rPr>
                  <a:t> = 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fr-FR" sz="32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Comic Sans MS"/>
                  </a:rPr>
                  <a:t> . </a:t>
                </a:r>
                <a:r>
                  <a:rPr b="1" lang="fr-FR" sz="32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749600" y="3094200"/>
                <a:ext cx="35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370160" y="359100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24240" y="359100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7160" y="359100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651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656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658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661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662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667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673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677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679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682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685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608360" y="3033720"/>
            <a:ext cx="4319640" cy="1619280"/>
            <a:chOff x="4608360" y="3033720"/>
            <a:chExt cx="4319640" cy="1619280"/>
          </a:xfrm>
        </p:grpSpPr>
        <p:sp>
          <p:nvSpPr>
            <p:cNvPr id="688" name=""/>
            <p:cNvSpPr/>
            <p:nvPr/>
          </p:nvSpPr>
          <p:spPr>
            <a:xfrm>
              <a:off x="4608360" y="3033720"/>
              <a:ext cx="4319640" cy="16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07000" y="3059280"/>
              <a:ext cx="305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étermination de la valeur de 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081920" y="309564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605840" y="3444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693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292000" y="3273480"/>
            <a:ext cx="817560" cy="405720"/>
            <a:chOff x="5292000" y="3273480"/>
            <a:chExt cx="817560" cy="405720"/>
          </a:xfrm>
        </p:grpSpPr>
        <p:sp>
          <p:nvSpPr>
            <p:cNvPr id="696" name=""/>
            <p:cNvSpPr/>
            <p:nvPr/>
          </p:nvSpPr>
          <p:spPr>
            <a:xfrm>
              <a:off x="5292000" y="3273480"/>
              <a:ext cx="81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62360" y="3321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5435640" y="3619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5406840" y="3664080"/>
            <a:ext cx="659160" cy="368280"/>
            <a:chOff x="5406840" y="3664080"/>
            <a:chExt cx="659160" cy="368280"/>
          </a:xfrm>
        </p:grpSpPr>
        <p:sp>
          <p:nvSpPr>
            <p:cNvPr id="700" name=""/>
            <p:cNvSpPr/>
            <p:nvPr/>
          </p:nvSpPr>
          <p:spPr>
            <a:xfrm>
              <a:off x="5406840" y="36640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82960" y="37116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283440" y="3537000"/>
            <a:ext cx="325440" cy="144360"/>
          </a:xfrm>
          <a:prstGeom prst="rightArrow">
            <a:avLst>
              <a:gd name="adj1" fmla="val 50000"/>
              <a:gd name="adj2" fmla="val 563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581160" y="3435480"/>
            <a:ext cx="1008000" cy="405720"/>
            <a:chOff x="6581160" y="3435480"/>
            <a:chExt cx="1008000" cy="405720"/>
          </a:xfrm>
        </p:grpSpPr>
        <p:sp>
          <p:nvSpPr>
            <p:cNvPr id="704" name=""/>
            <p:cNvSpPr/>
            <p:nvPr/>
          </p:nvSpPr>
          <p:spPr>
            <a:xfrm>
              <a:off x="6581160" y="34354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45040" y="3483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7416000" y="3425760"/>
            <a:ext cx="784080" cy="368280"/>
            <a:chOff x="7416000" y="3425760"/>
            <a:chExt cx="784080" cy="368280"/>
          </a:xfrm>
        </p:grpSpPr>
        <p:sp>
          <p:nvSpPr>
            <p:cNvPr id="707" name=""/>
            <p:cNvSpPr/>
            <p:nvPr/>
          </p:nvSpPr>
          <p:spPr>
            <a:xfrm>
              <a:off x="7416000" y="34257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73760" y="347328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8098200" y="34448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3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715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719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429840" y="3043080"/>
            <a:ext cx="2712240" cy="648720"/>
            <a:chOff x="429840" y="3043080"/>
            <a:chExt cx="2712240" cy="648720"/>
          </a:xfrm>
        </p:grpSpPr>
        <p:sp>
          <p:nvSpPr>
            <p:cNvPr id="722" name=""/>
            <p:cNvSpPr/>
            <p:nvPr/>
          </p:nvSpPr>
          <p:spPr>
            <a:xfrm>
              <a:off x="429840" y="3043080"/>
              <a:ext cx="271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3200" spc="-1" strike="noStrike" baseline="-25000">
                  <a:solidFill>
                    <a:srgbClr val="0000ff"/>
                  </a:solidFill>
                  <a:latin typeface="Comic Sans MS"/>
                </a:rPr>
                <a:t>ox</a:t>
              </a:r>
              <a:r>
                <a:rPr b="1" lang="fr-FR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32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8960" y="3094200"/>
              <a:ext cx="35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726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731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733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736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737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742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748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752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754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757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760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608360" y="3033720"/>
            <a:ext cx="4319640" cy="1619280"/>
            <a:chOff x="4608360" y="3033720"/>
            <a:chExt cx="4319640" cy="1619280"/>
          </a:xfrm>
        </p:grpSpPr>
        <p:sp>
          <p:nvSpPr>
            <p:cNvPr id="763" name=""/>
            <p:cNvSpPr/>
            <p:nvPr/>
          </p:nvSpPr>
          <p:spPr>
            <a:xfrm>
              <a:off x="4608360" y="3033720"/>
              <a:ext cx="4319640" cy="16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07000" y="3059280"/>
              <a:ext cx="305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étermination de la valeur de 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81920" y="309564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605840" y="3444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768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5292000" y="3273480"/>
            <a:ext cx="817560" cy="405720"/>
            <a:chOff x="5292000" y="3273480"/>
            <a:chExt cx="817560" cy="405720"/>
          </a:xfrm>
        </p:grpSpPr>
        <p:sp>
          <p:nvSpPr>
            <p:cNvPr id="771" name=""/>
            <p:cNvSpPr/>
            <p:nvPr/>
          </p:nvSpPr>
          <p:spPr>
            <a:xfrm>
              <a:off x="5292000" y="3273480"/>
              <a:ext cx="81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2360" y="3321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5435640" y="3619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406840" y="3664080"/>
            <a:ext cx="659160" cy="368280"/>
            <a:chOff x="5406840" y="3664080"/>
            <a:chExt cx="659160" cy="368280"/>
          </a:xfrm>
        </p:grpSpPr>
        <p:sp>
          <p:nvSpPr>
            <p:cNvPr id="775" name=""/>
            <p:cNvSpPr/>
            <p:nvPr/>
          </p:nvSpPr>
          <p:spPr>
            <a:xfrm>
              <a:off x="5406840" y="36640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82960" y="37116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6283440" y="3537000"/>
            <a:ext cx="325440" cy="144360"/>
          </a:xfrm>
          <a:prstGeom prst="rightArrow">
            <a:avLst>
              <a:gd name="adj1" fmla="val 50000"/>
              <a:gd name="adj2" fmla="val 563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581160" y="3435480"/>
            <a:ext cx="1008000" cy="405720"/>
            <a:chOff x="6581160" y="3435480"/>
            <a:chExt cx="1008000" cy="405720"/>
          </a:xfrm>
        </p:grpSpPr>
        <p:sp>
          <p:nvSpPr>
            <p:cNvPr id="779" name=""/>
            <p:cNvSpPr/>
            <p:nvPr/>
          </p:nvSpPr>
          <p:spPr>
            <a:xfrm>
              <a:off x="6581160" y="34354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45040" y="3483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7416000" y="3425760"/>
            <a:ext cx="784080" cy="368280"/>
            <a:chOff x="7416000" y="3425760"/>
            <a:chExt cx="784080" cy="368280"/>
          </a:xfrm>
        </p:grpSpPr>
        <p:sp>
          <p:nvSpPr>
            <p:cNvPr id="782" name=""/>
            <p:cNvSpPr/>
            <p:nvPr/>
          </p:nvSpPr>
          <p:spPr>
            <a:xfrm>
              <a:off x="7416000" y="34257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73760" y="347328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8098200" y="34448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59640" y="3392640"/>
            <a:ext cx="2125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601040" y="3933720"/>
            <a:ext cx="0" cy="4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1914480" y="4324320"/>
            <a:ext cx="568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1908000" y="4010040"/>
            <a:ext cx="0" cy="3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42920" y="3068640"/>
            <a:ext cx="4265640" cy="1420200"/>
            <a:chOff x="142920" y="3068640"/>
            <a:chExt cx="4265640" cy="1420200"/>
          </a:xfrm>
        </p:grpSpPr>
        <p:sp>
          <p:nvSpPr>
            <p:cNvPr id="790" name=""/>
            <p:cNvSpPr/>
            <p:nvPr/>
          </p:nvSpPr>
          <p:spPr>
            <a:xfrm>
              <a:off x="1403640" y="3571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30960" y="3571920"/>
              <a:ext cx="77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0640" y="357192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142920" y="3068640"/>
              <a:ext cx="3997440" cy="1190520"/>
              <a:chOff x="142920" y="3068640"/>
              <a:chExt cx="3997440" cy="119052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322200" y="3068640"/>
                <a:ext cx="3818160" cy="581400"/>
                <a:chOff x="322200" y="3068640"/>
                <a:chExt cx="3818160" cy="5814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322200" y="3068640"/>
                  <a:ext cx="3818160" cy="58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W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=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 Unicode MS"/>
                    </a:rPr>
                    <a:t>II</a:t>
                  </a:r>
                  <a:r>
                    <a:rPr b="1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 Unicode MS"/>
                    </a:rPr>
                    <a:t>II . 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Cos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. </a:t>
                  </a:r>
                  <a:r>
                    <a:rPr b="1" lang="en-US" sz="3200" spc="-1" strike="noStrike">
                      <a:solidFill>
                        <a:srgbClr val="339933"/>
                      </a:solidFill>
                      <a:latin typeface="Comic Sans MS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665360" y="3119760"/>
                  <a:ext cx="35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1285920" y="3616560"/>
                <a:ext cx="777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340000" y="361656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42920" y="3616560"/>
                <a:ext cx="777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0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804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808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814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816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819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820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826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829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832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835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839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844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V="1">
            <a:off x="7472520" y="2198520"/>
            <a:ext cx="128736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7245720" y="2923560"/>
            <a:ext cx="788040" cy="756000"/>
            <a:chOff x="7245720" y="2923560"/>
            <a:chExt cx="788040" cy="756000"/>
          </a:xfrm>
        </p:grpSpPr>
        <p:sp>
          <p:nvSpPr>
            <p:cNvPr id="850" name=""/>
            <p:cNvSpPr/>
            <p:nvPr/>
          </p:nvSpPr>
          <p:spPr>
            <a:xfrm rot="938400">
              <a:off x="7322400" y="2981160"/>
              <a:ext cx="516600" cy="64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1" y="417"/>
                  </a:moveTo>
                  <a:arcTo wR="10800" hR="10800" stAng="-4441998" swAng="2866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1" y="417"/>
                  </a:moveTo>
                  <a:arcTo wR="10800" hR="10800" stAng="-4441998" swAng="286623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56920" y="29383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7991640" y="281448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467480" y="3238560"/>
            <a:ext cx="5191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885480" y="245736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175360" y="245736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578920" y="2457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227680" y="561960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motr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3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3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3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864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868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762200" y="4938840"/>
            <a:ext cx="597960" cy="1001520"/>
            <a:chOff x="1762200" y="4938840"/>
            <a:chExt cx="597960" cy="1001520"/>
          </a:xfrm>
        </p:grpSpPr>
        <p:sp>
          <p:nvSpPr>
            <p:cNvPr id="874" name=""/>
            <p:cNvSpPr/>
            <p:nvPr/>
          </p:nvSpPr>
          <p:spPr>
            <a:xfrm rot="16200000">
              <a:off x="1340640" y="5360040"/>
              <a:ext cx="1001520" cy="158760"/>
            </a:xfrm>
            <a:prstGeom prst="rightArrow">
              <a:avLst>
                <a:gd name="adj1" fmla="val 50000"/>
                <a:gd name="adj2" fmla="val 1577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2054520" y="5256360"/>
              <a:ext cx="305640" cy="368280"/>
              <a:chOff x="2054520" y="5256360"/>
              <a:chExt cx="305640" cy="368280"/>
            </a:xfrm>
          </p:grpSpPr>
          <p:sp>
            <p:nvSpPr>
              <p:cNvPr id="876" name=""/>
              <p:cNvSpPr/>
              <p:nvPr/>
            </p:nvSpPr>
            <p:spPr>
              <a:xfrm>
                <a:off x="2054520" y="525636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070000" y="52563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879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880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 flipV="1">
            <a:off x="1833480" y="3981600"/>
            <a:ext cx="25560" cy="19778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886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889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-1052640" y="4023360"/>
            <a:ext cx="4292280" cy="3855960"/>
            <a:chOff x="-1052640" y="4023360"/>
            <a:chExt cx="4292280" cy="3855960"/>
          </a:xfrm>
        </p:grpSpPr>
        <p:sp>
          <p:nvSpPr>
            <p:cNvPr id="892" name=""/>
            <p:cNvSpPr/>
            <p:nvPr/>
          </p:nvSpPr>
          <p:spPr>
            <a:xfrm>
              <a:off x="-1052640" y="4023360"/>
              <a:ext cx="4292280" cy="385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68" y="716"/>
                  </a:moveTo>
                  <a:arcTo wR="10800" hR="10800" stAng="-4140952" swAng="4115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68" y="716"/>
                  </a:moveTo>
                  <a:arcTo wR="10800" hR="10800" stAng="-4140952" swAng="4115478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12760" y="4651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895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899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904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"/>
          <p:cNvSpPr/>
          <p:nvPr/>
        </p:nvSpPr>
        <p:spPr>
          <a:xfrm flipH="1" flipV="1">
            <a:off x="7464600" y="2015640"/>
            <a:ext cx="7920" cy="12128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448320" y="2634120"/>
            <a:ext cx="1527480" cy="1215360"/>
            <a:chOff x="6448320" y="2634120"/>
            <a:chExt cx="1527480" cy="1215360"/>
          </a:xfrm>
        </p:grpSpPr>
        <p:sp>
          <p:nvSpPr>
            <p:cNvPr id="910" name=""/>
            <p:cNvSpPr/>
            <p:nvPr/>
          </p:nvSpPr>
          <p:spPr>
            <a:xfrm rot="938400">
              <a:off x="6543000" y="2797920"/>
              <a:ext cx="1337760" cy="8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36" y="213"/>
                  </a:moveTo>
                  <a:arcTo wR="10800" hR="10800" stAng="-4715628" swAng="3139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36" y="213"/>
                  </a:moveTo>
                  <a:arcTo wR="10800" hR="10800" stAng="-4715628" swAng="313986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37760" y="28386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7467480" y="25383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911400" y="25290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165640" y="2565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470560" y="2565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04840" y="297036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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42920" y="308628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06560" y="29559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98680" y="30765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911400" y="29242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621320" y="30891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75360" y="29242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605200" y="2924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55040" y="5300640"/>
            <a:ext cx="117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sans eff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3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3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931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935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094400" y="4653000"/>
            <a:ext cx="801360" cy="1345320"/>
            <a:chOff x="1094400" y="4653000"/>
            <a:chExt cx="801360" cy="1345320"/>
          </a:xfrm>
        </p:grpSpPr>
        <p:sp>
          <p:nvSpPr>
            <p:cNvPr id="941" name=""/>
            <p:cNvSpPr/>
            <p:nvPr/>
          </p:nvSpPr>
          <p:spPr>
            <a:xfrm rot="13606800">
              <a:off x="994320" y="5499360"/>
              <a:ext cx="1001520" cy="158760"/>
            </a:xfrm>
            <a:prstGeom prst="rightArrow">
              <a:avLst>
                <a:gd name="adj1" fmla="val 50000"/>
                <a:gd name="adj2" fmla="val 1577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1195560" y="4653000"/>
              <a:ext cx="305640" cy="368280"/>
              <a:chOff x="1195560" y="4653000"/>
              <a:chExt cx="305640" cy="368280"/>
            </a:xfrm>
          </p:grpSpPr>
          <p:sp>
            <p:nvSpPr>
              <p:cNvPr id="943" name=""/>
              <p:cNvSpPr/>
              <p:nvPr/>
            </p:nvSpPr>
            <p:spPr>
              <a:xfrm>
                <a:off x="1195560" y="46530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11040" y="46530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946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947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H="1" flipV="1">
            <a:off x="128520" y="4039920"/>
            <a:ext cx="1704960" cy="19191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953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956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-1052280" y="4024440"/>
            <a:ext cx="4291920" cy="3856680"/>
            <a:chOff x="-1052280" y="4024440"/>
            <a:chExt cx="4291920" cy="3856680"/>
          </a:xfrm>
        </p:grpSpPr>
        <p:sp>
          <p:nvSpPr>
            <p:cNvPr id="959" name=""/>
            <p:cNvSpPr/>
            <p:nvPr/>
          </p:nvSpPr>
          <p:spPr>
            <a:xfrm>
              <a:off x="-1052280" y="4024440"/>
              <a:ext cx="4291920" cy="38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9" y="872"/>
                  </a:moveTo>
                  <a:arcTo wR="10800" hR="10800" stAng="-6790657" swAng="6765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9" y="872"/>
                  </a:moveTo>
                  <a:arcTo wR="10800" hR="10800" stAng="-6790657" swAng="676518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12760" y="4651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962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966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971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6831360" y="2666880"/>
            <a:ext cx="1121400" cy="1228680"/>
            <a:chOff x="6831360" y="2666880"/>
            <a:chExt cx="1121400" cy="1228680"/>
          </a:xfrm>
        </p:grpSpPr>
        <p:sp>
          <p:nvSpPr>
            <p:cNvPr id="976" name=""/>
            <p:cNvSpPr/>
            <p:nvPr/>
          </p:nvSpPr>
          <p:spPr>
            <a:xfrm rot="938400">
              <a:off x="6941880" y="2845800"/>
              <a:ext cx="900000" cy="9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5" y="3283"/>
                  </a:moveTo>
                  <a:arcTo wR="10800" hR="10800" stAng="-8153535" swAng="6577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5" y="3283"/>
                  </a:moveTo>
                  <a:arcTo wR="10800" hR="10800" stAng="-8153535" swAng="6577769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85480" y="26668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911400" y="25290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165640" y="2565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470560" y="2565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104840" y="297036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06560" y="29559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398680" y="30765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910320" y="29973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621320" y="30891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66720" y="299736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607000" y="2997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68080" y="34005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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806560" y="33861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398680" y="35067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85480" y="33544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621320" y="35193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75360" y="33544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578920" y="33544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6643800" y="2325600"/>
            <a:ext cx="798480" cy="8985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989760" y="2727360"/>
            <a:ext cx="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6973560" y="3238560"/>
            <a:ext cx="4935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44840" y="49053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rési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3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3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1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3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0164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6360" y="9810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énér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959760" y="1390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0574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vail d’une a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961200" y="242712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940680" y="271476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9800" y="37051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issance d’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961200" y="41022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4960" y="438156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974520" y="17287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Notion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927000" y="30290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quelco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7" action="ppaction://hlinksldjump"/>
          </p:cNvPr>
          <p:cNvSpPr/>
          <p:nvPr/>
        </p:nvSpPr>
        <p:spPr>
          <a:xfrm>
            <a:off x="927000" y="332100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rotation autour d’un axe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5120" y="46990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sur un solide en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720" y="5083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3360" y="5506920"/>
            <a:ext cx="62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,puissance et couple d’un moteur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6913800" y="6133680"/>
            <a:ext cx="2241000" cy="423000"/>
          </a:xfrm>
          <a:custGeom>
            <a:avLst/>
            <a:gdLst>
              <a:gd name="textAreaLeft" fmla="*/ 27360 w 2241000"/>
              <a:gd name="textAreaRight" fmla="*/ 2213640 w 2241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114355" h="21600">
                <a:moveTo>
                  <a:pt x="0" y="0"/>
                </a:moveTo>
                <a:lnTo>
                  <a:pt x="114355" y="0"/>
                </a:lnTo>
                <a:lnTo>
                  <a:pt x="114355" y="21600"/>
                </a:lnTo>
                <a:lnTo>
                  <a:pt x="0" y="21600"/>
                </a:lnTo>
                <a:close/>
              </a:path>
              <a:path fill="lightenLess" w="114355" h="21600">
                <a:moveTo>
                  <a:pt x="0" y="0"/>
                </a:moveTo>
                <a:lnTo>
                  <a:pt x="114355" y="0"/>
                </a:lnTo>
                <a:lnTo>
                  <a:pt x="112955" y="1400"/>
                </a:lnTo>
                <a:lnTo>
                  <a:pt x="1400" y="1400"/>
                </a:lnTo>
                <a:close/>
              </a:path>
              <a:path fill="darken" w="114355" h="21600">
                <a:moveTo>
                  <a:pt x="114355" y="0"/>
                </a:moveTo>
                <a:lnTo>
                  <a:pt x="114355" y="21600"/>
                </a:lnTo>
                <a:lnTo>
                  <a:pt x="112955" y="20200"/>
                </a:lnTo>
                <a:lnTo>
                  <a:pt x="112955" y="1400"/>
                </a:lnTo>
                <a:close/>
              </a:path>
              <a:path fill="darkenLess" w="114355" h="21600">
                <a:moveTo>
                  <a:pt x="114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955" y="20200"/>
                </a:lnTo>
                <a:close/>
              </a:path>
              <a:path fill="lighten" w="114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 du diapo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07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014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015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019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021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451920" y="4295880"/>
            <a:ext cx="1681560" cy="459720"/>
            <a:chOff x="6451920" y="4295880"/>
            <a:chExt cx="1681560" cy="459720"/>
          </a:xfrm>
        </p:grpSpPr>
        <p:sp>
          <p:nvSpPr>
            <p:cNvPr id="1024" name=""/>
            <p:cNvSpPr/>
            <p:nvPr/>
          </p:nvSpPr>
          <p:spPr>
            <a:xfrm>
              <a:off x="6451920" y="4295880"/>
              <a:ext cx="1681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= 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 Unicode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029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033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034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43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050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051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055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057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9" name=""/>
          <p:cNvGrpSpPr/>
          <p:nvPr/>
        </p:nvGrpSpPr>
        <p:grpSpPr>
          <a:xfrm>
            <a:off x="6451920" y="4295880"/>
            <a:ext cx="1681560" cy="459720"/>
            <a:chOff x="6451920" y="4295880"/>
            <a:chExt cx="1681560" cy="459720"/>
          </a:xfrm>
        </p:grpSpPr>
        <p:sp>
          <p:nvSpPr>
            <p:cNvPr id="1060" name=""/>
            <p:cNvSpPr/>
            <p:nvPr/>
          </p:nvSpPr>
          <p:spPr>
            <a:xfrm>
              <a:off x="6451920" y="4295880"/>
              <a:ext cx="1681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= 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 Unicode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065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069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070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077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081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085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838760" y="4703760"/>
            <a:ext cx="12603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019640" y="5803920"/>
            <a:ext cx="50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516440" y="5778360"/>
            <a:ext cx="31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70212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780520" y="5805360"/>
            <a:ext cx="819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97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104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105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109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111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114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118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119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838760" y="4703760"/>
            <a:ext cx="12603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937440" y="5405400"/>
            <a:ext cx="1895400" cy="762120"/>
            <a:chOff x="937440" y="5405400"/>
            <a:chExt cx="1895400" cy="762120"/>
          </a:xfrm>
        </p:grpSpPr>
        <p:grpSp>
          <p:nvGrpSpPr>
            <p:cNvPr id="1125" name=""/>
            <p:cNvGrpSpPr/>
            <p:nvPr/>
          </p:nvGrpSpPr>
          <p:grpSpPr>
            <a:xfrm>
              <a:off x="937440" y="5405400"/>
              <a:ext cx="1788480" cy="459720"/>
              <a:chOff x="937440" y="5405400"/>
              <a:chExt cx="1788480" cy="459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937440" y="5405400"/>
                <a:ext cx="17884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 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895400" y="54356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973080" y="57992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97760" y="579924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01480" y="57754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1751040" y="4140360"/>
            <a:ext cx="385272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 rot="19141200">
            <a:off x="5313600" y="3184920"/>
            <a:ext cx="1523160" cy="736200"/>
          </a:xfrm>
          <a:prstGeom prst="rightArrow">
            <a:avLst>
              <a:gd name="adj1" fmla="val 50000"/>
              <a:gd name="adj2" fmla="val 517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2536560" y="2243880"/>
            <a:ext cx="2370960" cy="2177280"/>
            <a:chOff x="2536560" y="2243880"/>
            <a:chExt cx="2370960" cy="2177280"/>
          </a:xfrm>
        </p:grpSpPr>
        <p:sp>
          <p:nvSpPr>
            <p:cNvPr id="1134" name=""/>
            <p:cNvSpPr/>
            <p:nvPr/>
          </p:nvSpPr>
          <p:spPr>
            <a:xfrm flipH="1" rot="19168800">
              <a:off x="2476800" y="2964240"/>
              <a:ext cx="2489760" cy="736200"/>
            </a:xfrm>
            <a:prstGeom prst="rightArrow">
              <a:avLst>
                <a:gd name="adj1" fmla="val 50000"/>
                <a:gd name="adj2" fmla="val 845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gne d’action de 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4376160" y="2496240"/>
              <a:ext cx="1364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6472440" y="4295880"/>
            <a:ext cx="1599480" cy="459720"/>
            <a:chOff x="6472440" y="4295880"/>
            <a:chExt cx="1599480" cy="459720"/>
          </a:xfrm>
        </p:grpSpPr>
        <p:sp>
          <p:nvSpPr>
            <p:cNvPr id="1138" name=""/>
            <p:cNvSpPr/>
            <p:nvPr/>
          </p:nvSpPr>
          <p:spPr>
            <a:xfrm>
              <a:off x="6472440" y="4295880"/>
              <a:ext cx="159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 = P.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145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149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153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004520" y="5803920"/>
            <a:ext cx="5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516440" y="5778360"/>
            <a:ext cx="31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70212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770080" y="5805360"/>
            <a:ext cx="80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95120" y="5578560"/>
            <a:ext cx="679680" cy="338040"/>
          </a:xfrm>
          <a:prstGeom prst="rightArrow">
            <a:avLst>
              <a:gd name="adj1" fmla="val 50000"/>
              <a:gd name="adj2" fmla="val 502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3966840" y="4021200"/>
            <a:ext cx="535320" cy="465120"/>
            <a:chOff x="3966840" y="4021200"/>
            <a:chExt cx="535320" cy="465120"/>
          </a:xfrm>
        </p:grpSpPr>
        <p:grpSp>
          <p:nvGrpSpPr>
            <p:cNvPr id="1162" name=""/>
            <p:cNvGrpSpPr/>
            <p:nvPr/>
          </p:nvGrpSpPr>
          <p:grpSpPr>
            <a:xfrm>
              <a:off x="3966840" y="4021200"/>
              <a:ext cx="203760" cy="196560"/>
              <a:chOff x="3966840" y="4021200"/>
              <a:chExt cx="203760" cy="196560"/>
            </a:xfrm>
          </p:grpSpPr>
          <p:sp>
            <p:nvSpPr>
              <p:cNvPr id="1163" name=""/>
              <p:cNvSpPr/>
              <p:nvPr/>
            </p:nvSpPr>
            <p:spPr>
              <a:xfrm>
                <a:off x="3973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3966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4167360" y="41180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3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706400" y="3513240"/>
            <a:ext cx="2400480" cy="1333440"/>
          </a:xfrm>
          <a:custGeom>
            <a:avLst/>
            <a:gdLst/>
            <a:ahLst/>
            <a:rect l="l" t="t" r="r" b="b"/>
            <a:pathLst>
              <a:path w="1512" h="840">
                <a:moveTo>
                  <a:pt x="15" y="0"/>
                </a:moveTo>
                <a:lnTo>
                  <a:pt x="1503" y="5"/>
                </a:lnTo>
                <a:lnTo>
                  <a:pt x="1512" y="840"/>
                </a:lnTo>
                <a:lnTo>
                  <a:pt x="0" y="840"/>
                </a:lnTo>
                <a:lnTo>
                  <a:pt x="15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171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177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181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182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937440" y="5405400"/>
            <a:ext cx="1895400" cy="762120"/>
            <a:chOff x="937440" y="5405400"/>
            <a:chExt cx="1895400" cy="762120"/>
          </a:xfrm>
        </p:grpSpPr>
        <p:grpSp>
          <p:nvGrpSpPr>
            <p:cNvPr id="1187" name=""/>
            <p:cNvGrpSpPr/>
            <p:nvPr/>
          </p:nvGrpSpPr>
          <p:grpSpPr>
            <a:xfrm>
              <a:off x="937440" y="5405400"/>
              <a:ext cx="1788480" cy="459720"/>
              <a:chOff x="937440" y="5405400"/>
              <a:chExt cx="1788480" cy="459720"/>
            </a:xfrm>
          </p:grpSpPr>
          <p:sp>
            <p:nvSpPr>
              <p:cNvPr id="1188" name=""/>
              <p:cNvSpPr/>
              <p:nvPr/>
            </p:nvSpPr>
            <p:spPr>
              <a:xfrm>
                <a:off x="937440" y="5405400"/>
                <a:ext cx="17884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 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895400" y="54356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973080" y="57992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7760" y="579924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01480" y="57754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1751040" y="4140360"/>
            <a:ext cx="385272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6472440" y="4295880"/>
            <a:ext cx="1599480" cy="459720"/>
            <a:chOff x="6472440" y="4295880"/>
            <a:chExt cx="1599480" cy="459720"/>
          </a:xfrm>
        </p:grpSpPr>
        <p:sp>
          <p:nvSpPr>
            <p:cNvPr id="1196" name=""/>
            <p:cNvSpPr/>
            <p:nvPr/>
          </p:nvSpPr>
          <p:spPr>
            <a:xfrm>
              <a:off x="6472440" y="4295880"/>
              <a:ext cx="159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 = P.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203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207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211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004520" y="5803920"/>
            <a:ext cx="5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522560" y="577836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69024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770080" y="5805360"/>
            <a:ext cx="80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95120" y="5578560"/>
            <a:ext cx="679680" cy="338040"/>
          </a:xfrm>
          <a:prstGeom prst="rightArrow">
            <a:avLst>
              <a:gd name="adj1" fmla="val 50000"/>
              <a:gd name="adj2" fmla="val 502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1653840" y="3527280"/>
            <a:ext cx="3518280" cy="1317600"/>
            <a:chOff x="1653840" y="3527280"/>
            <a:chExt cx="3518280" cy="1317600"/>
          </a:xfrm>
        </p:grpSpPr>
        <p:sp>
          <p:nvSpPr>
            <p:cNvPr id="1220" name=""/>
            <p:cNvSpPr/>
            <p:nvPr/>
          </p:nvSpPr>
          <p:spPr>
            <a:xfrm>
              <a:off x="1754280" y="3527280"/>
              <a:ext cx="3417840" cy="1317600"/>
            </a:xfrm>
            <a:custGeom>
              <a:avLst/>
              <a:gdLst/>
              <a:ahLst/>
              <a:rect l="l" t="t" r="r" b="b"/>
              <a:pathLst>
                <a:path w="2153" h="830">
                  <a:moveTo>
                    <a:pt x="1" y="0"/>
                  </a:moveTo>
                  <a:lnTo>
                    <a:pt x="0" y="830"/>
                  </a:lnTo>
                  <a:lnTo>
                    <a:pt x="126" y="828"/>
                  </a:lnTo>
                  <a:lnTo>
                    <a:pt x="124" y="428"/>
                  </a:lnTo>
                  <a:lnTo>
                    <a:pt x="2150" y="428"/>
                  </a:lnTo>
                  <a:lnTo>
                    <a:pt x="2153" y="341"/>
                  </a:lnTo>
                  <a:lnTo>
                    <a:pt x="124" y="340"/>
                  </a:lnTo>
                  <a:lnTo>
                    <a:pt x="12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1653840" y="4021200"/>
              <a:ext cx="548640" cy="465120"/>
              <a:chOff x="1653840" y="4021200"/>
              <a:chExt cx="548640" cy="46512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1653840" y="4021200"/>
                <a:ext cx="203760" cy="196560"/>
                <a:chOff x="1653840" y="4021200"/>
                <a:chExt cx="203760" cy="1965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1660680" y="4021200"/>
                  <a:ext cx="196920" cy="196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1653840" y="4021200"/>
                  <a:ext cx="196920" cy="196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>
                <a:off x="1863360" y="41180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1752480" y="3716280"/>
              <a:ext cx="609840" cy="480960"/>
              <a:chOff x="1752480" y="3716280"/>
              <a:chExt cx="609840" cy="480960"/>
            </a:xfrm>
          </p:grpSpPr>
          <p:sp>
            <p:nvSpPr>
              <p:cNvPr id="1227" name=""/>
              <p:cNvSpPr/>
              <p:nvPr/>
            </p:nvSpPr>
            <p:spPr>
              <a:xfrm>
                <a:off x="1752480" y="4064040"/>
                <a:ext cx="609840" cy="133200"/>
              </a:xfrm>
              <a:prstGeom prst="rightArrow">
                <a:avLst>
                  <a:gd name="adj1" fmla="val 50000"/>
                  <a:gd name="adj2" fmla="val 114459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1951560" y="3716280"/>
                <a:ext cx="305640" cy="368280"/>
                <a:chOff x="1951560" y="3716280"/>
                <a:chExt cx="305640" cy="3682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951560" y="371628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74960" y="3762360"/>
                  <a:ext cx="24156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1" name=""/>
          <p:cNvGrpSpPr/>
          <p:nvPr/>
        </p:nvGrpSpPr>
        <p:grpSpPr>
          <a:xfrm>
            <a:off x="3966840" y="4021200"/>
            <a:ext cx="535320" cy="465120"/>
            <a:chOff x="3966840" y="4021200"/>
            <a:chExt cx="535320" cy="465120"/>
          </a:xfrm>
        </p:grpSpPr>
        <p:grpSp>
          <p:nvGrpSpPr>
            <p:cNvPr id="1232" name=""/>
            <p:cNvGrpSpPr/>
            <p:nvPr/>
          </p:nvGrpSpPr>
          <p:grpSpPr>
            <a:xfrm>
              <a:off x="3966840" y="4021200"/>
              <a:ext cx="203760" cy="196560"/>
              <a:chOff x="3966840" y="4021200"/>
              <a:chExt cx="203760" cy="196560"/>
            </a:xfrm>
          </p:grpSpPr>
          <p:sp>
            <p:nvSpPr>
              <p:cNvPr id="1233" name=""/>
              <p:cNvSpPr/>
              <p:nvPr/>
            </p:nvSpPr>
            <p:spPr>
              <a:xfrm>
                <a:off x="3973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3966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5" name=""/>
            <p:cNvSpPr/>
            <p:nvPr/>
          </p:nvSpPr>
          <p:spPr>
            <a:xfrm>
              <a:off x="4167360" y="41180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237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238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1752480" y="4092480"/>
            <a:ext cx="2333880" cy="1212840"/>
            <a:chOff x="1752480" y="4092480"/>
            <a:chExt cx="2333880" cy="1212840"/>
          </a:xfrm>
        </p:grpSpPr>
        <p:sp>
          <p:nvSpPr>
            <p:cNvPr id="1242" name=""/>
            <p:cNvSpPr/>
            <p:nvPr/>
          </p:nvSpPr>
          <p:spPr>
            <a:xfrm>
              <a:off x="1752480" y="4102200"/>
              <a:ext cx="0" cy="120312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76640" y="4092480"/>
              <a:ext cx="0" cy="12128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752480" y="5229360"/>
              <a:ext cx="2333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83440" y="485784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0,1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2835000" y="54054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733000" y="5824440"/>
            <a:ext cx="5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816000" y="5405400"/>
            <a:ext cx="357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706480" y="48672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835000" y="58975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288960" y="5951520"/>
            <a:ext cx="134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56,5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15 L 0.25313 0.00115 E">
                                      <p:cBhvr>
                                        <p:cTn id="1180" dur="2000" fill="hold"/>
                                        <p:tgtEl>
                                          <p:spTgt spid="1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3.33333E-006 L -0.27204 -0.05301 E">
                                      <p:cBhvr>
                                        <p:cTn id="1197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0.15556 0.08704 E">
                                      <p:cBhvr>
                                        <p:cTn id="1210" dur="2000" fill="hold"/>
                                        <p:tgtEl>
                                          <p:spTgt spid="1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815040" y="942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quelcon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1257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d’une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stante se déplaçant entre 2 point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865840" y="2652840"/>
            <a:ext cx="7714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6136920" y="2631960"/>
            <a:ext cx="405720" cy="545760"/>
            <a:chOff x="6136920" y="2631960"/>
            <a:chExt cx="405720" cy="545760"/>
          </a:xfrm>
        </p:grpSpPr>
        <p:grpSp>
          <p:nvGrpSpPr>
            <p:cNvPr id="1262" name=""/>
            <p:cNvGrpSpPr/>
            <p:nvPr/>
          </p:nvGrpSpPr>
          <p:grpSpPr>
            <a:xfrm>
              <a:off x="6136920" y="2975040"/>
              <a:ext cx="211320" cy="202680"/>
              <a:chOff x="6136920" y="2975040"/>
              <a:chExt cx="211320" cy="202680"/>
            </a:xfrm>
          </p:grpSpPr>
          <p:sp>
            <p:nvSpPr>
              <p:cNvPr id="1263" name=""/>
              <p:cNvSpPr/>
              <p:nvPr/>
            </p:nvSpPr>
            <p:spPr>
              <a:xfrm>
                <a:off x="6153120" y="297972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6136920" y="297504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6203520" y="263196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42920" y="309096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42920" y="350820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5696280" y="3068640"/>
            <a:ext cx="627840" cy="1001520"/>
            <a:chOff x="5696280" y="3068640"/>
            <a:chExt cx="627840" cy="1001520"/>
          </a:xfrm>
        </p:grpSpPr>
        <p:sp>
          <p:nvSpPr>
            <p:cNvPr id="1270" name=""/>
            <p:cNvSpPr/>
            <p:nvPr/>
          </p:nvSpPr>
          <p:spPr>
            <a:xfrm rot="5400000">
              <a:off x="5744160" y="3490200"/>
              <a:ext cx="1001520" cy="158400"/>
            </a:xfrm>
            <a:prstGeom prst="rightArrow">
              <a:avLst>
                <a:gd name="adj1" fmla="val 50000"/>
                <a:gd name="adj2" fmla="val 15806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5696280" y="3655800"/>
              <a:ext cx="305640" cy="368280"/>
              <a:chOff x="5696280" y="3655800"/>
              <a:chExt cx="305640" cy="368280"/>
            </a:xfrm>
          </p:grpSpPr>
          <p:sp>
            <p:nvSpPr>
              <p:cNvPr id="1272" name=""/>
              <p:cNvSpPr/>
              <p:nvPr/>
            </p:nvSpPr>
            <p:spPr>
              <a:xfrm>
                <a:off x="5696280" y="36558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711760" y="36558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4" name=""/>
          <p:cNvSpPr/>
          <p:nvPr/>
        </p:nvSpPr>
        <p:spPr>
          <a:xfrm flipH="1">
            <a:off x="4063680" y="3429000"/>
            <a:ext cx="201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3088800" y="4879800"/>
            <a:ext cx="392400" cy="545760"/>
            <a:chOff x="3088800" y="4879800"/>
            <a:chExt cx="392400" cy="545760"/>
          </a:xfrm>
        </p:grpSpPr>
        <p:grpSp>
          <p:nvGrpSpPr>
            <p:cNvPr id="1276" name=""/>
            <p:cNvGrpSpPr/>
            <p:nvPr/>
          </p:nvGrpSpPr>
          <p:grpSpPr>
            <a:xfrm>
              <a:off x="3088800" y="5222880"/>
              <a:ext cx="211320" cy="202680"/>
              <a:chOff x="3088800" y="5222880"/>
              <a:chExt cx="211320" cy="202680"/>
            </a:xfrm>
          </p:grpSpPr>
          <p:sp>
            <p:nvSpPr>
              <p:cNvPr id="1277" name=""/>
              <p:cNvSpPr/>
              <p:nvPr/>
            </p:nvSpPr>
            <p:spPr>
              <a:xfrm>
                <a:off x="3105000" y="522756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3088800" y="522288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"/>
            <p:cNvSpPr/>
            <p:nvPr/>
          </p:nvSpPr>
          <p:spPr>
            <a:xfrm>
              <a:off x="3146400" y="4879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20640" y="1896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 égal au produit de la valeur de cett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la proje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20640" y="2277360"/>
            <a:ext cx="42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s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droite d’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6245280" y="2467080"/>
            <a:ext cx="0" cy="393696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3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3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3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815040" y="942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quelcon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128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d’une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stante se déplaçant entre 2 point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736560" y="3500280"/>
            <a:ext cx="1849680" cy="459720"/>
            <a:chOff x="736560" y="3500280"/>
            <a:chExt cx="1849680" cy="459720"/>
          </a:xfrm>
        </p:grpSpPr>
        <p:sp>
          <p:nvSpPr>
            <p:cNvPr id="1290" name=""/>
            <p:cNvSpPr/>
            <p:nvPr/>
          </p:nvSpPr>
          <p:spPr>
            <a:xfrm>
              <a:off x="736560" y="3500280"/>
              <a:ext cx="184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92360" y="35305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696280" y="2652840"/>
            <a:ext cx="941040" cy="1417320"/>
            <a:chOff x="5696280" y="2652840"/>
            <a:chExt cx="941040" cy="1417320"/>
          </a:xfrm>
        </p:grpSpPr>
        <p:sp>
          <p:nvSpPr>
            <p:cNvPr id="1294" name=""/>
            <p:cNvSpPr/>
            <p:nvPr/>
          </p:nvSpPr>
          <p:spPr>
            <a:xfrm>
              <a:off x="5865840" y="265284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5" name=""/>
            <p:cNvGrpSpPr/>
            <p:nvPr/>
          </p:nvGrpSpPr>
          <p:grpSpPr>
            <a:xfrm>
              <a:off x="5696280" y="3068640"/>
              <a:ext cx="627840" cy="1001520"/>
              <a:chOff x="5696280" y="3068640"/>
              <a:chExt cx="627840" cy="1001520"/>
            </a:xfrm>
          </p:grpSpPr>
          <p:sp>
            <p:nvSpPr>
              <p:cNvPr id="1296" name=""/>
              <p:cNvSpPr/>
              <p:nvPr/>
            </p:nvSpPr>
            <p:spPr>
              <a:xfrm rot="5400000">
                <a:off x="5744160" y="3490200"/>
                <a:ext cx="1001520" cy="158400"/>
              </a:xfrm>
              <a:prstGeom prst="rightArrow">
                <a:avLst>
                  <a:gd name="adj1" fmla="val 50000"/>
                  <a:gd name="adj2" fmla="val 158068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7" name=""/>
              <p:cNvGrpSpPr/>
              <p:nvPr/>
            </p:nvGrpSpPr>
            <p:grpSpPr>
              <a:xfrm>
                <a:off x="5696280" y="3655800"/>
                <a:ext cx="305640" cy="368280"/>
                <a:chOff x="5696280" y="3655800"/>
                <a:chExt cx="305640" cy="36828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5696280" y="36558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711760" y="365580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00" name=""/>
          <p:cNvSpPr/>
          <p:nvPr/>
        </p:nvSpPr>
        <p:spPr>
          <a:xfrm flipH="1">
            <a:off x="4063680" y="3429000"/>
            <a:ext cx="201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3088800" y="4879800"/>
            <a:ext cx="392400" cy="545760"/>
            <a:chOff x="3088800" y="4879800"/>
            <a:chExt cx="392400" cy="545760"/>
          </a:xfrm>
        </p:grpSpPr>
        <p:grpSp>
          <p:nvGrpSpPr>
            <p:cNvPr id="1302" name=""/>
            <p:cNvGrpSpPr/>
            <p:nvPr/>
          </p:nvGrpSpPr>
          <p:grpSpPr>
            <a:xfrm>
              <a:off x="3088800" y="5222880"/>
              <a:ext cx="211320" cy="202680"/>
              <a:chOff x="3088800" y="5222880"/>
              <a:chExt cx="211320" cy="202680"/>
            </a:xfrm>
          </p:grpSpPr>
          <p:sp>
            <p:nvSpPr>
              <p:cNvPr id="1303" name=""/>
              <p:cNvSpPr/>
              <p:nvPr/>
            </p:nvSpPr>
            <p:spPr>
              <a:xfrm>
                <a:off x="3105000" y="522756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3088800" y="522288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3146400" y="4879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620640" y="1896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 égal au produit de la valeur de cett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la proje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20640" y="2277360"/>
            <a:ext cx="42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s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droite d’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6245280" y="2466720"/>
            <a:ext cx="0" cy="387324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6136920" y="2631960"/>
            <a:ext cx="405720" cy="545760"/>
            <a:chOff x="6136920" y="2631960"/>
            <a:chExt cx="405720" cy="545760"/>
          </a:xfrm>
        </p:grpSpPr>
        <p:grpSp>
          <p:nvGrpSpPr>
            <p:cNvPr id="1310" name=""/>
            <p:cNvGrpSpPr/>
            <p:nvPr/>
          </p:nvGrpSpPr>
          <p:grpSpPr>
            <a:xfrm>
              <a:off x="6136920" y="2975040"/>
              <a:ext cx="211320" cy="202680"/>
              <a:chOff x="6136920" y="2975040"/>
              <a:chExt cx="211320" cy="202680"/>
            </a:xfrm>
          </p:grpSpPr>
          <p:sp>
            <p:nvSpPr>
              <p:cNvPr id="1311" name=""/>
              <p:cNvSpPr/>
              <p:nvPr/>
            </p:nvSpPr>
            <p:spPr>
              <a:xfrm>
                <a:off x="6153120" y="297972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6136920" y="297504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03520" y="263196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3203640" y="3068640"/>
            <a:ext cx="3097080" cy="2268360"/>
          </a:xfrm>
          <a:custGeom>
            <a:avLst/>
            <a:gdLst/>
            <a:ahLst/>
            <a:rect l="l" t="t" r="r" b="b"/>
            <a:pathLst>
              <a:path w="1951" h="1429">
                <a:moveTo>
                  <a:pt x="1951" y="0"/>
                </a:moveTo>
                <a:cubicBezTo>
                  <a:pt x="1866" y="13"/>
                  <a:pt x="1557" y="10"/>
                  <a:pt x="1443" y="77"/>
                </a:cubicBezTo>
                <a:cubicBezTo>
                  <a:pt x="1329" y="144"/>
                  <a:pt x="1359" y="342"/>
                  <a:pt x="1269" y="401"/>
                </a:cubicBezTo>
                <a:cubicBezTo>
                  <a:pt x="1179" y="460"/>
                  <a:pt x="1047" y="420"/>
                  <a:pt x="903" y="431"/>
                </a:cubicBezTo>
                <a:cubicBezTo>
                  <a:pt x="759" y="442"/>
                  <a:pt x="531" y="424"/>
                  <a:pt x="405" y="467"/>
                </a:cubicBezTo>
                <a:cubicBezTo>
                  <a:pt x="279" y="510"/>
                  <a:pt x="207" y="609"/>
                  <a:pt x="147" y="689"/>
                </a:cubicBezTo>
                <a:cubicBezTo>
                  <a:pt x="87" y="769"/>
                  <a:pt x="69" y="824"/>
                  <a:pt x="45" y="947"/>
                </a:cubicBezTo>
                <a:cubicBezTo>
                  <a:pt x="21" y="1070"/>
                  <a:pt x="9" y="1329"/>
                  <a:pt x="0" y="1429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6235560" y="2770200"/>
            <a:ext cx="995400" cy="368280"/>
            <a:chOff x="6235560" y="2770200"/>
            <a:chExt cx="995400" cy="368280"/>
          </a:xfrm>
        </p:grpSpPr>
        <p:sp>
          <p:nvSpPr>
            <p:cNvPr id="1316" name=""/>
            <p:cNvSpPr/>
            <p:nvPr/>
          </p:nvSpPr>
          <p:spPr>
            <a:xfrm>
              <a:off x="6235560" y="308628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98200" y="27702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200400" y="4941720"/>
            <a:ext cx="3975120" cy="379440"/>
            <a:chOff x="3200400" y="4941720"/>
            <a:chExt cx="3975120" cy="379440"/>
          </a:xfrm>
        </p:grpSpPr>
        <p:sp>
          <p:nvSpPr>
            <p:cNvPr id="1319" name=""/>
            <p:cNvSpPr/>
            <p:nvPr/>
          </p:nvSpPr>
          <p:spPr>
            <a:xfrm>
              <a:off x="3200400" y="5321160"/>
              <a:ext cx="39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51760" y="49417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6930000" y="3086280"/>
            <a:ext cx="356040" cy="2234880"/>
            <a:chOff x="6930000" y="3086280"/>
            <a:chExt cx="356040" cy="2234880"/>
          </a:xfrm>
        </p:grpSpPr>
        <p:sp>
          <p:nvSpPr>
            <p:cNvPr id="1322" name=""/>
            <p:cNvSpPr/>
            <p:nvPr/>
          </p:nvSpPr>
          <p:spPr>
            <a:xfrm>
              <a:off x="6972480" y="3086280"/>
              <a:ext cx="0" cy="22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30000" y="3921120"/>
              <a:ext cx="35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895320" y="392112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(N)    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 rot="3316800">
            <a:off x="4228560" y="4075920"/>
            <a:ext cx="1522800" cy="736200"/>
          </a:xfrm>
          <a:prstGeom prst="rightArrow">
            <a:avLst>
              <a:gd name="adj1" fmla="val 50000"/>
              <a:gd name="adj2" fmla="val 517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>
            <a:hlinkClick r:id="rId2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03704E-006 C -0.03385 0.00347 -0.06753 0.00717 -0.08958 0.0236 C -0.11163 0.04004 -0.1059 0.08564 -0.13229 0.0986 C -0.15868 0.11157 -0.21771 0.09166 -0.24791 0.10138 C -0.27812 0.1111 -0.29913 0.11897 -0.31354 0.15694 C -0.32795 0.1949 -0.33125 0.26203 -0.33437 0.32916 E">
                                      <p:cBhvr>
                                        <p:cTn id="1277" dur="5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0" dur="5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3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917640" y="94284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rotation autour d’un axe fi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20640" y="1896480"/>
            <a:ext cx="31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 rapport à un point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495600" y="175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ié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son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angle de rotation (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568640" y="2108520"/>
            <a:ext cx="1333800" cy="1311840"/>
            <a:chOff x="7568640" y="2108520"/>
            <a:chExt cx="1333800" cy="1311840"/>
          </a:xfrm>
        </p:grpSpPr>
        <p:sp>
          <p:nvSpPr>
            <p:cNvPr id="1334" name=""/>
            <p:cNvSpPr/>
            <p:nvPr/>
          </p:nvSpPr>
          <p:spPr>
            <a:xfrm rot="2626200">
              <a:off x="7587720" y="2476440"/>
              <a:ext cx="1295280" cy="576000"/>
            </a:xfrm>
            <a:prstGeom prst="leftArrow">
              <a:avLst>
                <a:gd name="adj1" fmla="val 50000"/>
                <a:gd name="adj2" fmla="val 562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2626200">
              <a:off x="7893000" y="2620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ê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620640" y="1464480"/>
            <a:ext cx="8307360" cy="368280"/>
            <a:chOff x="620640" y="1464480"/>
            <a:chExt cx="8307360" cy="368280"/>
          </a:xfrm>
        </p:grpSpPr>
        <p:sp>
          <p:nvSpPr>
            <p:cNvPr id="1337" name=""/>
            <p:cNvSpPr/>
            <p:nvPr/>
          </p:nvSpPr>
          <p:spPr>
            <a:xfrm>
              <a:off x="620640" y="1464480"/>
              <a:ext cx="83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 coup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 est égal au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i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moment d’une for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280360" y="1484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4052880" y="3149640"/>
            <a:ext cx="3327480" cy="2403360"/>
            <a:chOff x="4052880" y="3149640"/>
            <a:chExt cx="3327480" cy="2403360"/>
          </a:xfrm>
        </p:grpSpPr>
        <p:grpSp>
          <p:nvGrpSpPr>
            <p:cNvPr id="1340" name=""/>
            <p:cNvGrpSpPr/>
            <p:nvPr/>
          </p:nvGrpSpPr>
          <p:grpSpPr>
            <a:xfrm>
              <a:off x="4176720" y="3686040"/>
              <a:ext cx="2786040" cy="1425600"/>
              <a:chOff x="4176720" y="3686040"/>
              <a:chExt cx="2786040" cy="1425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4181400" y="3686040"/>
                <a:ext cx="2773440" cy="540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2929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178160" y="3936960"/>
                <a:ext cx="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59520" y="3936960"/>
                <a:ext cx="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176720" y="3944880"/>
                <a:ext cx="2786040" cy="1166760"/>
              </a:xfrm>
              <a:custGeom>
                <a:avLst/>
                <a:gdLst/>
                <a:ahLst/>
                <a:rect l="l" t="t" r="r" b="b"/>
                <a:pathLst>
                  <a:path w="1755" h="735">
                    <a:moveTo>
                      <a:pt x="0" y="6"/>
                    </a:moveTo>
                    <a:lnTo>
                      <a:pt x="9" y="36"/>
                    </a:lnTo>
                    <a:lnTo>
                      <a:pt x="57" y="66"/>
                    </a:lnTo>
                    <a:lnTo>
                      <a:pt x="147" y="102"/>
                    </a:lnTo>
                    <a:lnTo>
                      <a:pt x="249" y="123"/>
                    </a:lnTo>
                    <a:lnTo>
                      <a:pt x="402" y="147"/>
                    </a:lnTo>
                    <a:lnTo>
                      <a:pt x="531" y="159"/>
                    </a:lnTo>
                    <a:lnTo>
                      <a:pt x="684" y="171"/>
                    </a:lnTo>
                    <a:lnTo>
                      <a:pt x="837" y="173"/>
                    </a:lnTo>
                    <a:lnTo>
                      <a:pt x="933" y="173"/>
                    </a:lnTo>
                    <a:lnTo>
                      <a:pt x="1041" y="171"/>
                    </a:lnTo>
                    <a:lnTo>
                      <a:pt x="1185" y="162"/>
                    </a:lnTo>
                    <a:lnTo>
                      <a:pt x="1317" y="153"/>
                    </a:lnTo>
                    <a:lnTo>
                      <a:pt x="1407" y="141"/>
                    </a:lnTo>
                    <a:lnTo>
                      <a:pt x="1512" y="123"/>
                    </a:lnTo>
                    <a:lnTo>
                      <a:pt x="1587" y="102"/>
                    </a:lnTo>
                    <a:lnTo>
                      <a:pt x="1662" y="81"/>
                    </a:lnTo>
                    <a:lnTo>
                      <a:pt x="1701" y="63"/>
                    </a:lnTo>
                    <a:lnTo>
                      <a:pt x="1737" y="33"/>
                    </a:lnTo>
                    <a:lnTo>
                      <a:pt x="1755" y="0"/>
                    </a:lnTo>
                    <a:lnTo>
                      <a:pt x="1755" y="561"/>
                    </a:lnTo>
                    <a:lnTo>
                      <a:pt x="1754" y="587"/>
                    </a:lnTo>
                    <a:lnTo>
                      <a:pt x="1722" y="612"/>
                    </a:lnTo>
                    <a:lnTo>
                      <a:pt x="1629" y="651"/>
                    </a:lnTo>
                    <a:lnTo>
                      <a:pt x="1527" y="678"/>
                    </a:lnTo>
                    <a:lnTo>
                      <a:pt x="1380" y="705"/>
                    </a:lnTo>
                    <a:lnTo>
                      <a:pt x="1227" y="720"/>
                    </a:lnTo>
                    <a:lnTo>
                      <a:pt x="1089" y="729"/>
                    </a:lnTo>
                    <a:lnTo>
                      <a:pt x="957" y="735"/>
                    </a:lnTo>
                    <a:lnTo>
                      <a:pt x="813" y="734"/>
                    </a:lnTo>
                    <a:lnTo>
                      <a:pt x="636" y="726"/>
                    </a:lnTo>
                    <a:lnTo>
                      <a:pt x="516" y="720"/>
                    </a:lnTo>
                    <a:lnTo>
                      <a:pt x="395" y="707"/>
                    </a:lnTo>
                    <a:lnTo>
                      <a:pt x="264" y="690"/>
                    </a:lnTo>
                    <a:lnTo>
                      <a:pt x="123" y="654"/>
                    </a:lnTo>
                    <a:lnTo>
                      <a:pt x="41" y="620"/>
                    </a:lnTo>
                    <a:lnTo>
                      <a:pt x="20" y="604"/>
                    </a:lnTo>
                    <a:lnTo>
                      <a:pt x="2" y="584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4052880" y="3149640"/>
              <a:ext cx="3327480" cy="2403360"/>
              <a:chOff x="4052880" y="3149640"/>
              <a:chExt cx="3327480" cy="2403360"/>
            </a:xfrm>
          </p:grpSpPr>
          <p:sp>
            <p:nvSpPr>
              <p:cNvPr id="1346" name=""/>
              <p:cNvSpPr/>
              <p:nvPr/>
            </p:nvSpPr>
            <p:spPr>
              <a:xfrm>
                <a:off x="4052880" y="3936960"/>
                <a:ext cx="332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589720" y="3149640"/>
                <a:ext cx="0" cy="240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8" name=""/>
          <p:cNvGrpSpPr/>
          <p:nvPr/>
        </p:nvGrpSpPr>
        <p:grpSpPr>
          <a:xfrm>
            <a:off x="6840360" y="3681360"/>
            <a:ext cx="1883880" cy="827280"/>
            <a:chOff x="6840360" y="3681360"/>
            <a:chExt cx="1883880" cy="827280"/>
          </a:xfrm>
        </p:grpSpPr>
        <p:sp>
          <p:nvSpPr>
            <p:cNvPr id="1349" name=""/>
            <p:cNvSpPr/>
            <p:nvPr/>
          </p:nvSpPr>
          <p:spPr>
            <a:xfrm>
              <a:off x="7569720" y="36813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629480" y="40021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6840360" y="4000680"/>
              <a:ext cx="7891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678200" y="3941640"/>
            <a:ext cx="905040" cy="314640"/>
            <a:chOff x="4678200" y="3941640"/>
            <a:chExt cx="905040" cy="314640"/>
          </a:xfrm>
        </p:grpSpPr>
        <p:sp>
          <p:nvSpPr>
            <p:cNvPr id="1353" name=""/>
            <p:cNvSpPr/>
            <p:nvPr/>
          </p:nvSpPr>
          <p:spPr>
            <a:xfrm flipH="1">
              <a:off x="4933800" y="394164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4678200" y="3979800"/>
              <a:ext cx="312480" cy="276480"/>
              <a:chOff x="4678200" y="3979800"/>
              <a:chExt cx="312480" cy="276480"/>
            </a:xfrm>
          </p:grpSpPr>
          <p:grpSp>
            <p:nvGrpSpPr>
              <p:cNvPr id="1355" name=""/>
              <p:cNvGrpSpPr/>
              <p:nvPr/>
            </p:nvGrpSpPr>
            <p:grpSpPr>
              <a:xfrm>
                <a:off x="4881600" y="4147920"/>
                <a:ext cx="109080" cy="101160"/>
                <a:chOff x="4881600" y="4147920"/>
                <a:chExt cx="109080" cy="10116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889160" y="414792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>
                  <a:off x="4881600" y="414792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8" name=""/>
              <p:cNvSpPr/>
              <p:nvPr/>
            </p:nvSpPr>
            <p:spPr>
              <a:xfrm>
                <a:off x="4678200" y="39798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9" name=""/>
          <p:cNvSpPr/>
          <p:nvPr/>
        </p:nvSpPr>
        <p:spPr>
          <a:xfrm>
            <a:off x="5272200" y="37260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929120" y="4189320"/>
            <a:ext cx="541440" cy="453240"/>
            <a:chOff x="4929120" y="4189320"/>
            <a:chExt cx="541440" cy="453240"/>
          </a:xfrm>
        </p:grpSpPr>
        <p:sp>
          <p:nvSpPr>
            <p:cNvPr id="1361" name=""/>
            <p:cNvSpPr/>
            <p:nvPr/>
          </p:nvSpPr>
          <p:spPr>
            <a:xfrm>
              <a:off x="4929120" y="418932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8680" y="43052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79960" y="435276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5246640" y="4033800"/>
            <a:ext cx="752400" cy="246240"/>
            <a:chOff x="5246640" y="4033800"/>
            <a:chExt cx="752400" cy="246240"/>
          </a:xfrm>
        </p:grpSpPr>
        <p:sp>
          <p:nvSpPr>
            <p:cNvPr id="1365" name=""/>
            <p:cNvSpPr/>
            <p:nvPr/>
          </p:nvSpPr>
          <p:spPr>
            <a:xfrm>
              <a:off x="5246640" y="405432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36080" y="403380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5587920" y="3940200"/>
            <a:ext cx="82728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3277440" y="2805120"/>
            <a:ext cx="2296440" cy="663480"/>
            <a:chOff x="3277440" y="2805120"/>
            <a:chExt cx="2296440" cy="663480"/>
          </a:xfrm>
        </p:grpSpPr>
        <p:sp>
          <p:nvSpPr>
            <p:cNvPr id="1369" name=""/>
            <p:cNvSpPr/>
            <p:nvPr/>
          </p:nvSpPr>
          <p:spPr>
            <a:xfrm>
              <a:off x="3773520" y="3149640"/>
              <a:ext cx="12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21280" y="3149640"/>
              <a:ext cx="5526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277440" y="28051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4938840" y="419112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3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2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3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917640" y="94284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rotation autour d’un axe fi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20640" y="1896480"/>
            <a:ext cx="31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 rapport à un point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495600" y="175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ié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son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angle de rotation (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7568640" y="2108520"/>
            <a:ext cx="1333800" cy="1311840"/>
            <a:chOff x="7568640" y="2108520"/>
            <a:chExt cx="1333800" cy="1311840"/>
          </a:xfrm>
        </p:grpSpPr>
        <p:sp>
          <p:nvSpPr>
            <p:cNvPr id="1379" name=""/>
            <p:cNvSpPr/>
            <p:nvPr/>
          </p:nvSpPr>
          <p:spPr>
            <a:xfrm rot="2626200">
              <a:off x="7587720" y="2476440"/>
              <a:ext cx="1295280" cy="576000"/>
            </a:xfrm>
            <a:prstGeom prst="leftArrow">
              <a:avLst>
                <a:gd name="adj1" fmla="val 50000"/>
                <a:gd name="adj2" fmla="val 562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2626200">
              <a:off x="7893000" y="2620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ê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620640" y="1464480"/>
            <a:ext cx="8307360" cy="368280"/>
            <a:chOff x="620640" y="1464480"/>
            <a:chExt cx="8307360" cy="368280"/>
          </a:xfrm>
        </p:grpSpPr>
        <p:sp>
          <p:nvSpPr>
            <p:cNvPr id="1382" name=""/>
            <p:cNvSpPr/>
            <p:nvPr/>
          </p:nvSpPr>
          <p:spPr>
            <a:xfrm>
              <a:off x="620640" y="1464480"/>
              <a:ext cx="83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 coup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 est égal au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i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moment d’une for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280360" y="1484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4181400" y="3686040"/>
            <a:ext cx="2773440" cy="540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2929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178160" y="393696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959520" y="393696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176720" y="3944880"/>
            <a:ext cx="2786040" cy="1166760"/>
          </a:xfrm>
          <a:custGeom>
            <a:avLst/>
            <a:gdLst/>
            <a:ahLst/>
            <a:rect l="l" t="t" r="r" b="b"/>
            <a:pathLst>
              <a:path w="1755" h="735">
                <a:moveTo>
                  <a:pt x="0" y="6"/>
                </a:moveTo>
                <a:lnTo>
                  <a:pt x="9" y="36"/>
                </a:lnTo>
                <a:lnTo>
                  <a:pt x="57" y="66"/>
                </a:lnTo>
                <a:lnTo>
                  <a:pt x="147" y="102"/>
                </a:lnTo>
                <a:lnTo>
                  <a:pt x="249" y="123"/>
                </a:lnTo>
                <a:lnTo>
                  <a:pt x="402" y="147"/>
                </a:lnTo>
                <a:lnTo>
                  <a:pt x="531" y="159"/>
                </a:lnTo>
                <a:lnTo>
                  <a:pt x="684" y="171"/>
                </a:lnTo>
                <a:lnTo>
                  <a:pt x="837" y="173"/>
                </a:lnTo>
                <a:lnTo>
                  <a:pt x="933" y="173"/>
                </a:lnTo>
                <a:lnTo>
                  <a:pt x="1041" y="171"/>
                </a:lnTo>
                <a:lnTo>
                  <a:pt x="1185" y="162"/>
                </a:lnTo>
                <a:lnTo>
                  <a:pt x="1317" y="153"/>
                </a:lnTo>
                <a:lnTo>
                  <a:pt x="1407" y="141"/>
                </a:lnTo>
                <a:lnTo>
                  <a:pt x="1512" y="123"/>
                </a:lnTo>
                <a:lnTo>
                  <a:pt x="1587" y="102"/>
                </a:lnTo>
                <a:lnTo>
                  <a:pt x="1662" y="81"/>
                </a:lnTo>
                <a:lnTo>
                  <a:pt x="1701" y="63"/>
                </a:lnTo>
                <a:lnTo>
                  <a:pt x="1737" y="33"/>
                </a:lnTo>
                <a:lnTo>
                  <a:pt x="1755" y="0"/>
                </a:lnTo>
                <a:lnTo>
                  <a:pt x="1755" y="561"/>
                </a:lnTo>
                <a:lnTo>
                  <a:pt x="1754" y="587"/>
                </a:lnTo>
                <a:lnTo>
                  <a:pt x="1722" y="612"/>
                </a:lnTo>
                <a:lnTo>
                  <a:pt x="1629" y="651"/>
                </a:lnTo>
                <a:lnTo>
                  <a:pt x="1527" y="678"/>
                </a:lnTo>
                <a:lnTo>
                  <a:pt x="1380" y="705"/>
                </a:lnTo>
                <a:lnTo>
                  <a:pt x="1227" y="720"/>
                </a:lnTo>
                <a:lnTo>
                  <a:pt x="1089" y="729"/>
                </a:lnTo>
                <a:lnTo>
                  <a:pt x="957" y="735"/>
                </a:lnTo>
                <a:lnTo>
                  <a:pt x="813" y="734"/>
                </a:lnTo>
                <a:lnTo>
                  <a:pt x="636" y="726"/>
                </a:lnTo>
                <a:lnTo>
                  <a:pt x="516" y="720"/>
                </a:lnTo>
                <a:lnTo>
                  <a:pt x="395" y="707"/>
                </a:lnTo>
                <a:lnTo>
                  <a:pt x="264" y="690"/>
                </a:lnTo>
                <a:lnTo>
                  <a:pt x="123" y="654"/>
                </a:lnTo>
                <a:lnTo>
                  <a:pt x="41" y="620"/>
                </a:lnTo>
                <a:lnTo>
                  <a:pt x="20" y="604"/>
                </a:lnTo>
                <a:lnTo>
                  <a:pt x="2" y="584"/>
                </a:lnTo>
                <a:lnTo>
                  <a:pt x="0" y="6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4052880" y="3149640"/>
            <a:ext cx="3327480" cy="2403360"/>
            <a:chOff x="4052880" y="3149640"/>
            <a:chExt cx="3327480" cy="2403360"/>
          </a:xfrm>
        </p:grpSpPr>
        <p:sp>
          <p:nvSpPr>
            <p:cNvPr id="1389" name=""/>
            <p:cNvSpPr/>
            <p:nvPr/>
          </p:nvSpPr>
          <p:spPr>
            <a:xfrm>
              <a:off x="4052880" y="393696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89720" y="3149640"/>
              <a:ext cx="0" cy="2403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6840360" y="3681360"/>
            <a:ext cx="1883880" cy="827280"/>
            <a:chOff x="6840360" y="3681360"/>
            <a:chExt cx="1883880" cy="827280"/>
          </a:xfrm>
        </p:grpSpPr>
        <p:sp>
          <p:nvSpPr>
            <p:cNvPr id="1392" name=""/>
            <p:cNvSpPr/>
            <p:nvPr/>
          </p:nvSpPr>
          <p:spPr>
            <a:xfrm>
              <a:off x="7569720" y="36813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629480" y="40021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840360" y="4000680"/>
              <a:ext cx="7891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"/>
          <p:cNvSpPr/>
          <p:nvPr/>
        </p:nvSpPr>
        <p:spPr>
          <a:xfrm flipH="1">
            <a:off x="4933800" y="3941640"/>
            <a:ext cx="64944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4881600" y="4148280"/>
            <a:ext cx="109080" cy="101160"/>
            <a:chOff x="4881600" y="4148280"/>
            <a:chExt cx="109080" cy="101160"/>
          </a:xfrm>
        </p:grpSpPr>
        <p:sp>
          <p:nvSpPr>
            <p:cNvPr id="1397" name=""/>
            <p:cNvSpPr/>
            <p:nvPr/>
          </p:nvSpPr>
          <p:spPr>
            <a:xfrm>
              <a:off x="4889160" y="4148280"/>
              <a:ext cx="10152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4881600" y="4148280"/>
              <a:ext cx="10152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4678200" y="39798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272200" y="37260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5246640" y="4033800"/>
            <a:ext cx="752400" cy="246240"/>
            <a:chOff x="5246640" y="4033800"/>
            <a:chExt cx="752400" cy="246240"/>
          </a:xfrm>
        </p:grpSpPr>
        <p:sp>
          <p:nvSpPr>
            <p:cNvPr id="1402" name=""/>
            <p:cNvSpPr/>
            <p:nvPr/>
          </p:nvSpPr>
          <p:spPr>
            <a:xfrm>
              <a:off x="5246640" y="405432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36080" y="403380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5587920" y="3940200"/>
            <a:ext cx="82728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3277440" y="2805120"/>
            <a:ext cx="2296440" cy="663480"/>
            <a:chOff x="3277440" y="2805120"/>
            <a:chExt cx="2296440" cy="663480"/>
          </a:xfrm>
        </p:grpSpPr>
        <p:sp>
          <p:nvSpPr>
            <p:cNvPr id="1406" name=""/>
            <p:cNvSpPr/>
            <p:nvPr/>
          </p:nvSpPr>
          <p:spPr>
            <a:xfrm>
              <a:off x="3773520" y="3149640"/>
              <a:ext cx="12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021280" y="3149640"/>
              <a:ext cx="5526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7440" y="28051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6158880" y="3951360"/>
            <a:ext cx="317880" cy="276480"/>
            <a:chOff x="6158880" y="3951360"/>
            <a:chExt cx="317880" cy="276480"/>
          </a:xfrm>
        </p:grpSpPr>
        <p:grpSp>
          <p:nvGrpSpPr>
            <p:cNvPr id="1410" name=""/>
            <p:cNvGrpSpPr/>
            <p:nvPr/>
          </p:nvGrpSpPr>
          <p:grpSpPr>
            <a:xfrm>
              <a:off x="6367680" y="4119480"/>
              <a:ext cx="109080" cy="101160"/>
              <a:chOff x="6367680" y="4119480"/>
              <a:chExt cx="109080" cy="101160"/>
            </a:xfrm>
          </p:grpSpPr>
          <p:sp>
            <p:nvSpPr>
              <p:cNvPr id="1411" name=""/>
              <p:cNvSpPr/>
              <p:nvPr/>
            </p:nvSpPr>
            <p:spPr>
              <a:xfrm>
                <a:off x="6375240" y="411948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6367680" y="411948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6158880" y="3951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415200" y="4162320"/>
            <a:ext cx="0" cy="8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6406920" y="4038120"/>
            <a:ext cx="545040" cy="129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6524640" y="4172040"/>
            <a:ext cx="291960" cy="337320"/>
            <a:chOff x="6524640" y="4172040"/>
            <a:chExt cx="291960" cy="337320"/>
          </a:xfrm>
        </p:grpSpPr>
        <p:sp>
          <p:nvSpPr>
            <p:cNvPr id="1417" name=""/>
            <p:cNvSpPr/>
            <p:nvPr/>
          </p:nvSpPr>
          <p:spPr>
            <a:xfrm>
              <a:off x="6524640" y="41720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95920" y="421992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689040" y="3944880"/>
            <a:ext cx="1983600" cy="510120"/>
            <a:chOff x="689040" y="3944880"/>
            <a:chExt cx="1983600" cy="510120"/>
          </a:xfrm>
        </p:grpSpPr>
        <p:sp>
          <p:nvSpPr>
            <p:cNvPr id="1420" name=""/>
            <p:cNvSpPr/>
            <p:nvPr/>
          </p:nvSpPr>
          <p:spPr>
            <a:xfrm>
              <a:off x="689040" y="3944880"/>
              <a:ext cx="198360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= (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M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Arial Unicode MS"/>
                </a:rPr>
                <a:t>o</a:t>
              </a: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 ).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60560" y="3975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732240" y="436572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  (N.m)    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752480" y="353232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1015200" y="2852640"/>
            <a:ext cx="1727280" cy="459720"/>
            <a:chOff x="1015200" y="2852640"/>
            <a:chExt cx="1727280" cy="459720"/>
          </a:xfrm>
        </p:grpSpPr>
        <p:sp>
          <p:nvSpPr>
            <p:cNvPr id="1425" name=""/>
            <p:cNvSpPr/>
            <p:nvPr/>
          </p:nvSpPr>
          <p:spPr>
            <a:xfrm>
              <a:off x="1015200" y="2852640"/>
              <a:ext cx="17272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fr-FR" sz="2400" spc="-1" strike="noStrike">
                  <a:solidFill>
                    <a:srgbClr val="0000ff"/>
                  </a:solidFill>
                  <a:latin typeface="Arial Unicode MS"/>
                </a:rPr>
                <a:t>II</a:t>
              </a: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2400" spc="-1" strike="noStrike">
                  <a:solidFill>
                    <a:srgbClr val="0000ff"/>
                  </a:solidFill>
                  <a:latin typeface="Arial Unicode MS"/>
                </a:rPr>
                <a:t>II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 .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r>
                <a:rPr b="1" lang="fr-FR" sz="2400" spc="-1" strike="noStrike">
                  <a:solidFill>
                    <a:srgbClr val="ff33cc"/>
                  </a:solidFill>
                  <a:latin typeface="Comic Sans MS"/>
                </a:rPr>
                <a:t>B 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66560" y="2890800"/>
              <a:ext cx="2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"/>
          <p:cNvSpPr/>
          <p:nvPr/>
        </p:nvSpPr>
        <p:spPr>
          <a:xfrm>
            <a:off x="1374840" y="319104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    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rot="10800000">
            <a:off x="1752480" y="480168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586160" y="5192640"/>
            <a:ext cx="45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81560" y="5192640"/>
            <a:ext cx="807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106360" y="5192640"/>
            <a:ext cx="34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426040" y="5181480"/>
            <a:ext cx="33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6413400" y="4016520"/>
            <a:ext cx="2125080" cy="967320"/>
            <a:chOff x="6413400" y="4016520"/>
            <a:chExt cx="2125080" cy="967320"/>
          </a:xfrm>
        </p:grpSpPr>
        <p:sp>
          <p:nvSpPr>
            <p:cNvPr id="1434" name=""/>
            <p:cNvSpPr/>
            <p:nvPr/>
          </p:nvSpPr>
          <p:spPr>
            <a:xfrm>
              <a:off x="6413400" y="4168800"/>
              <a:ext cx="15130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902280" y="4016520"/>
              <a:ext cx="15130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7818480" y="4519080"/>
              <a:ext cx="52056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7" name=""/>
            <p:cNvGrpSpPr/>
            <p:nvPr/>
          </p:nvGrpSpPr>
          <p:grpSpPr>
            <a:xfrm>
              <a:off x="7911360" y="4516200"/>
              <a:ext cx="627120" cy="467640"/>
              <a:chOff x="7911360" y="4516200"/>
              <a:chExt cx="627120" cy="467640"/>
            </a:xfrm>
          </p:grpSpPr>
          <p:sp>
            <p:nvSpPr>
              <p:cNvPr id="1438" name=""/>
              <p:cNvSpPr/>
              <p:nvPr/>
            </p:nvSpPr>
            <p:spPr>
              <a:xfrm rot="20724000">
                <a:off x="7944480" y="4581000"/>
                <a:ext cx="56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 Unicode MS"/>
                  </a:rPr>
                  <a:t>II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Arial Unicode MS"/>
                  </a:rPr>
                  <a:t>I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8092440" y="4579200"/>
                <a:ext cx="175320" cy="45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0" name=""/>
          <p:cNvSpPr/>
          <p:nvPr/>
        </p:nvSpPr>
        <p:spPr>
          <a:xfrm>
            <a:off x="922320" y="56102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  (N.m) 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87280" y="5160960"/>
            <a:ext cx="3205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>
            <a:hlinkClick r:id="" action="ppaction://hlinkshowjump?jump=nextslide"/>
          </p:cNvPr>
          <p:cNvSpPr/>
          <p:nvPr/>
        </p:nvSpPr>
        <p:spPr>
          <a:xfrm>
            <a:off x="2987640" y="560376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12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021" h="21600">
                <a:moveTo>
                  <a:pt x="12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021" h="21600">
                <a:moveTo>
                  <a:pt x="9434" y="8224"/>
                </a:moveTo>
                <a:lnTo>
                  <a:pt x="13299" y="8224"/>
                </a:lnTo>
                <a:lnTo>
                  <a:pt x="13299" y="15221"/>
                </a:lnTo>
                <a:lnTo>
                  <a:pt x="14587" y="15221"/>
                </a:lnTo>
                <a:lnTo>
                  <a:pt x="14587" y="16144"/>
                </a:lnTo>
                <a:lnTo>
                  <a:pt x="9434" y="16144"/>
                </a:lnTo>
                <a:lnTo>
                  <a:pt x="9434" y="15221"/>
                </a:lnTo>
                <a:lnTo>
                  <a:pt x="10723" y="15221"/>
                </a:lnTo>
                <a:lnTo>
                  <a:pt x="10723" y="9129"/>
                </a:lnTo>
                <a:lnTo>
                  <a:pt x="9434" y="912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3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95840" y="1322280"/>
            <a:ext cx="876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an (symbole : rad) est l'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unité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'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g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lan d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61160" y="2126520"/>
            <a:ext cx="80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angle de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1 rad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est un angle, qui, ayant son sommet au centre d'un cerc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3086280" y="3581280"/>
            <a:ext cx="2914560" cy="2400480"/>
            <a:chOff x="3086280" y="3581280"/>
            <a:chExt cx="2914560" cy="2400480"/>
          </a:xfrm>
        </p:grpSpPr>
        <p:sp>
          <p:nvSpPr>
            <p:cNvPr id="1449" name=""/>
            <p:cNvSpPr/>
            <p:nvPr/>
          </p:nvSpPr>
          <p:spPr>
            <a:xfrm>
              <a:off x="3086280" y="4686480"/>
              <a:ext cx="29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52920" y="358128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52840" y="3686040"/>
              <a:ext cx="2000160" cy="200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4572000" y="4689360"/>
            <a:ext cx="9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895280" y="46893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562640" y="3481200"/>
            <a:ext cx="78552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08400" y="3857760"/>
            <a:ext cx="444600" cy="83484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97520" y="2418480"/>
            <a:ext cx="77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tercepte, sur la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circonféren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de ce cercle, un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arc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'une longueur ég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63960" y="2698200"/>
            <a:ext cx="29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à celle du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rayon du cercl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423760" y="39481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824360" y="4257720"/>
            <a:ext cx="238320" cy="42552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932360" y="42926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1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3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3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3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0" dur="3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95840" y="1322280"/>
            <a:ext cx="876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an (symbole : rad) est l'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unité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'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g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lan d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3086280" y="3581280"/>
            <a:ext cx="2914560" cy="2400480"/>
            <a:chOff x="3086280" y="3581280"/>
            <a:chExt cx="2914560" cy="2400480"/>
          </a:xfrm>
        </p:grpSpPr>
        <p:sp>
          <p:nvSpPr>
            <p:cNvPr id="1464" name=""/>
            <p:cNvSpPr/>
            <p:nvPr/>
          </p:nvSpPr>
          <p:spPr>
            <a:xfrm>
              <a:off x="3086280" y="4686480"/>
              <a:ext cx="29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552920" y="358128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552840" y="3686040"/>
              <a:ext cx="2000160" cy="200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572000" y="4689360"/>
            <a:ext cx="9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980960" y="43815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4562640" y="3481200"/>
            <a:ext cx="78552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108400" y="3857760"/>
            <a:ext cx="444600" cy="83484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46680" y="1907280"/>
            <a:ext cx="55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Un cercle complet représente un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angle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i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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rad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859280" y="41497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796000" y="19155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,28 rad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rot="18201600">
            <a:off x="4408200" y="338868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4016160" y="3448080"/>
            <a:ext cx="539640" cy="12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rot="14764800">
            <a:off x="3636720" y="372528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222720" y="4469760"/>
            <a:ext cx="1333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rot="11349000">
            <a:off x="3507840" y="454140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3640680" y="4694400"/>
            <a:ext cx="925920" cy="98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rot="7959000">
            <a:off x="4116240" y="5114520"/>
            <a:ext cx="44424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562640" y="4710240"/>
            <a:ext cx="32508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rot="4533000">
            <a:off x="4927320" y="491292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555080" y="4696560"/>
            <a:ext cx="1280520" cy="42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497560" y="4695840"/>
            <a:ext cx="54000" cy="318960"/>
          </a:xfrm>
          <a:custGeom>
            <a:avLst/>
            <a:gdLst/>
            <a:ahLst/>
            <a:rect l="l" t="t" r="r" b="b"/>
            <a:pathLst>
              <a:path w="34" h="201">
                <a:moveTo>
                  <a:pt x="0" y="201"/>
                </a:moveTo>
                <a:cubicBezTo>
                  <a:pt x="4" y="190"/>
                  <a:pt x="18" y="154"/>
                  <a:pt x="23" y="134"/>
                </a:cubicBezTo>
                <a:cubicBezTo>
                  <a:pt x="28" y="114"/>
                  <a:pt x="30" y="94"/>
                  <a:pt x="32" y="78"/>
                </a:cubicBezTo>
                <a:cubicBezTo>
                  <a:pt x="34" y="62"/>
                  <a:pt x="34" y="51"/>
                  <a:pt x="34" y="38"/>
                </a:cubicBezTo>
                <a:cubicBezTo>
                  <a:pt x="34" y="25"/>
                  <a:pt x="34" y="8"/>
                  <a:pt x="34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373640" y="3924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732120" y="415620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760920" y="47829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156200" y="51530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751280" y="49766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922280" y="46530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0,28 r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>
            <a:hlinkClick r:id="rId5" action="ppaction://hlinksldjump"/>
          </p:cNvPr>
          <p:cNvSpPr/>
          <p:nvPr/>
        </p:nvSpPr>
        <p:spPr>
          <a:xfrm>
            <a:off x="8424720" y="6093000"/>
            <a:ext cx="505080" cy="549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477">
                <a:moveTo>
                  <a:pt x="0" y="0"/>
                </a:moveTo>
                <a:lnTo>
                  <a:pt x="21600" y="0"/>
                </a:lnTo>
                <a:lnTo>
                  <a:pt x="21600" y="23477"/>
                </a:lnTo>
                <a:lnTo>
                  <a:pt x="0" y="23477"/>
                </a:lnTo>
                <a:close/>
              </a:path>
              <a:path fill="lightenLess" w="21600" h="234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77">
                <a:moveTo>
                  <a:pt x="21600" y="0"/>
                </a:moveTo>
                <a:lnTo>
                  <a:pt x="21600" y="23477"/>
                </a:lnTo>
                <a:lnTo>
                  <a:pt x="20200" y="22077"/>
                </a:lnTo>
                <a:lnTo>
                  <a:pt x="20200" y="1400"/>
                </a:lnTo>
                <a:close/>
              </a:path>
              <a:path fill="darkenLess" w="21600" h="23477">
                <a:moveTo>
                  <a:pt x="21600" y="23477"/>
                </a:moveTo>
                <a:lnTo>
                  <a:pt x="0" y="23477"/>
                </a:lnTo>
                <a:lnTo>
                  <a:pt x="1400" y="22077"/>
                </a:lnTo>
                <a:lnTo>
                  <a:pt x="20200" y="22077"/>
                </a:lnTo>
                <a:close/>
              </a:path>
              <a:path fill="lighten" w="21600" h="23477">
                <a:moveTo>
                  <a:pt x="0" y="234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77"/>
                </a:lnTo>
                <a:close/>
              </a:path>
              <a:path fill="darken" w="21600" h="23477">
                <a:moveTo>
                  <a:pt x="3794" y="8431"/>
                </a:moveTo>
                <a:lnTo>
                  <a:pt x="7301" y="8431"/>
                </a:lnTo>
                <a:lnTo>
                  <a:pt x="7301" y="13766"/>
                </a:lnTo>
                <a:cubicBezTo>
                  <a:pt x="7301" y="14689"/>
                  <a:pt x="8102" y="15420"/>
                  <a:pt x="9138" y="15420"/>
                </a:cubicBezTo>
                <a:lnTo>
                  <a:pt x="10800" y="15420"/>
                </a:lnTo>
                <a:cubicBezTo>
                  <a:pt x="11836" y="15420"/>
                  <a:pt x="12636" y="14689"/>
                  <a:pt x="12636" y="13766"/>
                </a:cubicBezTo>
                <a:lnTo>
                  <a:pt x="12636" y="8431"/>
                </a:lnTo>
                <a:lnTo>
                  <a:pt x="10800" y="8431"/>
                </a:lnTo>
                <a:lnTo>
                  <a:pt x="14308" y="4923"/>
                </a:lnTo>
                <a:lnTo>
                  <a:pt x="17981" y="8431"/>
                </a:lnTo>
                <a:lnTo>
                  <a:pt x="16144" y="8431"/>
                </a:lnTo>
                <a:lnTo>
                  <a:pt x="16144" y="13766"/>
                </a:lnTo>
                <a:cubicBezTo>
                  <a:pt x="16144" y="16534"/>
                  <a:pt x="13568" y="19093"/>
                  <a:pt x="10800" y="19093"/>
                </a:cubicBezTo>
                <a:lnTo>
                  <a:pt x="9138" y="19093"/>
                </a:lnTo>
                <a:cubicBezTo>
                  <a:pt x="6370" y="19093"/>
                  <a:pt x="3794" y="16534"/>
                  <a:pt x="3794" y="13766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3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3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3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3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3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3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9" dur="3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3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3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3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882000" y="942840"/>
            <a:ext cx="30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5840" y="295740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784680" y="2670120"/>
            <a:ext cx="60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01960" y="32446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879720" y="3246480"/>
            <a:ext cx="41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6633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620640" y="1449360"/>
            <a:ext cx="7551720" cy="383400"/>
            <a:chOff x="620640" y="1449360"/>
            <a:chExt cx="7551720" cy="383400"/>
          </a:xfrm>
        </p:grpSpPr>
        <p:sp>
          <p:nvSpPr>
            <p:cNvPr id="1502" name=""/>
            <p:cNvSpPr/>
            <p:nvPr/>
          </p:nvSpPr>
          <p:spPr>
            <a:xfrm>
              <a:off x="620640" y="1464480"/>
              <a:ext cx="755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a </a:t>
              </a: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uissan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( </a:t>
              </a: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d’un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orce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 )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est le résultat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travail </a:t>
              </a:r>
              <a:r>
                <a:rPr b="0" lang="fr-FR" sz="1800" spc="-1" strike="noStrike">
                  <a:solidFill>
                    <a:srgbClr val="0000ff"/>
                  </a:solidFill>
                  <a:latin typeface="Comic Sans MS"/>
                </a:rPr>
                <a:t>( 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 </a:t>
              </a:r>
              <a:r>
                <a:rPr b="0" lang="fr-FR" sz="1800" spc="-1" strike="noStrike">
                  <a:solidFill>
                    <a:srgbClr val="0000ff"/>
                  </a:solidFill>
                  <a:latin typeface="Comic Sans MS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103640" y="144936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620640" y="188676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’ effectue cette mêm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ndant un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996633"/>
                </a:solidFill>
                <a:latin typeface="Comic Sans MS"/>
              </a:rPr>
              <a:t>temp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1" lang="en-US" sz="1800" spc="-1" strike="noStrike">
                <a:solidFill>
                  <a:srgbClr val="996633"/>
                </a:solidFill>
                <a:latin typeface="Comic Sans MS"/>
              </a:rPr>
              <a:t>t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442040" y="26989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383000" y="329400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048480" y="335124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1655640" y="3321000"/>
            <a:ext cx="1332000" cy="611280"/>
            <a:chOff x="1655640" y="3321000"/>
            <a:chExt cx="1332000" cy="611280"/>
          </a:xfrm>
        </p:grpSpPr>
        <p:sp>
          <p:nvSpPr>
            <p:cNvPr id="1509" name=""/>
            <p:cNvSpPr/>
            <p:nvPr/>
          </p:nvSpPr>
          <p:spPr>
            <a:xfrm>
              <a:off x="1655640" y="3321000"/>
              <a:ext cx="1332000" cy="611280"/>
            </a:xfrm>
            <a:prstGeom prst="rightArrow">
              <a:avLst>
                <a:gd name="adj1" fmla="val 50000"/>
                <a:gd name="adj2" fmla="val 5447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96840" y="345276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atts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28960" y="4346640"/>
            <a:ext cx="869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*L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watt (symbole W) est 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unité du 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our l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puissan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31040" y="5449680"/>
            <a:ext cx="791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e terme provient du nom de l'ingénieur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James Wat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qui a contribué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42000" y="476028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watt est la puissance d'un système énergétique dans lequel est transfér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7040" y="5108400"/>
            <a:ext cx="4725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énergi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de 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jou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endant 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second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1200" y="5780160"/>
            <a:ext cx="433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éveloppement de l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machine à vapeu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3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3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3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828720" y="9428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649800" y="2063880"/>
            <a:ext cx="1843920" cy="1140480"/>
            <a:chOff x="649800" y="2063880"/>
            <a:chExt cx="1843920" cy="1140480"/>
          </a:xfrm>
        </p:grpSpPr>
        <p:sp>
          <p:nvSpPr>
            <p:cNvPr id="1521" name=""/>
            <p:cNvSpPr/>
            <p:nvPr/>
          </p:nvSpPr>
          <p:spPr>
            <a:xfrm>
              <a:off x="767160" y="235116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86000" y="206388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403280" y="263844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481040" y="263988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43000" y="20923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83960" y="26877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49800" y="274464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84480" y="14122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3330360" y="2084400"/>
            <a:ext cx="2467080" cy="581400"/>
            <a:chOff x="3330360" y="2084400"/>
            <a:chExt cx="2467080" cy="581400"/>
          </a:xfrm>
        </p:grpSpPr>
        <p:sp>
          <p:nvSpPr>
            <p:cNvPr id="1530" name=""/>
            <p:cNvSpPr/>
            <p:nvPr/>
          </p:nvSpPr>
          <p:spPr>
            <a:xfrm>
              <a:off x="3330360" y="2084400"/>
              <a:ext cx="24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L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635280" y="21193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"/>
          <p:cNvSpPr/>
          <p:nvPr/>
        </p:nvSpPr>
        <p:spPr>
          <a:xfrm>
            <a:off x="2687400" y="240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090960" y="2641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4848120" y="2712960"/>
            <a:ext cx="1012680" cy="520560"/>
            <a:chOff x="4848120" y="2712960"/>
            <a:chExt cx="1012680" cy="520560"/>
          </a:xfrm>
        </p:grpSpPr>
        <p:sp>
          <p:nvSpPr>
            <p:cNvPr id="1535" name=""/>
            <p:cNvSpPr/>
            <p:nvPr/>
          </p:nvSpPr>
          <p:spPr>
            <a:xfrm>
              <a:off x="4848120" y="27129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351040" y="276048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4896000" y="1901880"/>
            <a:ext cx="10810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825520" y="2018520"/>
            <a:ext cx="1266840" cy="736200"/>
          </a:xfrm>
          <a:prstGeom prst="leftArrow">
            <a:avLst>
              <a:gd name="adj1" fmla="val 50000"/>
              <a:gd name="adj2" fmla="val 430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867280" y="2656800"/>
            <a:ext cx="1225800" cy="736200"/>
          </a:xfrm>
          <a:prstGeom prst="leftArrow">
            <a:avLst>
              <a:gd name="adj1" fmla="val 50000"/>
              <a:gd name="adj2" fmla="val 416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898560" y="4724280"/>
            <a:ext cx="8094600" cy="1908360"/>
            <a:chOff x="898560" y="4724280"/>
            <a:chExt cx="8094600" cy="1908360"/>
          </a:xfrm>
        </p:grpSpPr>
        <p:grpSp>
          <p:nvGrpSpPr>
            <p:cNvPr id="1541" name=""/>
            <p:cNvGrpSpPr/>
            <p:nvPr/>
          </p:nvGrpSpPr>
          <p:grpSpPr>
            <a:xfrm>
              <a:off x="1698120" y="4724280"/>
              <a:ext cx="311760" cy="1654200"/>
              <a:chOff x="1698120" y="4724280"/>
              <a:chExt cx="311760" cy="1654200"/>
            </a:xfrm>
          </p:grpSpPr>
          <p:sp>
            <p:nvSpPr>
              <p:cNvPr id="1542" name=""/>
              <p:cNvSpPr/>
              <p:nvPr/>
            </p:nvSpPr>
            <p:spPr>
              <a:xfrm flipV="1">
                <a:off x="185076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698120" y="47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7017840" y="4724280"/>
              <a:ext cx="315000" cy="1654200"/>
              <a:chOff x="7017840" y="4724280"/>
              <a:chExt cx="315000" cy="1654200"/>
            </a:xfrm>
          </p:grpSpPr>
          <p:sp>
            <p:nvSpPr>
              <p:cNvPr id="1545" name=""/>
              <p:cNvSpPr/>
              <p:nvPr/>
            </p:nvSpPr>
            <p:spPr>
              <a:xfrm flipV="1">
                <a:off x="715968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017840" y="47242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1841400" y="4784760"/>
              <a:ext cx="5321520" cy="425160"/>
              <a:chOff x="1841400" y="4784760"/>
              <a:chExt cx="5321520" cy="425160"/>
            </a:xfrm>
          </p:grpSpPr>
          <p:sp>
            <p:nvSpPr>
              <p:cNvPr id="1548" name=""/>
              <p:cNvSpPr/>
              <p:nvPr/>
            </p:nvSpPr>
            <p:spPr>
              <a:xfrm>
                <a:off x="1841400" y="5209920"/>
                <a:ext cx="5321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147920" y="478476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0" name=""/>
            <p:cNvSpPr/>
            <p:nvPr/>
          </p:nvSpPr>
          <p:spPr>
            <a:xfrm>
              <a:off x="1828800" y="5946840"/>
              <a:ext cx="68324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1" name=""/>
            <p:cNvGrpSpPr/>
            <p:nvPr/>
          </p:nvGrpSpPr>
          <p:grpSpPr>
            <a:xfrm>
              <a:off x="4200120" y="5337000"/>
              <a:ext cx="1522800" cy="609840"/>
              <a:chOff x="4200120" y="5337000"/>
              <a:chExt cx="1522800" cy="609840"/>
            </a:xfrm>
          </p:grpSpPr>
          <p:sp>
            <p:nvSpPr>
              <p:cNvPr id="1552" name=""/>
              <p:cNvSpPr/>
              <p:nvPr/>
            </p:nvSpPr>
            <p:spPr>
              <a:xfrm>
                <a:off x="4200120" y="5337000"/>
                <a:ext cx="115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9933"/>
                    </a:solidFill>
                    <a:latin typeface="Comic Sans MS"/>
                  </a:rPr>
                  <a:t>Trajectoi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284720" y="55879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64000" y="5587920"/>
                <a:ext cx="35892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898560" y="6364440"/>
              <a:ext cx="8094600" cy="268200"/>
              <a:chOff x="898560" y="6364440"/>
              <a:chExt cx="8094600" cy="268200"/>
            </a:xfrm>
          </p:grpSpPr>
          <p:sp>
            <p:nvSpPr>
              <p:cNvPr id="1556" name=""/>
              <p:cNvSpPr/>
              <p:nvPr/>
            </p:nvSpPr>
            <p:spPr>
              <a:xfrm>
                <a:off x="898560" y="6380280"/>
                <a:ext cx="806580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03240" y="6364440"/>
                <a:ext cx="808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1079640" y="5516640"/>
              <a:ext cx="1487520" cy="844560"/>
              <a:chOff x="1079640" y="5516640"/>
              <a:chExt cx="1487520" cy="844560"/>
            </a:xfrm>
          </p:grpSpPr>
          <p:sp>
            <p:nvSpPr>
              <p:cNvPr id="1559" name=""/>
              <p:cNvSpPr/>
              <p:nvPr/>
            </p:nvSpPr>
            <p:spPr>
              <a:xfrm>
                <a:off x="1079640" y="5591160"/>
                <a:ext cx="771480" cy="7700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1854360" y="5516640"/>
                <a:ext cx="712800" cy="519120"/>
                <a:chOff x="1854360" y="5516640"/>
                <a:chExt cx="712800" cy="51912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1854360" y="5877000"/>
                  <a:ext cx="684000" cy="158760"/>
                </a:xfrm>
                <a:prstGeom prst="rightArrow">
                  <a:avLst>
                    <a:gd name="adj1" fmla="val 50000"/>
                    <a:gd name="adj2" fmla="val 10771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2230920" y="554184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2278080" y="55166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1739520" y="5516640"/>
                <a:ext cx="405720" cy="545760"/>
                <a:chOff x="1739520" y="5516640"/>
                <a:chExt cx="405720" cy="545760"/>
              </a:xfrm>
            </p:grpSpPr>
            <p:grpSp>
              <p:nvGrpSpPr>
                <p:cNvPr id="1565" name=""/>
                <p:cNvGrpSpPr/>
                <p:nvPr/>
              </p:nvGrpSpPr>
              <p:grpSpPr>
                <a:xfrm>
                  <a:off x="1739520" y="5859720"/>
                  <a:ext cx="211320" cy="202680"/>
                  <a:chOff x="1739520" y="5859720"/>
                  <a:chExt cx="211320" cy="20268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1755720" y="5864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1739520" y="5859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8" name=""/>
                <p:cNvSpPr/>
                <p:nvPr/>
              </p:nvSpPr>
              <p:spPr>
                <a:xfrm>
                  <a:off x="1806120" y="5516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3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3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2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828720" y="9428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649800" y="2063880"/>
            <a:ext cx="1843920" cy="1140480"/>
            <a:chOff x="649800" y="2063880"/>
            <a:chExt cx="1843920" cy="1140480"/>
          </a:xfrm>
        </p:grpSpPr>
        <p:sp>
          <p:nvSpPr>
            <p:cNvPr id="1573" name=""/>
            <p:cNvSpPr/>
            <p:nvPr/>
          </p:nvSpPr>
          <p:spPr>
            <a:xfrm>
              <a:off x="767160" y="235116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86000" y="206388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403280" y="263844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81040" y="263988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43000" y="20923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83960" y="26877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49800" y="274464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84480" y="14122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687400" y="240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3251880" y="2301840"/>
            <a:ext cx="3426120" cy="581400"/>
            <a:chOff x="3251880" y="2301840"/>
            <a:chExt cx="3426120" cy="581400"/>
          </a:xfrm>
        </p:grpSpPr>
        <p:grpSp>
          <p:nvGrpSpPr>
            <p:cNvPr id="1583" name=""/>
            <p:cNvGrpSpPr/>
            <p:nvPr/>
          </p:nvGrpSpPr>
          <p:grpSpPr>
            <a:xfrm>
              <a:off x="3251880" y="2301840"/>
              <a:ext cx="3426120" cy="581400"/>
              <a:chOff x="3251880" y="2301840"/>
              <a:chExt cx="3426120" cy="581400"/>
            </a:xfrm>
          </p:grpSpPr>
          <p:sp>
            <p:nvSpPr>
              <p:cNvPr id="1584" name=""/>
              <p:cNvSpPr/>
              <p:nvPr/>
            </p:nvSpPr>
            <p:spPr>
              <a:xfrm>
                <a:off x="3251880" y="2301840"/>
                <a:ext cx="3426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N)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.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ff6600"/>
                    </a:solidFill>
                    <a:latin typeface="Comic Sans MS"/>
                  </a:rPr>
                  <a:t>V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339933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m.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635280" y="233676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5240160" y="232236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4867920" y="2845080"/>
            <a:ext cx="1054440" cy="963360"/>
          </a:xfrm>
          <a:prstGeom prst="upArrowCallout">
            <a:avLst>
              <a:gd name="adj1" fmla="val 27366"/>
              <a:gd name="adj2" fmla="val 27364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né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898560" y="4724280"/>
            <a:ext cx="8094600" cy="1908360"/>
            <a:chOff x="898560" y="4724280"/>
            <a:chExt cx="8094600" cy="1908360"/>
          </a:xfrm>
        </p:grpSpPr>
        <p:grpSp>
          <p:nvGrpSpPr>
            <p:cNvPr id="1589" name=""/>
            <p:cNvGrpSpPr/>
            <p:nvPr/>
          </p:nvGrpSpPr>
          <p:grpSpPr>
            <a:xfrm>
              <a:off x="1698120" y="4724280"/>
              <a:ext cx="311760" cy="1654200"/>
              <a:chOff x="1698120" y="4724280"/>
              <a:chExt cx="311760" cy="1654200"/>
            </a:xfrm>
          </p:grpSpPr>
          <p:sp>
            <p:nvSpPr>
              <p:cNvPr id="1590" name=""/>
              <p:cNvSpPr/>
              <p:nvPr/>
            </p:nvSpPr>
            <p:spPr>
              <a:xfrm flipV="1">
                <a:off x="185076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698120" y="47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7840" y="4724280"/>
              <a:ext cx="315000" cy="1654200"/>
              <a:chOff x="7017840" y="4724280"/>
              <a:chExt cx="315000" cy="1654200"/>
            </a:xfrm>
          </p:grpSpPr>
          <p:sp>
            <p:nvSpPr>
              <p:cNvPr id="1593" name=""/>
              <p:cNvSpPr/>
              <p:nvPr/>
            </p:nvSpPr>
            <p:spPr>
              <a:xfrm flipV="1">
                <a:off x="715968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7840" y="47242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1841400" y="4784760"/>
              <a:ext cx="5321520" cy="425160"/>
              <a:chOff x="1841400" y="4784760"/>
              <a:chExt cx="5321520" cy="425160"/>
            </a:xfrm>
          </p:grpSpPr>
          <p:sp>
            <p:nvSpPr>
              <p:cNvPr id="1596" name=""/>
              <p:cNvSpPr/>
              <p:nvPr/>
            </p:nvSpPr>
            <p:spPr>
              <a:xfrm>
                <a:off x="1841400" y="5209920"/>
                <a:ext cx="5321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47920" y="478476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8" name=""/>
            <p:cNvSpPr/>
            <p:nvPr/>
          </p:nvSpPr>
          <p:spPr>
            <a:xfrm>
              <a:off x="1828800" y="5946840"/>
              <a:ext cx="68324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9" name=""/>
            <p:cNvGrpSpPr/>
            <p:nvPr/>
          </p:nvGrpSpPr>
          <p:grpSpPr>
            <a:xfrm>
              <a:off x="4200120" y="5337000"/>
              <a:ext cx="1522800" cy="609840"/>
              <a:chOff x="4200120" y="5337000"/>
              <a:chExt cx="1522800" cy="609840"/>
            </a:xfrm>
          </p:grpSpPr>
          <p:sp>
            <p:nvSpPr>
              <p:cNvPr id="1600" name=""/>
              <p:cNvSpPr/>
              <p:nvPr/>
            </p:nvSpPr>
            <p:spPr>
              <a:xfrm>
                <a:off x="4200120" y="5337000"/>
                <a:ext cx="115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9933"/>
                    </a:solidFill>
                    <a:latin typeface="Comic Sans MS"/>
                  </a:rPr>
                  <a:t>Trajectoi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284720" y="55879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364000" y="5587920"/>
                <a:ext cx="35892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898560" y="6364440"/>
              <a:ext cx="8094600" cy="268200"/>
              <a:chOff x="898560" y="6364440"/>
              <a:chExt cx="8094600" cy="268200"/>
            </a:xfrm>
          </p:grpSpPr>
          <p:sp>
            <p:nvSpPr>
              <p:cNvPr id="1604" name=""/>
              <p:cNvSpPr/>
              <p:nvPr/>
            </p:nvSpPr>
            <p:spPr>
              <a:xfrm>
                <a:off x="898560" y="6380280"/>
                <a:ext cx="806580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903240" y="6364440"/>
                <a:ext cx="808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1079640" y="5516640"/>
              <a:ext cx="1487520" cy="844560"/>
              <a:chOff x="1079640" y="5516640"/>
              <a:chExt cx="1487520" cy="844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1079640" y="5591160"/>
                <a:ext cx="771480" cy="7700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1854360" y="5516640"/>
                <a:ext cx="712800" cy="519120"/>
                <a:chOff x="1854360" y="5516640"/>
                <a:chExt cx="712800" cy="5191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1854360" y="5877000"/>
                  <a:ext cx="684000" cy="158760"/>
                </a:xfrm>
                <a:prstGeom prst="rightArrow">
                  <a:avLst>
                    <a:gd name="adj1" fmla="val 50000"/>
                    <a:gd name="adj2" fmla="val 10771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2230920" y="554184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2278080" y="55166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1739520" y="5516640"/>
                <a:ext cx="405720" cy="545760"/>
                <a:chOff x="1739520" y="5516640"/>
                <a:chExt cx="405720" cy="545760"/>
              </a:xfrm>
            </p:grpSpPr>
            <p:grpSp>
              <p:nvGrpSpPr>
                <p:cNvPr id="1613" name=""/>
                <p:cNvGrpSpPr/>
                <p:nvPr/>
              </p:nvGrpSpPr>
              <p:grpSpPr>
                <a:xfrm>
                  <a:off x="1739520" y="5859720"/>
                  <a:ext cx="211320" cy="202680"/>
                  <a:chOff x="1739520" y="5859720"/>
                  <a:chExt cx="211320" cy="202680"/>
                </a:xfrm>
              </p:grpSpPr>
              <p:sp>
                <p:nvSpPr>
                  <p:cNvPr id="1614" name=""/>
                  <p:cNvSpPr/>
                  <p:nvPr/>
                </p:nvSpPr>
                <p:spPr>
                  <a:xfrm>
                    <a:off x="1755720" y="5864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 flipH="1">
                    <a:off x="1739520" y="5859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6" name=""/>
                <p:cNvSpPr/>
                <p:nvPr/>
              </p:nvSpPr>
              <p:spPr>
                <a:xfrm>
                  <a:off x="1806120" y="5516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7" name=""/>
          <p:cNvGrpSpPr/>
          <p:nvPr/>
        </p:nvGrpSpPr>
        <p:grpSpPr>
          <a:xfrm>
            <a:off x="1847880" y="5958000"/>
            <a:ext cx="904680" cy="496800"/>
            <a:chOff x="1847880" y="5958000"/>
            <a:chExt cx="904680" cy="496800"/>
          </a:xfrm>
        </p:grpSpPr>
        <p:sp>
          <p:nvSpPr>
            <p:cNvPr id="1618" name=""/>
            <p:cNvSpPr/>
            <p:nvPr/>
          </p:nvSpPr>
          <p:spPr>
            <a:xfrm>
              <a:off x="1847880" y="5958000"/>
              <a:ext cx="9046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2343960" y="6086520"/>
              <a:ext cx="330120" cy="368280"/>
              <a:chOff x="2343960" y="6086520"/>
              <a:chExt cx="330120" cy="368280"/>
            </a:xfrm>
          </p:grpSpPr>
          <p:sp>
            <p:nvSpPr>
              <p:cNvPr id="1620" name=""/>
              <p:cNvSpPr/>
              <p:nvPr/>
            </p:nvSpPr>
            <p:spPr>
              <a:xfrm>
                <a:off x="2343960" y="60865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6600"/>
                    </a:solidFill>
                    <a:latin typeface="Comic Sans MS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397240" y="6097680"/>
                <a:ext cx="2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0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627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3427920" y="1739880"/>
            <a:ext cx="2978640" cy="581400"/>
            <a:chOff x="3427920" y="1739880"/>
            <a:chExt cx="2978640" cy="581400"/>
          </a:xfrm>
        </p:grpSpPr>
        <p:sp>
          <p:nvSpPr>
            <p:cNvPr id="1636" name=""/>
            <p:cNvSpPr/>
            <p:nvPr/>
          </p:nvSpPr>
          <p:spPr>
            <a:xfrm>
              <a:off x="3427920" y="1739880"/>
              <a:ext cx="297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Mo 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098960" y="177480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3090960" y="23097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5392800" y="2368440"/>
            <a:ext cx="1012680" cy="520560"/>
            <a:chOff x="5392800" y="2368440"/>
            <a:chExt cx="1012680" cy="520560"/>
          </a:xfrm>
        </p:grpSpPr>
        <p:sp>
          <p:nvSpPr>
            <p:cNvPr id="1640" name=""/>
            <p:cNvSpPr/>
            <p:nvPr/>
          </p:nvSpPr>
          <p:spPr>
            <a:xfrm>
              <a:off x="5392800" y="236844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895720" y="24159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5454720" y="1557360"/>
            <a:ext cx="10810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440400" y="1674000"/>
            <a:ext cx="2345040" cy="736200"/>
          </a:xfrm>
          <a:prstGeom prst="leftArrow">
            <a:avLst>
              <a:gd name="adj1" fmla="val 50000"/>
              <a:gd name="adj2" fmla="val 796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gle d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427800" y="2312280"/>
            <a:ext cx="1225440" cy="736200"/>
          </a:xfrm>
          <a:prstGeom prst="leftArrow">
            <a:avLst>
              <a:gd name="adj1" fmla="val 50000"/>
              <a:gd name="adj2" fmla="val 416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3636360" y="3776760"/>
            <a:ext cx="5446800" cy="2747880"/>
            <a:chOff x="3636360" y="3776760"/>
            <a:chExt cx="5446800" cy="2747880"/>
          </a:xfrm>
        </p:grpSpPr>
        <p:grpSp>
          <p:nvGrpSpPr>
            <p:cNvPr id="1647" name=""/>
            <p:cNvGrpSpPr/>
            <p:nvPr/>
          </p:nvGrpSpPr>
          <p:grpSpPr>
            <a:xfrm>
              <a:off x="4411800" y="4121280"/>
              <a:ext cx="3327120" cy="2403360"/>
              <a:chOff x="4411800" y="4121280"/>
              <a:chExt cx="3327120" cy="240336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4535280" y="4657680"/>
                <a:ext cx="2785680" cy="1425600"/>
                <a:chOff x="4535280" y="4657680"/>
                <a:chExt cx="2785680" cy="1425600"/>
              </a:xfrm>
            </p:grpSpPr>
            <p:sp>
              <p:nvSpPr>
                <p:cNvPr id="1649" name=""/>
                <p:cNvSpPr/>
                <p:nvPr/>
              </p:nvSpPr>
              <p:spPr>
                <a:xfrm>
                  <a:off x="4539600" y="4657680"/>
                  <a:ext cx="2773080" cy="5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29292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4536360" y="4908600"/>
                  <a:ext cx="0" cy="9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7317720" y="4908600"/>
                  <a:ext cx="0" cy="9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4535280" y="4916520"/>
                  <a:ext cx="2785680" cy="1166760"/>
                </a:xfrm>
                <a:custGeom>
                  <a:avLst/>
                  <a:gdLst/>
                  <a:ahLst/>
                  <a:rect l="l" t="t" r="r" b="b"/>
                  <a:pathLst>
                    <a:path w="1755" h="735">
                      <a:moveTo>
                        <a:pt x="0" y="6"/>
                      </a:moveTo>
                      <a:lnTo>
                        <a:pt x="9" y="36"/>
                      </a:lnTo>
                      <a:lnTo>
                        <a:pt x="57" y="66"/>
                      </a:lnTo>
                      <a:lnTo>
                        <a:pt x="147" y="102"/>
                      </a:lnTo>
                      <a:lnTo>
                        <a:pt x="249" y="123"/>
                      </a:lnTo>
                      <a:lnTo>
                        <a:pt x="402" y="147"/>
                      </a:lnTo>
                      <a:lnTo>
                        <a:pt x="531" y="159"/>
                      </a:lnTo>
                      <a:lnTo>
                        <a:pt x="684" y="171"/>
                      </a:lnTo>
                      <a:lnTo>
                        <a:pt x="837" y="173"/>
                      </a:lnTo>
                      <a:lnTo>
                        <a:pt x="933" y="173"/>
                      </a:lnTo>
                      <a:lnTo>
                        <a:pt x="1041" y="171"/>
                      </a:lnTo>
                      <a:lnTo>
                        <a:pt x="1185" y="162"/>
                      </a:lnTo>
                      <a:lnTo>
                        <a:pt x="1317" y="153"/>
                      </a:lnTo>
                      <a:lnTo>
                        <a:pt x="1407" y="141"/>
                      </a:lnTo>
                      <a:lnTo>
                        <a:pt x="1512" y="123"/>
                      </a:lnTo>
                      <a:lnTo>
                        <a:pt x="1587" y="102"/>
                      </a:lnTo>
                      <a:lnTo>
                        <a:pt x="1662" y="81"/>
                      </a:lnTo>
                      <a:lnTo>
                        <a:pt x="1701" y="63"/>
                      </a:lnTo>
                      <a:lnTo>
                        <a:pt x="1737" y="33"/>
                      </a:lnTo>
                      <a:lnTo>
                        <a:pt x="1755" y="0"/>
                      </a:lnTo>
                      <a:lnTo>
                        <a:pt x="1755" y="561"/>
                      </a:lnTo>
                      <a:lnTo>
                        <a:pt x="1754" y="587"/>
                      </a:lnTo>
                      <a:lnTo>
                        <a:pt x="1722" y="612"/>
                      </a:lnTo>
                      <a:lnTo>
                        <a:pt x="1629" y="651"/>
                      </a:lnTo>
                      <a:lnTo>
                        <a:pt x="1527" y="678"/>
                      </a:lnTo>
                      <a:lnTo>
                        <a:pt x="1380" y="705"/>
                      </a:lnTo>
                      <a:lnTo>
                        <a:pt x="1227" y="720"/>
                      </a:lnTo>
                      <a:lnTo>
                        <a:pt x="1089" y="729"/>
                      </a:lnTo>
                      <a:lnTo>
                        <a:pt x="957" y="735"/>
                      </a:lnTo>
                      <a:lnTo>
                        <a:pt x="813" y="734"/>
                      </a:lnTo>
                      <a:lnTo>
                        <a:pt x="636" y="726"/>
                      </a:lnTo>
                      <a:lnTo>
                        <a:pt x="516" y="720"/>
                      </a:lnTo>
                      <a:lnTo>
                        <a:pt x="395" y="707"/>
                      </a:lnTo>
                      <a:lnTo>
                        <a:pt x="264" y="690"/>
                      </a:lnTo>
                      <a:lnTo>
                        <a:pt x="123" y="654"/>
                      </a:lnTo>
                      <a:lnTo>
                        <a:pt x="41" y="620"/>
                      </a:lnTo>
                      <a:lnTo>
                        <a:pt x="20" y="604"/>
                      </a:lnTo>
                      <a:lnTo>
                        <a:pt x="2" y="58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4411800" y="4121280"/>
                <a:ext cx="3327120" cy="2403360"/>
                <a:chOff x="4411800" y="4121280"/>
                <a:chExt cx="3327120" cy="240336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4411800" y="490860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948280" y="4121280"/>
                  <a:ext cx="0" cy="240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6" name=""/>
            <p:cNvGrpSpPr/>
            <p:nvPr/>
          </p:nvGrpSpPr>
          <p:grpSpPr>
            <a:xfrm>
              <a:off x="7199280" y="4653000"/>
              <a:ext cx="1883880" cy="826560"/>
              <a:chOff x="7199280" y="4653000"/>
              <a:chExt cx="1883880" cy="826560"/>
            </a:xfrm>
          </p:grpSpPr>
          <p:sp>
            <p:nvSpPr>
              <p:cNvPr id="1657" name=""/>
              <p:cNvSpPr/>
              <p:nvPr/>
            </p:nvSpPr>
            <p:spPr>
              <a:xfrm>
                <a:off x="7928640" y="4653000"/>
                <a:ext cx="115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olid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988400" y="497340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7199280" y="4971960"/>
                <a:ext cx="78912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5037120" y="4913280"/>
              <a:ext cx="905040" cy="314640"/>
              <a:chOff x="5037120" y="4913280"/>
              <a:chExt cx="905040" cy="314640"/>
            </a:xfrm>
          </p:grpSpPr>
          <p:sp>
            <p:nvSpPr>
              <p:cNvPr id="1661" name=""/>
              <p:cNvSpPr/>
              <p:nvPr/>
            </p:nvSpPr>
            <p:spPr>
              <a:xfrm flipH="1">
                <a:off x="5292720" y="4913280"/>
                <a:ext cx="649440" cy="250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5037120" y="4951440"/>
                <a:ext cx="312480" cy="276480"/>
                <a:chOff x="5037120" y="4951440"/>
                <a:chExt cx="312480" cy="276480"/>
              </a:xfrm>
            </p:grpSpPr>
            <p:grpSp>
              <p:nvGrpSpPr>
                <p:cNvPr id="1663" name=""/>
                <p:cNvGrpSpPr/>
                <p:nvPr/>
              </p:nvGrpSpPr>
              <p:grpSpPr>
                <a:xfrm>
                  <a:off x="5240520" y="5119560"/>
                  <a:ext cx="109080" cy="101160"/>
                  <a:chOff x="5240520" y="5119560"/>
                  <a:chExt cx="109080" cy="10116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5248080" y="5119560"/>
                    <a:ext cx="101520" cy="101160"/>
                  </a:xfrm>
                  <a:prstGeom prst="line">
                    <a:avLst/>
                  </a:prstGeom>
                  <a:ln w="93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H="1">
                    <a:off x="5240520" y="5119560"/>
                    <a:ext cx="101520" cy="101160"/>
                  </a:xfrm>
                  <a:prstGeom prst="line">
                    <a:avLst/>
                  </a:prstGeom>
                  <a:ln w="93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6" name=""/>
                <p:cNvSpPr/>
                <p:nvPr/>
              </p:nvSpPr>
              <p:spPr>
                <a:xfrm>
                  <a:off x="5037120" y="4951440"/>
                  <a:ext cx="285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7" name=""/>
            <p:cNvSpPr/>
            <p:nvPr/>
          </p:nvSpPr>
          <p:spPr>
            <a:xfrm>
              <a:off x="5631120" y="4697280"/>
              <a:ext cx="30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5288040" y="5160960"/>
              <a:ext cx="541440" cy="453240"/>
              <a:chOff x="5288040" y="5160960"/>
              <a:chExt cx="541440" cy="453240"/>
            </a:xfrm>
          </p:grpSpPr>
          <p:sp>
            <p:nvSpPr>
              <p:cNvPr id="1669" name=""/>
              <p:cNvSpPr/>
              <p:nvPr/>
            </p:nvSpPr>
            <p:spPr>
              <a:xfrm>
                <a:off x="5288040" y="5160960"/>
                <a:ext cx="541440" cy="144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367600" y="527688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438880" y="5324400"/>
                <a:ext cx="16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5605560" y="5005440"/>
              <a:ext cx="752400" cy="246240"/>
              <a:chOff x="5605560" y="5005440"/>
              <a:chExt cx="752400" cy="246240"/>
            </a:xfrm>
          </p:grpSpPr>
          <p:sp>
            <p:nvSpPr>
              <p:cNvPr id="1673" name=""/>
              <p:cNvSpPr/>
              <p:nvPr/>
            </p:nvSpPr>
            <p:spPr>
              <a:xfrm>
                <a:off x="5605560" y="5025960"/>
                <a:ext cx="752400" cy="42840"/>
              </a:xfrm>
              <a:custGeom>
                <a:avLst/>
                <a:gdLst/>
                <a:ahLst/>
                <a:rect l="l" t="t" r="r" b="b"/>
                <a:pathLst>
                  <a:path w="474" h="27">
                    <a:moveTo>
                      <a:pt x="0" y="15"/>
                    </a:moveTo>
                    <a:cubicBezTo>
                      <a:pt x="24" y="16"/>
                      <a:pt x="112" y="22"/>
                      <a:pt x="147" y="24"/>
                    </a:cubicBezTo>
                    <a:cubicBezTo>
                      <a:pt x="182" y="26"/>
                      <a:pt x="190" y="27"/>
                      <a:pt x="213" y="27"/>
                    </a:cubicBezTo>
                    <a:cubicBezTo>
                      <a:pt x="236" y="27"/>
                      <a:pt x="262" y="26"/>
                      <a:pt x="286" y="25"/>
                    </a:cubicBezTo>
                    <a:cubicBezTo>
                      <a:pt x="310" y="24"/>
                      <a:pt x="326" y="22"/>
                      <a:pt x="357" y="18"/>
                    </a:cubicBezTo>
                    <a:cubicBezTo>
                      <a:pt x="388" y="14"/>
                      <a:pt x="450" y="4"/>
                      <a:pt x="474" y="0"/>
                    </a:cubicBezTo>
                  </a:path>
                </a:pathLst>
              </a:custGeom>
              <a:noFill/>
              <a:ln w="9360">
                <a:solidFill>
                  <a:srgbClr val="3399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880" bIns="-288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895000" y="500544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5946840" y="4911840"/>
              <a:ext cx="826920" cy="225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3636360" y="3776760"/>
              <a:ext cx="2295720" cy="663480"/>
              <a:chOff x="3636360" y="3776760"/>
              <a:chExt cx="2295720" cy="663480"/>
            </a:xfrm>
          </p:grpSpPr>
          <p:sp>
            <p:nvSpPr>
              <p:cNvPr id="1677" name=""/>
              <p:cNvSpPr/>
              <p:nvPr/>
            </p:nvSpPr>
            <p:spPr>
              <a:xfrm>
                <a:off x="4132080" y="412128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379840" y="4121280"/>
                <a:ext cx="55224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636360" y="3776760"/>
                <a:ext cx="183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xe de ro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5297400" y="5162400"/>
              <a:ext cx="0" cy="89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1" name=""/>
            <p:cNvGrpSpPr/>
            <p:nvPr/>
          </p:nvGrpSpPr>
          <p:grpSpPr>
            <a:xfrm>
              <a:off x="6508080" y="4929120"/>
              <a:ext cx="317880" cy="276480"/>
              <a:chOff x="6508080" y="4929120"/>
              <a:chExt cx="317880" cy="27648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716880" y="5097240"/>
                <a:ext cx="109080" cy="101160"/>
                <a:chOff x="6716880" y="5097240"/>
                <a:chExt cx="109080" cy="10116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6724440" y="509724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>
                  <a:off x="6716880" y="509724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>
                <a:off x="6508080" y="49291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6" name=""/>
            <p:cNvSpPr/>
            <p:nvPr/>
          </p:nvSpPr>
          <p:spPr>
            <a:xfrm flipV="1">
              <a:off x="6762600" y="5015880"/>
              <a:ext cx="545040" cy="129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7" name=""/>
            <p:cNvGrpSpPr/>
            <p:nvPr/>
          </p:nvGrpSpPr>
          <p:grpSpPr>
            <a:xfrm>
              <a:off x="6880320" y="5149800"/>
              <a:ext cx="291960" cy="337320"/>
              <a:chOff x="6880320" y="5149800"/>
              <a:chExt cx="291960" cy="337320"/>
            </a:xfrm>
          </p:grpSpPr>
          <p:sp>
            <p:nvSpPr>
              <p:cNvPr id="1688" name=""/>
              <p:cNvSpPr/>
              <p:nvPr/>
            </p:nvSpPr>
            <p:spPr>
              <a:xfrm>
                <a:off x="6880320" y="514980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951600" y="5197680"/>
                <a:ext cx="16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>
              <a:off x="6777000" y="5162400"/>
              <a:ext cx="0" cy="85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3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3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2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694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3437280" y="1959120"/>
            <a:ext cx="3394800" cy="581400"/>
            <a:chOff x="3437280" y="1959120"/>
            <a:chExt cx="3394800" cy="581400"/>
          </a:xfrm>
        </p:grpSpPr>
        <p:sp>
          <p:nvSpPr>
            <p:cNvPr id="1703" name=""/>
            <p:cNvSpPr/>
            <p:nvPr/>
          </p:nvSpPr>
          <p:spPr>
            <a:xfrm>
              <a:off x="3437280" y="1959120"/>
              <a:ext cx="339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Mo 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.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98960" y="199368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4535640" y="4657680"/>
            <a:ext cx="2786040" cy="1425600"/>
            <a:chOff x="4535640" y="4657680"/>
            <a:chExt cx="2786040" cy="1425600"/>
          </a:xfrm>
        </p:grpSpPr>
        <p:sp>
          <p:nvSpPr>
            <p:cNvPr id="1707" name=""/>
            <p:cNvSpPr/>
            <p:nvPr/>
          </p:nvSpPr>
          <p:spPr>
            <a:xfrm>
              <a:off x="4540320" y="4657680"/>
              <a:ext cx="2773440" cy="540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53708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1844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535640" y="4916520"/>
              <a:ext cx="2786040" cy="1166760"/>
            </a:xfrm>
            <a:custGeom>
              <a:avLst/>
              <a:gdLst/>
              <a:ahLst/>
              <a:rect l="l" t="t" r="r" b="b"/>
              <a:pathLst>
                <a:path w="1755" h="735">
                  <a:moveTo>
                    <a:pt x="0" y="6"/>
                  </a:moveTo>
                  <a:lnTo>
                    <a:pt x="9" y="36"/>
                  </a:lnTo>
                  <a:lnTo>
                    <a:pt x="57" y="66"/>
                  </a:lnTo>
                  <a:lnTo>
                    <a:pt x="147" y="102"/>
                  </a:lnTo>
                  <a:lnTo>
                    <a:pt x="249" y="123"/>
                  </a:lnTo>
                  <a:lnTo>
                    <a:pt x="402" y="147"/>
                  </a:lnTo>
                  <a:lnTo>
                    <a:pt x="531" y="159"/>
                  </a:lnTo>
                  <a:lnTo>
                    <a:pt x="684" y="171"/>
                  </a:lnTo>
                  <a:lnTo>
                    <a:pt x="837" y="173"/>
                  </a:lnTo>
                  <a:lnTo>
                    <a:pt x="933" y="173"/>
                  </a:lnTo>
                  <a:lnTo>
                    <a:pt x="1041" y="171"/>
                  </a:lnTo>
                  <a:lnTo>
                    <a:pt x="1185" y="162"/>
                  </a:lnTo>
                  <a:lnTo>
                    <a:pt x="1317" y="153"/>
                  </a:lnTo>
                  <a:lnTo>
                    <a:pt x="1407" y="141"/>
                  </a:lnTo>
                  <a:lnTo>
                    <a:pt x="1512" y="123"/>
                  </a:lnTo>
                  <a:lnTo>
                    <a:pt x="1587" y="102"/>
                  </a:lnTo>
                  <a:lnTo>
                    <a:pt x="1662" y="81"/>
                  </a:lnTo>
                  <a:lnTo>
                    <a:pt x="1701" y="63"/>
                  </a:lnTo>
                  <a:lnTo>
                    <a:pt x="1737" y="33"/>
                  </a:lnTo>
                  <a:lnTo>
                    <a:pt x="1755" y="0"/>
                  </a:lnTo>
                  <a:lnTo>
                    <a:pt x="1755" y="561"/>
                  </a:lnTo>
                  <a:lnTo>
                    <a:pt x="1754" y="587"/>
                  </a:lnTo>
                  <a:lnTo>
                    <a:pt x="1722" y="612"/>
                  </a:lnTo>
                  <a:lnTo>
                    <a:pt x="1629" y="651"/>
                  </a:lnTo>
                  <a:lnTo>
                    <a:pt x="1527" y="678"/>
                  </a:lnTo>
                  <a:lnTo>
                    <a:pt x="1380" y="705"/>
                  </a:lnTo>
                  <a:lnTo>
                    <a:pt x="1227" y="720"/>
                  </a:lnTo>
                  <a:lnTo>
                    <a:pt x="1089" y="729"/>
                  </a:lnTo>
                  <a:lnTo>
                    <a:pt x="957" y="735"/>
                  </a:lnTo>
                  <a:lnTo>
                    <a:pt x="813" y="734"/>
                  </a:lnTo>
                  <a:lnTo>
                    <a:pt x="636" y="726"/>
                  </a:lnTo>
                  <a:lnTo>
                    <a:pt x="516" y="720"/>
                  </a:lnTo>
                  <a:lnTo>
                    <a:pt x="395" y="707"/>
                  </a:lnTo>
                  <a:lnTo>
                    <a:pt x="264" y="690"/>
                  </a:lnTo>
                  <a:lnTo>
                    <a:pt x="123" y="654"/>
                  </a:lnTo>
                  <a:lnTo>
                    <a:pt x="41" y="620"/>
                  </a:lnTo>
                  <a:lnTo>
                    <a:pt x="20" y="604"/>
                  </a:lnTo>
                  <a:lnTo>
                    <a:pt x="2" y="58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411800" y="4908600"/>
            <a:ext cx="3327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948280" y="438768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7199280" y="4653000"/>
            <a:ext cx="1883880" cy="826560"/>
            <a:chOff x="7199280" y="4653000"/>
            <a:chExt cx="1883880" cy="826560"/>
          </a:xfrm>
        </p:grpSpPr>
        <p:sp>
          <p:nvSpPr>
            <p:cNvPr id="1714" name=""/>
            <p:cNvSpPr/>
            <p:nvPr/>
          </p:nvSpPr>
          <p:spPr>
            <a:xfrm>
              <a:off x="7928640" y="4653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988400" y="49734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7199280" y="4971960"/>
              <a:ext cx="78912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5037120" y="4913280"/>
            <a:ext cx="905040" cy="314640"/>
            <a:chOff x="5037120" y="4913280"/>
            <a:chExt cx="905040" cy="314640"/>
          </a:xfrm>
        </p:grpSpPr>
        <p:sp>
          <p:nvSpPr>
            <p:cNvPr id="1718" name=""/>
            <p:cNvSpPr/>
            <p:nvPr/>
          </p:nvSpPr>
          <p:spPr>
            <a:xfrm flipH="1">
              <a:off x="5292720" y="491328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5037120" y="4951440"/>
              <a:ext cx="312480" cy="276480"/>
              <a:chOff x="5037120" y="4951440"/>
              <a:chExt cx="312480" cy="276480"/>
            </a:xfrm>
          </p:grpSpPr>
          <p:grpSp>
            <p:nvGrpSpPr>
              <p:cNvPr id="1720" name=""/>
              <p:cNvGrpSpPr/>
              <p:nvPr/>
            </p:nvGrpSpPr>
            <p:grpSpPr>
              <a:xfrm>
                <a:off x="5240520" y="5119560"/>
                <a:ext cx="109080" cy="101160"/>
                <a:chOff x="5240520" y="5119560"/>
                <a:chExt cx="109080" cy="10116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524808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>
                  <a:off x="524052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3" name=""/>
              <p:cNvSpPr/>
              <p:nvPr/>
            </p:nvSpPr>
            <p:spPr>
              <a:xfrm>
                <a:off x="5037120" y="495144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4" name=""/>
          <p:cNvSpPr/>
          <p:nvPr/>
        </p:nvSpPr>
        <p:spPr>
          <a:xfrm>
            <a:off x="5631120" y="46972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5288040" y="5160960"/>
            <a:ext cx="541440" cy="453240"/>
            <a:chOff x="5288040" y="5160960"/>
            <a:chExt cx="541440" cy="453240"/>
          </a:xfrm>
        </p:grpSpPr>
        <p:sp>
          <p:nvSpPr>
            <p:cNvPr id="1726" name=""/>
            <p:cNvSpPr/>
            <p:nvPr/>
          </p:nvSpPr>
          <p:spPr>
            <a:xfrm>
              <a:off x="5288040" y="516096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367600" y="5276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438880" y="532440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5605560" y="5005440"/>
            <a:ext cx="752400" cy="246240"/>
            <a:chOff x="5605560" y="5005440"/>
            <a:chExt cx="752400" cy="246240"/>
          </a:xfrm>
        </p:grpSpPr>
        <p:sp>
          <p:nvSpPr>
            <p:cNvPr id="1730" name=""/>
            <p:cNvSpPr/>
            <p:nvPr/>
          </p:nvSpPr>
          <p:spPr>
            <a:xfrm>
              <a:off x="5605560" y="502596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95000" y="500544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"/>
          <p:cNvSpPr/>
          <p:nvPr/>
        </p:nvSpPr>
        <p:spPr>
          <a:xfrm>
            <a:off x="5946840" y="4911840"/>
            <a:ext cx="82692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3636360" y="3776760"/>
            <a:ext cx="2295720" cy="663480"/>
            <a:chOff x="3636360" y="3776760"/>
            <a:chExt cx="2295720" cy="663480"/>
          </a:xfrm>
        </p:grpSpPr>
        <p:sp>
          <p:nvSpPr>
            <p:cNvPr id="1734" name=""/>
            <p:cNvSpPr/>
            <p:nvPr/>
          </p:nvSpPr>
          <p:spPr>
            <a:xfrm>
              <a:off x="4132080" y="412128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379840" y="4121280"/>
              <a:ext cx="552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36360" y="377676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7" name=""/>
          <p:cNvSpPr/>
          <p:nvPr/>
        </p:nvSpPr>
        <p:spPr>
          <a:xfrm>
            <a:off x="5297400" y="51624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6508080" y="4929120"/>
            <a:ext cx="317880" cy="276480"/>
            <a:chOff x="6508080" y="4929120"/>
            <a:chExt cx="317880" cy="276480"/>
          </a:xfrm>
        </p:grpSpPr>
        <p:grpSp>
          <p:nvGrpSpPr>
            <p:cNvPr id="1739" name=""/>
            <p:cNvGrpSpPr/>
            <p:nvPr/>
          </p:nvGrpSpPr>
          <p:grpSpPr>
            <a:xfrm>
              <a:off x="6716880" y="5097240"/>
              <a:ext cx="109080" cy="101160"/>
              <a:chOff x="6716880" y="5097240"/>
              <a:chExt cx="109080" cy="101160"/>
            </a:xfrm>
          </p:grpSpPr>
          <p:sp>
            <p:nvSpPr>
              <p:cNvPr id="1740" name=""/>
              <p:cNvSpPr/>
              <p:nvPr/>
            </p:nvSpPr>
            <p:spPr>
              <a:xfrm>
                <a:off x="672444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671688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6508080" y="4929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"/>
          <p:cNvSpPr/>
          <p:nvPr/>
        </p:nvSpPr>
        <p:spPr>
          <a:xfrm flipV="1">
            <a:off x="6762600" y="5015880"/>
            <a:ext cx="545040" cy="12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6880320" y="5149800"/>
            <a:ext cx="291960" cy="337320"/>
            <a:chOff x="6880320" y="5149800"/>
            <a:chExt cx="291960" cy="337320"/>
          </a:xfrm>
        </p:grpSpPr>
        <p:sp>
          <p:nvSpPr>
            <p:cNvPr id="1745" name=""/>
            <p:cNvSpPr/>
            <p:nvPr/>
          </p:nvSpPr>
          <p:spPr>
            <a:xfrm>
              <a:off x="6880320" y="51498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51600" y="519768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6777000" y="5162400"/>
            <a:ext cx="0" cy="85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5354640" y="4257720"/>
            <a:ext cx="971640" cy="576360"/>
          </a:xfrm>
          <a:custGeom>
            <a:avLst/>
            <a:gdLst>
              <a:gd name="textAreaLeft" fmla="*/ 129960 w 971640"/>
              <a:gd name="textAreaRight" fmla="*/ 841680 w 97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374160" y="4149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0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1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754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376080" y="1959120"/>
            <a:ext cx="30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.m)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ad.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4535640" y="4657680"/>
            <a:ext cx="2786040" cy="1425600"/>
            <a:chOff x="4535640" y="4657680"/>
            <a:chExt cx="2786040" cy="1425600"/>
          </a:xfrm>
        </p:grpSpPr>
        <p:sp>
          <p:nvSpPr>
            <p:cNvPr id="1765" name=""/>
            <p:cNvSpPr/>
            <p:nvPr/>
          </p:nvSpPr>
          <p:spPr>
            <a:xfrm>
              <a:off x="4540320" y="4657680"/>
              <a:ext cx="2773440" cy="540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3708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31844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35640" y="4916520"/>
              <a:ext cx="2786040" cy="1166760"/>
            </a:xfrm>
            <a:custGeom>
              <a:avLst/>
              <a:gdLst/>
              <a:ahLst/>
              <a:rect l="l" t="t" r="r" b="b"/>
              <a:pathLst>
                <a:path w="1755" h="735">
                  <a:moveTo>
                    <a:pt x="0" y="6"/>
                  </a:moveTo>
                  <a:lnTo>
                    <a:pt x="9" y="36"/>
                  </a:lnTo>
                  <a:lnTo>
                    <a:pt x="57" y="66"/>
                  </a:lnTo>
                  <a:lnTo>
                    <a:pt x="147" y="102"/>
                  </a:lnTo>
                  <a:lnTo>
                    <a:pt x="249" y="123"/>
                  </a:lnTo>
                  <a:lnTo>
                    <a:pt x="402" y="147"/>
                  </a:lnTo>
                  <a:lnTo>
                    <a:pt x="531" y="159"/>
                  </a:lnTo>
                  <a:lnTo>
                    <a:pt x="684" y="171"/>
                  </a:lnTo>
                  <a:lnTo>
                    <a:pt x="837" y="173"/>
                  </a:lnTo>
                  <a:lnTo>
                    <a:pt x="933" y="173"/>
                  </a:lnTo>
                  <a:lnTo>
                    <a:pt x="1041" y="171"/>
                  </a:lnTo>
                  <a:lnTo>
                    <a:pt x="1185" y="162"/>
                  </a:lnTo>
                  <a:lnTo>
                    <a:pt x="1317" y="153"/>
                  </a:lnTo>
                  <a:lnTo>
                    <a:pt x="1407" y="141"/>
                  </a:lnTo>
                  <a:lnTo>
                    <a:pt x="1512" y="123"/>
                  </a:lnTo>
                  <a:lnTo>
                    <a:pt x="1587" y="102"/>
                  </a:lnTo>
                  <a:lnTo>
                    <a:pt x="1662" y="81"/>
                  </a:lnTo>
                  <a:lnTo>
                    <a:pt x="1701" y="63"/>
                  </a:lnTo>
                  <a:lnTo>
                    <a:pt x="1737" y="33"/>
                  </a:lnTo>
                  <a:lnTo>
                    <a:pt x="1755" y="0"/>
                  </a:lnTo>
                  <a:lnTo>
                    <a:pt x="1755" y="561"/>
                  </a:lnTo>
                  <a:lnTo>
                    <a:pt x="1754" y="587"/>
                  </a:lnTo>
                  <a:lnTo>
                    <a:pt x="1722" y="612"/>
                  </a:lnTo>
                  <a:lnTo>
                    <a:pt x="1629" y="651"/>
                  </a:lnTo>
                  <a:lnTo>
                    <a:pt x="1527" y="678"/>
                  </a:lnTo>
                  <a:lnTo>
                    <a:pt x="1380" y="705"/>
                  </a:lnTo>
                  <a:lnTo>
                    <a:pt x="1227" y="720"/>
                  </a:lnTo>
                  <a:lnTo>
                    <a:pt x="1089" y="729"/>
                  </a:lnTo>
                  <a:lnTo>
                    <a:pt x="957" y="735"/>
                  </a:lnTo>
                  <a:lnTo>
                    <a:pt x="813" y="734"/>
                  </a:lnTo>
                  <a:lnTo>
                    <a:pt x="636" y="726"/>
                  </a:lnTo>
                  <a:lnTo>
                    <a:pt x="516" y="720"/>
                  </a:lnTo>
                  <a:lnTo>
                    <a:pt x="395" y="707"/>
                  </a:lnTo>
                  <a:lnTo>
                    <a:pt x="264" y="690"/>
                  </a:lnTo>
                  <a:lnTo>
                    <a:pt x="123" y="654"/>
                  </a:lnTo>
                  <a:lnTo>
                    <a:pt x="41" y="620"/>
                  </a:lnTo>
                  <a:lnTo>
                    <a:pt x="20" y="604"/>
                  </a:lnTo>
                  <a:lnTo>
                    <a:pt x="2" y="58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"/>
          <p:cNvSpPr/>
          <p:nvPr/>
        </p:nvSpPr>
        <p:spPr>
          <a:xfrm>
            <a:off x="4411800" y="4908600"/>
            <a:ext cx="3327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948280" y="438768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7199280" y="4653000"/>
            <a:ext cx="1883880" cy="826560"/>
            <a:chOff x="7199280" y="4653000"/>
            <a:chExt cx="1883880" cy="826560"/>
          </a:xfrm>
        </p:grpSpPr>
        <p:sp>
          <p:nvSpPr>
            <p:cNvPr id="1772" name=""/>
            <p:cNvSpPr/>
            <p:nvPr/>
          </p:nvSpPr>
          <p:spPr>
            <a:xfrm>
              <a:off x="7928640" y="4653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988400" y="49734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199280" y="4971960"/>
              <a:ext cx="78912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5037120" y="4913280"/>
            <a:ext cx="905040" cy="314640"/>
            <a:chOff x="5037120" y="4913280"/>
            <a:chExt cx="905040" cy="314640"/>
          </a:xfrm>
        </p:grpSpPr>
        <p:sp>
          <p:nvSpPr>
            <p:cNvPr id="1776" name=""/>
            <p:cNvSpPr/>
            <p:nvPr/>
          </p:nvSpPr>
          <p:spPr>
            <a:xfrm flipH="1">
              <a:off x="5292720" y="491328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5037120" y="4951440"/>
              <a:ext cx="312480" cy="276480"/>
              <a:chOff x="5037120" y="4951440"/>
              <a:chExt cx="312480" cy="276480"/>
            </a:xfrm>
          </p:grpSpPr>
          <p:grpSp>
            <p:nvGrpSpPr>
              <p:cNvPr id="1778" name=""/>
              <p:cNvGrpSpPr/>
              <p:nvPr/>
            </p:nvGrpSpPr>
            <p:grpSpPr>
              <a:xfrm>
                <a:off x="5240520" y="5119560"/>
                <a:ext cx="109080" cy="101160"/>
                <a:chOff x="5240520" y="5119560"/>
                <a:chExt cx="109080" cy="1011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524808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H="1">
                  <a:off x="524052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1" name=""/>
              <p:cNvSpPr/>
              <p:nvPr/>
            </p:nvSpPr>
            <p:spPr>
              <a:xfrm>
                <a:off x="5037120" y="495144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2" name=""/>
          <p:cNvSpPr/>
          <p:nvPr/>
        </p:nvSpPr>
        <p:spPr>
          <a:xfrm>
            <a:off x="5631120" y="46972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5288040" y="5160960"/>
            <a:ext cx="541440" cy="453240"/>
            <a:chOff x="5288040" y="5160960"/>
            <a:chExt cx="541440" cy="453240"/>
          </a:xfrm>
        </p:grpSpPr>
        <p:sp>
          <p:nvSpPr>
            <p:cNvPr id="1784" name=""/>
            <p:cNvSpPr/>
            <p:nvPr/>
          </p:nvSpPr>
          <p:spPr>
            <a:xfrm>
              <a:off x="5288040" y="516096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367600" y="5276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438880" y="532440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"/>
          <p:cNvGrpSpPr/>
          <p:nvPr/>
        </p:nvGrpSpPr>
        <p:grpSpPr>
          <a:xfrm>
            <a:off x="5605560" y="5005440"/>
            <a:ext cx="752400" cy="246240"/>
            <a:chOff x="5605560" y="5005440"/>
            <a:chExt cx="752400" cy="246240"/>
          </a:xfrm>
        </p:grpSpPr>
        <p:sp>
          <p:nvSpPr>
            <p:cNvPr id="1788" name=""/>
            <p:cNvSpPr/>
            <p:nvPr/>
          </p:nvSpPr>
          <p:spPr>
            <a:xfrm>
              <a:off x="5605560" y="502596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95000" y="500544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5946840" y="4911840"/>
            <a:ext cx="82692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636360" y="3776760"/>
            <a:ext cx="2295720" cy="663480"/>
            <a:chOff x="3636360" y="3776760"/>
            <a:chExt cx="2295720" cy="663480"/>
          </a:xfrm>
        </p:grpSpPr>
        <p:sp>
          <p:nvSpPr>
            <p:cNvPr id="1792" name=""/>
            <p:cNvSpPr/>
            <p:nvPr/>
          </p:nvSpPr>
          <p:spPr>
            <a:xfrm>
              <a:off x="4132080" y="412128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79840" y="4121280"/>
              <a:ext cx="552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636360" y="377676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5297400" y="51624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6508080" y="4929120"/>
            <a:ext cx="317880" cy="276480"/>
            <a:chOff x="6508080" y="4929120"/>
            <a:chExt cx="317880" cy="276480"/>
          </a:xfrm>
        </p:grpSpPr>
        <p:grpSp>
          <p:nvGrpSpPr>
            <p:cNvPr id="1797" name=""/>
            <p:cNvGrpSpPr/>
            <p:nvPr/>
          </p:nvGrpSpPr>
          <p:grpSpPr>
            <a:xfrm>
              <a:off x="6716880" y="5097240"/>
              <a:ext cx="109080" cy="101160"/>
              <a:chOff x="6716880" y="5097240"/>
              <a:chExt cx="109080" cy="101160"/>
            </a:xfrm>
          </p:grpSpPr>
          <p:sp>
            <p:nvSpPr>
              <p:cNvPr id="1798" name=""/>
              <p:cNvSpPr/>
              <p:nvPr/>
            </p:nvSpPr>
            <p:spPr>
              <a:xfrm>
                <a:off x="672444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671688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0" name=""/>
            <p:cNvSpPr/>
            <p:nvPr/>
          </p:nvSpPr>
          <p:spPr>
            <a:xfrm>
              <a:off x="6508080" y="4929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1" name=""/>
          <p:cNvSpPr/>
          <p:nvPr/>
        </p:nvSpPr>
        <p:spPr>
          <a:xfrm flipV="1">
            <a:off x="6762600" y="5015880"/>
            <a:ext cx="545040" cy="12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"/>
          <p:cNvGrpSpPr/>
          <p:nvPr/>
        </p:nvGrpSpPr>
        <p:grpSpPr>
          <a:xfrm>
            <a:off x="6880320" y="5149800"/>
            <a:ext cx="291960" cy="337320"/>
            <a:chOff x="6880320" y="5149800"/>
            <a:chExt cx="291960" cy="337320"/>
          </a:xfrm>
        </p:grpSpPr>
        <p:sp>
          <p:nvSpPr>
            <p:cNvPr id="1803" name=""/>
            <p:cNvSpPr/>
            <p:nvPr/>
          </p:nvSpPr>
          <p:spPr>
            <a:xfrm>
              <a:off x="6880320" y="51498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51600" y="519768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6777000" y="5162400"/>
            <a:ext cx="0" cy="85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354640" y="4257720"/>
            <a:ext cx="971640" cy="576360"/>
          </a:xfrm>
          <a:custGeom>
            <a:avLst/>
            <a:gdLst>
              <a:gd name="textAreaLeft" fmla="*/ 129960 w 971640"/>
              <a:gd name="textAreaRight" fmla="*/ 841680 w 97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374160" y="4149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376080" y="1959120"/>
            <a:ext cx="30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.m)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ad.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219120" y="2595960"/>
            <a:ext cx="1034640" cy="963360"/>
          </a:xfrm>
          <a:prstGeom prst="upArrowCallout">
            <a:avLst>
              <a:gd name="adj1" fmla="val 26852"/>
              <a:gd name="adj2" fmla="val 26850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0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3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925560" y="1905120"/>
            <a:ext cx="1881000" cy="4024080"/>
            <a:chOff x="925560" y="1905120"/>
            <a:chExt cx="1881000" cy="4024080"/>
          </a:xfrm>
        </p:grpSpPr>
        <p:grpSp>
          <p:nvGrpSpPr>
            <p:cNvPr id="1817" name=""/>
            <p:cNvGrpSpPr/>
            <p:nvPr/>
          </p:nvGrpSpPr>
          <p:grpSpPr>
            <a:xfrm>
              <a:off x="1547640" y="4809960"/>
              <a:ext cx="276480" cy="1050840"/>
              <a:chOff x="1547640" y="4809960"/>
              <a:chExt cx="276480" cy="1050840"/>
            </a:xfrm>
          </p:grpSpPr>
          <p:sp>
            <p:nvSpPr>
              <p:cNvPr id="1818" name=""/>
              <p:cNvSpPr/>
              <p:nvPr/>
            </p:nvSpPr>
            <p:spPr>
              <a:xfrm>
                <a:off x="1547640" y="48099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85880" y="5079960"/>
                <a:ext cx="0" cy="52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547640" y="558468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50880" y="2714760"/>
              <a:ext cx="276480" cy="2373120"/>
              <a:chOff x="1550880" y="2714760"/>
              <a:chExt cx="276480" cy="23731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50880" y="27147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687680" y="3005280"/>
                <a:ext cx="0" cy="182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550880" y="48117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955800" y="2265480"/>
              <a:ext cx="1446120" cy="996840"/>
              <a:chOff x="955800" y="2265480"/>
              <a:chExt cx="1446120" cy="996840"/>
            </a:xfrm>
          </p:grpSpPr>
          <p:sp>
            <p:nvSpPr>
              <p:cNvPr id="1826" name=""/>
              <p:cNvSpPr/>
              <p:nvPr/>
            </p:nvSpPr>
            <p:spPr>
              <a:xfrm>
                <a:off x="9558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9716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5476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157400" y="5533920"/>
              <a:ext cx="379080" cy="395280"/>
              <a:chOff x="1157400" y="5533920"/>
              <a:chExt cx="379080" cy="395280"/>
            </a:xfrm>
          </p:grpSpPr>
          <p:sp>
            <p:nvSpPr>
              <p:cNvPr id="1830" name=""/>
              <p:cNvSpPr/>
              <p:nvPr/>
            </p:nvSpPr>
            <p:spPr>
              <a:xfrm flipH="1">
                <a:off x="1333080" y="5715000"/>
                <a:ext cx="20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1" name=""/>
              <p:cNvGrpSpPr/>
              <p:nvPr/>
            </p:nvGrpSpPr>
            <p:grpSpPr>
              <a:xfrm>
                <a:off x="1157400" y="5533920"/>
                <a:ext cx="172800" cy="395280"/>
                <a:chOff x="1157400" y="5533920"/>
                <a:chExt cx="172800" cy="395280"/>
              </a:xfrm>
            </p:grpSpPr>
            <p:sp>
              <p:nvSpPr>
                <p:cNvPr id="1832" name=""/>
                <p:cNvSpPr/>
                <p:nvPr/>
              </p:nvSpPr>
              <p:spPr>
                <a:xfrm>
                  <a:off x="1330200" y="5535720"/>
                  <a:ext cx="0" cy="39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57400" y="5533920"/>
                  <a:ext cx="166680" cy="3859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34" name=""/>
            <p:cNvSpPr/>
            <p:nvPr/>
          </p:nvSpPr>
          <p:spPr>
            <a:xfrm>
              <a:off x="925560" y="1905120"/>
              <a:ext cx="1503360" cy="2717640"/>
            </a:xfrm>
            <a:custGeom>
              <a:avLst/>
              <a:gdLst/>
              <a:ahLst/>
              <a:rect l="l" t="t" r="r" b="b"/>
              <a:pathLst>
                <a:path w="947" h="1712">
                  <a:moveTo>
                    <a:pt x="0" y="1686"/>
                  </a:moveTo>
                  <a:lnTo>
                    <a:pt x="0" y="0"/>
                  </a:lnTo>
                  <a:lnTo>
                    <a:pt x="947" y="0"/>
                  </a:lnTo>
                  <a:lnTo>
                    <a:pt x="947" y="17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5" name=""/>
            <p:cNvGrpSpPr/>
            <p:nvPr/>
          </p:nvGrpSpPr>
          <p:grpSpPr>
            <a:xfrm>
              <a:off x="2427480" y="3184560"/>
              <a:ext cx="379080" cy="395280"/>
              <a:chOff x="2427480" y="3184560"/>
              <a:chExt cx="379080" cy="395280"/>
            </a:xfrm>
          </p:grpSpPr>
          <p:sp>
            <p:nvSpPr>
              <p:cNvPr id="1836" name=""/>
              <p:cNvSpPr/>
              <p:nvPr/>
            </p:nvSpPr>
            <p:spPr>
              <a:xfrm>
                <a:off x="2427480" y="3398760"/>
                <a:ext cx="20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33760" y="3184560"/>
                <a:ext cx="172800" cy="395280"/>
                <a:chOff x="2633760" y="3184560"/>
                <a:chExt cx="172800" cy="39528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33760" y="3184560"/>
                  <a:ext cx="0" cy="39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rot="10800000">
                  <a:off x="2639880" y="3193920"/>
                  <a:ext cx="166680" cy="3859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40" name=""/>
          <p:cNvGrpSpPr/>
          <p:nvPr/>
        </p:nvGrpSpPr>
        <p:grpSpPr>
          <a:xfrm>
            <a:off x="2411280" y="3633840"/>
            <a:ext cx="2988000" cy="276480"/>
            <a:chOff x="2411280" y="3633840"/>
            <a:chExt cx="2988000" cy="276480"/>
          </a:xfrm>
        </p:grpSpPr>
        <p:sp>
          <p:nvSpPr>
            <p:cNvPr id="1841" name=""/>
            <p:cNvSpPr/>
            <p:nvPr/>
          </p:nvSpPr>
          <p:spPr>
            <a:xfrm>
              <a:off x="2411280" y="389736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135240" y="3633840"/>
              <a:ext cx="22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organes fix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1625760" y="1376280"/>
            <a:ext cx="2514240" cy="858600"/>
            <a:chOff x="1625760" y="1376280"/>
            <a:chExt cx="2514240" cy="858600"/>
          </a:xfrm>
        </p:grpSpPr>
        <p:sp>
          <p:nvSpPr>
            <p:cNvPr id="1844" name=""/>
            <p:cNvSpPr/>
            <p:nvPr/>
          </p:nvSpPr>
          <p:spPr>
            <a:xfrm>
              <a:off x="2385000" y="1376280"/>
              <a:ext cx="175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pis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1625760" y="1596600"/>
              <a:ext cx="63792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263680" y="159696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714680" y="4229280"/>
            <a:ext cx="2409480" cy="276480"/>
            <a:chOff x="1714680" y="4229280"/>
            <a:chExt cx="2409480" cy="276480"/>
          </a:xfrm>
        </p:grpSpPr>
        <p:sp>
          <p:nvSpPr>
            <p:cNvPr id="1848" name=""/>
            <p:cNvSpPr/>
            <p:nvPr/>
          </p:nvSpPr>
          <p:spPr>
            <a:xfrm>
              <a:off x="1714680" y="44924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434680" y="4229280"/>
              <a:ext cx="168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biel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1685880" y="5056200"/>
            <a:ext cx="2815560" cy="276480"/>
            <a:chOff x="1685880" y="5056200"/>
            <a:chExt cx="2815560" cy="276480"/>
          </a:xfrm>
        </p:grpSpPr>
        <p:sp>
          <p:nvSpPr>
            <p:cNvPr id="1851" name=""/>
            <p:cNvSpPr/>
            <p:nvPr/>
          </p:nvSpPr>
          <p:spPr>
            <a:xfrm>
              <a:off x="1685880" y="531972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388240" y="5056200"/>
              <a:ext cx="21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vilebrequ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19284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857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861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864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86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2" name=""/>
          <p:cNvGrpSpPr/>
          <p:nvPr/>
        </p:nvGrpSpPr>
        <p:grpSpPr>
          <a:xfrm>
            <a:off x="957240" y="2265480"/>
            <a:ext cx="1446120" cy="996840"/>
            <a:chOff x="957240" y="2265480"/>
            <a:chExt cx="1446120" cy="996840"/>
          </a:xfrm>
        </p:grpSpPr>
        <p:sp>
          <p:nvSpPr>
            <p:cNvPr id="1873" name=""/>
            <p:cNvSpPr/>
            <p:nvPr/>
          </p:nvSpPr>
          <p:spPr>
            <a:xfrm>
              <a:off x="95724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97308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54908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055680" y="2023920"/>
            <a:ext cx="557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écessaire à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st fournie par la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103560" y="23144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des ga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)qui règne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934920" y="1916280"/>
            <a:ext cx="1478160" cy="331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026880" y="2658960"/>
            <a:ext cx="56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tte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 press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’es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s consta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inue progressi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957400" y="2963880"/>
            <a:ext cx="61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ortionnellement à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augmentation de 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3" dur="3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3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6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1" dur="3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"/>
                            </p:stCondLst>
                            <p:childTnLst>
                              <p:par>
                                <p:cTn id="19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3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3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3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8" dur="3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3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19284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888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892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895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7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899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901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3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1904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5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1906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055680" y="2023920"/>
            <a:ext cx="557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écessaire à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st fournie par la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103560" y="23144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des ga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)qui règne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3026880" y="2658960"/>
            <a:ext cx="56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tte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 press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’es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s consta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inue progressi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946600" y="2963880"/>
            <a:ext cx="63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ortionnellement à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augmentation de 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934920" y="1916280"/>
            <a:ext cx="1478160" cy="331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934920" y="1924200"/>
            <a:ext cx="1478160" cy="331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065400" y="340056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 conséquent, lors des calculs suivants nous utiliserons une val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3162600" y="3699000"/>
            <a:ext cx="56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 « pression fictive » appelée 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0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3.88889E-006 0.22778 E">
                                      <p:cBhvr>
                                        <p:cTn id="1992" dur="2000" fill="hold"/>
                                        <p:tgtEl>
                                          <p:spTgt spid="1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7" dur="3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1" dur="3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924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928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931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935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937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9" name=""/>
          <p:cNvSpPr/>
          <p:nvPr/>
        </p:nvSpPr>
        <p:spPr>
          <a:xfrm>
            <a:off x="930240" y="228132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954000" y="2265480"/>
            <a:ext cx="1446120" cy="996840"/>
            <a:chOff x="954000" y="2265480"/>
            <a:chExt cx="1446120" cy="996840"/>
          </a:xfrm>
        </p:grpSpPr>
        <p:sp>
          <p:nvSpPr>
            <p:cNvPr id="1941" name=""/>
            <p:cNvSpPr/>
            <p:nvPr/>
          </p:nvSpPr>
          <p:spPr>
            <a:xfrm>
              <a:off x="95400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6984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54584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334680" y="2238480"/>
            <a:ext cx="37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1,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1949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1955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7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1961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1964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7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1969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1972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1977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9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1986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00"/>
                            </p:stCondLst>
                            <p:childTnLst>
                              <p:par>
                                <p:cTn id="20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3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500"/>
                            </p:stCondLst>
                            <p:childTnLst>
                              <p:par>
                                <p:cTn id="2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3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3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3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7" dur="3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2" dur="3000"/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7" dur="30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4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2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3000"/>
                                        <p:tgtEl>
                                          <p:spTgt spid="1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03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65200" y="40766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oteur élect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L 0.25035 -0.09792 E">
                                      <p:cBhvr>
                                        <p:cTn id="21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63681 -0.01227 E">
                                      <p:cBhvr>
                                        <p:cTn id="2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995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7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999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2002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006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008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0" name=""/>
          <p:cNvSpPr/>
          <p:nvPr/>
        </p:nvSpPr>
        <p:spPr>
          <a:xfrm>
            <a:off x="930240" y="228132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954000" y="2265480"/>
            <a:ext cx="1446120" cy="996840"/>
            <a:chOff x="954000" y="2265480"/>
            <a:chExt cx="1446120" cy="996840"/>
          </a:xfrm>
        </p:grpSpPr>
        <p:sp>
          <p:nvSpPr>
            <p:cNvPr id="2012" name=""/>
            <p:cNvSpPr/>
            <p:nvPr/>
          </p:nvSpPr>
          <p:spPr>
            <a:xfrm>
              <a:off x="95400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6984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54584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355920" y="2238480"/>
            <a:ext cx="38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fr-FR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fr-FR" sz="1400" spc="-1" strike="noStrike">
                <a:solidFill>
                  <a:srgbClr val="ff6600"/>
                </a:solidFill>
                <a:latin typeface="Comic Sans MS"/>
              </a:rPr>
              <a:t>1,21</a:t>
            </a:r>
            <a:r>
              <a:rPr b="1" i="1" lang="fr-FR" sz="1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2020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5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2026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8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2032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2035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2040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2043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2048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4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2055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-59040" y="5362560"/>
            <a:ext cx="1604880" cy="768240"/>
            <a:chOff x="-59040" y="5362560"/>
            <a:chExt cx="1604880" cy="768240"/>
          </a:xfrm>
        </p:grpSpPr>
        <p:sp>
          <p:nvSpPr>
            <p:cNvPr id="2059" name=""/>
            <p:cNvSpPr/>
            <p:nvPr/>
          </p:nvSpPr>
          <p:spPr>
            <a:xfrm>
              <a:off x="-59040" y="5545080"/>
              <a:ext cx="8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piston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0" name=""/>
            <p:cNvGrpSpPr/>
            <p:nvPr/>
          </p:nvGrpSpPr>
          <p:grpSpPr>
            <a:xfrm>
              <a:off x="825480" y="5362560"/>
              <a:ext cx="720360" cy="768240"/>
              <a:chOff x="825480" y="5362560"/>
              <a:chExt cx="720360" cy="768240"/>
            </a:xfrm>
          </p:grpSpPr>
          <p:sp>
            <p:nvSpPr>
              <p:cNvPr id="2061" name=""/>
              <p:cNvSpPr/>
              <p:nvPr/>
            </p:nvSpPr>
            <p:spPr>
              <a:xfrm>
                <a:off x="825480" y="5362560"/>
                <a:ext cx="71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dp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873000" y="5729400"/>
                <a:ext cx="67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23400" y="5762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4" name=""/>
          <p:cNvGrpSpPr/>
          <p:nvPr/>
        </p:nvGrpSpPr>
        <p:grpSpPr>
          <a:xfrm>
            <a:off x="1562760" y="5362560"/>
            <a:ext cx="1290960" cy="757080"/>
            <a:chOff x="1562760" y="5362560"/>
            <a:chExt cx="1290960" cy="757080"/>
          </a:xfrm>
        </p:grpSpPr>
        <p:grpSp>
          <p:nvGrpSpPr>
            <p:cNvPr id="2065" name=""/>
            <p:cNvGrpSpPr/>
            <p:nvPr/>
          </p:nvGrpSpPr>
          <p:grpSpPr>
            <a:xfrm>
              <a:off x="1819440" y="5362560"/>
              <a:ext cx="1034280" cy="757080"/>
              <a:chOff x="1819440" y="5362560"/>
              <a:chExt cx="1034280" cy="757080"/>
            </a:xfrm>
          </p:grpSpPr>
          <p:sp>
            <p:nvSpPr>
              <p:cNvPr id="2066" name=""/>
              <p:cNvSpPr/>
              <p:nvPr/>
            </p:nvSpPr>
            <p:spPr>
              <a:xfrm>
                <a:off x="1819440" y="5362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,14.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83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850760" y="5729040"/>
                <a:ext cx="8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117160" y="5751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1562760" y="554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0" name=""/>
          <p:cNvSpPr/>
          <p:nvPr/>
        </p:nvSpPr>
        <p:spPr>
          <a:xfrm>
            <a:off x="2716200" y="5545080"/>
            <a:ext cx="14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540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4176720" y="5494320"/>
            <a:ext cx="3429720" cy="702360"/>
            <a:chOff x="4176720" y="5494320"/>
            <a:chExt cx="3429720" cy="702360"/>
          </a:xfrm>
        </p:grpSpPr>
        <p:sp>
          <p:nvSpPr>
            <p:cNvPr id="2072" name=""/>
            <p:cNvSpPr/>
            <p:nvPr/>
          </p:nvSpPr>
          <p:spPr>
            <a:xfrm>
              <a:off x="4176720" y="5635440"/>
              <a:ext cx="539640" cy="179640"/>
            </a:xfrm>
            <a:prstGeom prst="rightArrow">
              <a:avLst>
                <a:gd name="adj1" fmla="val 50000"/>
                <a:gd name="adj2" fmla="val 751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3" name=""/>
            <p:cNvGrpSpPr/>
            <p:nvPr/>
          </p:nvGrpSpPr>
          <p:grpSpPr>
            <a:xfrm>
              <a:off x="4710960" y="5516640"/>
              <a:ext cx="1508040" cy="680040"/>
              <a:chOff x="4710960" y="5516640"/>
              <a:chExt cx="1508040" cy="680040"/>
            </a:xfrm>
          </p:grpSpPr>
          <p:sp>
            <p:nvSpPr>
              <p:cNvPr id="2074" name=""/>
              <p:cNvSpPr/>
              <p:nvPr/>
            </p:nvSpPr>
            <p:spPr>
              <a:xfrm>
                <a:off x="4710960" y="5516640"/>
                <a:ext cx="15080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fr-FR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az/piston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989240" y="553716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6" name=""/>
            <p:cNvSpPr/>
            <p:nvPr/>
          </p:nvSpPr>
          <p:spPr>
            <a:xfrm>
              <a:off x="6258600" y="5494320"/>
              <a:ext cx="13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1,21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54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7711200" y="5464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53960" y="62247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1047600" y="6122880"/>
            <a:ext cx="3143520" cy="405720"/>
            <a:chOff x="1047600" y="6122880"/>
            <a:chExt cx="3143520" cy="405720"/>
          </a:xfrm>
        </p:grpSpPr>
        <p:sp>
          <p:nvSpPr>
            <p:cNvPr id="2081" name=""/>
            <p:cNvSpPr/>
            <p:nvPr/>
          </p:nvSpPr>
          <p:spPr>
            <a:xfrm>
              <a:off x="1047600" y="612288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935000" y="6143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43369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90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1657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 590,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1584360" y="2281320"/>
            <a:ext cx="732240" cy="749160"/>
            <a:chOff x="1584360" y="2281320"/>
            <a:chExt cx="732240" cy="749160"/>
          </a:xfrm>
        </p:grpSpPr>
        <p:sp>
          <p:nvSpPr>
            <p:cNvPr id="2086" name=""/>
            <p:cNvSpPr/>
            <p:nvPr/>
          </p:nvSpPr>
          <p:spPr>
            <a:xfrm>
              <a:off x="1584360" y="2281320"/>
              <a:ext cx="216000" cy="718920"/>
            </a:xfrm>
            <a:prstGeom prst="downArrow">
              <a:avLst>
                <a:gd name="adj1" fmla="val 50000"/>
                <a:gd name="adj2" fmla="val 83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1751760" y="2313000"/>
              <a:ext cx="564840" cy="717480"/>
              <a:chOff x="1751760" y="2313000"/>
              <a:chExt cx="564840" cy="717480"/>
            </a:xfrm>
          </p:grpSpPr>
          <p:sp>
            <p:nvSpPr>
              <p:cNvPr id="2088" name=""/>
              <p:cNvSpPr/>
              <p:nvPr/>
            </p:nvSpPr>
            <p:spPr>
              <a:xfrm>
                <a:off x="1751760" y="2313000"/>
                <a:ext cx="56484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/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874880" y="234000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0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5" dur="indefinite" restart="never" nodeType="tmRoot">
          <p:childTnLst>
            <p:seq>
              <p:cTn id="2116" dur="indefinite" nodeType="mainSeq">
                <p:childTnLst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3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3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1" dur="30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3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3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2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30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3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2097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2101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2104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10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11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2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340080" y="2238480"/>
            <a:ext cx="38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1,21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6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2117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2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2123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5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2129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2132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2137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2140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2145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2152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-59040" y="5362560"/>
            <a:ext cx="1604880" cy="768240"/>
            <a:chOff x="-59040" y="5362560"/>
            <a:chExt cx="1604880" cy="768240"/>
          </a:xfrm>
        </p:grpSpPr>
        <p:sp>
          <p:nvSpPr>
            <p:cNvPr id="2156" name=""/>
            <p:cNvSpPr/>
            <p:nvPr/>
          </p:nvSpPr>
          <p:spPr>
            <a:xfrm>
              <a:off x="-59040" y="5545080"/>
              <a:ext cx="8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piston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825480" y="5362560"/>
              <a:ext cx="720360" cy="768240"/>
              <a:chOff x="825480" y="5362560"/>
              <a:chExt cx="720360" cy="768240"/>
            </a:xfrm>
          </p:grpSpPr>
          <p:sp>
            <p:nvSpPr>
              <p:cNvPr id="2158" name=""/>
              <p:cNvSpPr/>
              <p:nvPr/>
            </p:nvSpPr>
            <p:spPr>
              <a:xfrm>
                <a:off x="825480" y="5362560"/>
                <a:ext cx="71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dp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873000" y="5729400"/>
                <a:ext cx="67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923400" y="5762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1" name=""/>
          <p:cNvGrpSpPr/>
          <p:nvPr/>
        </p:nvGrpSpPr>
        <p:grpSpPr>
          <a:xfrm>
            <a:off x="1562760" y="5362560"/>
            <a:ext cx="1290960" cy="757080"/>
            <a:chOff x="1562760" y="5362560"/>
            <a:chExt cx="1290960" cy="757080"/>
          </a:xfrm>
        </p:grpSpPr>
        <p:grpSp>
          <p:nvGrpSpPr>
            <p:cNvPr id="2162" name=""/>
            <p:cNvGrpSpPr/>
            <p:nvPr/>
          </p:nvGrpSpPr>
          <p:grpSpPr>
            <a:xfrm>
              <a:off x="1819440" y="5362560"/>
              <a:ext cx="1034280" cy="757080"/>
              <a:chOff x="1819440" y="5362560"/>
              <a:chExt cx="1034280" cy="757080"/>
            </a:xfrm>
          </p:grpSpPr>
          <p:sp>
            <p:nvSpPr>
              <p:cNvPr id="2163" name=""/>
              <p:cNvSpPr/>
              <p:nvPr/>
            </p:nvSpPr>
            <p:spPr>
              <a:xfrm>
                <a:off x="1819440" y="5362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,14.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83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50760" y="5729040"/>
                <a:ext cx="8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117160" y="5751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6" name=""/>
            <p:cNvSpPr/>
            <p:nvPr/>
          </p:nvSpPr>
          <p:spPr>
            <a:xfrm>
              <a:off x="1562760" y="554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7" name=""/>
          <p:cNvSpPr/>
          <p:nvPr/>
        </p:nvSpPr>
        <p:spPr>
          <a:xfrm>
            <a:off x="2716200" y="5545080"/>
            <a:ext cx="14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540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4176720" y="5494320"/>
            <a:ext cx="3429720" cy="702360"/>
            <a:chOff x="4176720" y="5494320"/>
            <a:chExt cx="3429720" cy="702360"/>
          </a:xfrm>
        </p:grpSpPr>
        <p:sp>
          <p:nvSpPr>
            <p:cNvPr id="2169" name=""/>
            <p:cNvSpPr/>
            <p:nvPr/>
          </p:nvSpPr>
          <p:spPr>
            <a:xfrm>
              <a:off x="4176720" y="5635440"/>
              <a:ext cx="539640" cy="179640"/>
            </a:xfrm>
            <a:prstGeom prst="rightArrow">
              <a:avLst>
                <a:gd name="adj1" fmla="val 50000"/>
                <a:gd name="adj2" fmla="val 751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"/>
            <p:cNvGrpSpPr/>
            <p:nvPr/>
          </p:nvGrpSpPr>
          <p:grpSpPr>
            <a:xfrm>
              <a:off x="4710960" y="5516640"/>
              <a:ext cx="1508040" cy="680040"/>
              <a:chOff x="4710960" y="5516640"/>
              <a:chExt cx="1508040" cy="680040"/>
            </a:xfrm>
          </p:grpSpPr>
          <p:sp>
            <p:nvSpPr>
              <p:cNvPr id="2171" name=""/>
              <p:cNvSpPr/>
              <p:nvPr/>
            </p:nvSpPr>
            <p:spPr>
              <a:xfrm>
                <a:off x="4710960" y="5516640"/>
                <a:ext cx="15080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fr-FR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az/piston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89240" y="553716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3" name=""/>
            <p:cNvSpPr/>
            <p:nvPr/>
          </p:nvSpPr>
          <p:spPr>
            <a:xfrm>
              <a:off x="6258600" y="5494320"/>
              <a:ext cx="13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1,21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54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7711200" y="5464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53960" y="62247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1047600" y="6122880"/>
            <a:ext cx="3143520" cy="405720"/>
            <a:chOff x="1047600" y="6122880"/>
            <a:chExt cx="3143520" cy="405720"/>
          </a:xfrm>
        </p:grpSpPr>
        <p:sp>
          <p:nvSpPr>
            <p:cNvPr id="2178" name=""/>
            <p:cNvSpPr/>
            <p:nvPr/>
          </p:nvSpPr>
          <p:spPr>
            <a:xfrm>
              <a:off x="1047600" y="612288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935000" y="6143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0" name=""/>
          <p:cNvSpPr/>
          <p:nvPr/>
        </p:nvSpPr>
        <p:spPr>
          <a:xfrm>
            <a:off x="43369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90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1657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 590,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2183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2185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1584360" y="2281320"/>
              <a:ext cx="732240" cy="749160"/>
              <a:chOff x="1584360" y="2281320"/>
              <a:chExt cx="732240" cy="749160"/>
            </a:xfrm>
          </p:grpSpPr>
          <p:sp>
            <p:nvSpPr>
              <p:cNvPr id="2189" name=""/>
              <p:cNvSpPr/>
              <p:nvPr/>
            </p:nvSpPr>
            <p:spPr>
              <a:xfrm>
                <a:off x="1584360" y="2281320"/>
                <a:ext cx="216000" cy="718920"/>
              </a:xfrm>
              <a:prstGeom prst="downArrow">
                <a:avLst>
                  <a:gd name="adj1" fmla="val 50000"/>
                  <a:gd name="adj2" fmla="val 83208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1751760" y="2313000"/>
                <a:ext cx="564840" cy="717480"/>
                <a:chOff x="1751760" y="2313000"/>
                <a:chExt cx="564840" cy="71748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1751760" y="2313000"/>
                  <a:ext cx="56484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0" lang="en-US" sz="1800" spc="-1" strike="noStrike" baseline="-25000">
                      <a:solidFill>
                        <a:srgbClr val="0000ff"/>
                      </a:solidFill>
                      <a:latin typeface="Comic Sans MS"/>
                    </a:rPr>
                    <a:t>g/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1874880" y="2340000"/>
                  <a:ext cx="20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93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06358E-006 L 3.88889E-006 0.2296 E">
                                      <p:cBhvr>
                                        <p:cTn id="2172" dur="2000" fill="hold"/>
                                        <p:tgtEl>
                                          <p:spTgt spid="2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2198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0" name=""/>
          <p:cNvGrpSpPr/>
          <p:nvPr/>
        </p:nvGrpSpPr>
        <p:grpSpPr>
          <a:xfrm>
            <a:off x="3090960" y="1341360"/>
            <a:ext cx="5130000" cy="307080"/>
            <a:chOff x="3090960" y="1341360"/>
            <a:chExt cx="5130000" cy="307080"/>
          </a:xfrm>
        </p:grpSpPr>
        <p:sp>
          <p:nvSpPr>
            <p:cNvPr id="2201" name=""/>
            <p:cNvSpPr/>
            <p:nvPr/>
          </p:nvSpPr>
          <p:spPr>
            <a:xfrm>
              <a:off x="3090960" y="1341360"/>
              <a:ext cx="29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Comic Sans MS"/>
                </a:rPr>
                <a:t>Puissanc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fournie par le pis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803200" y="1341360"/>
              <a:ext cx="143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ntre l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086240" y="134136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 l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2205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8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09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11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3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343680" y="2238480"/>
            <a:ext cx="33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Travail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ffectué par le piston: W =</a:t>
            </a: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590,3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57640" y="2513160"/>
            <a:ext cx="39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6600"/>
                </a:solidFill>
                <a:latin typeface="Comic Sans MS"/>
              </a:rPr>
              <a:t>temps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is par le piston entre le 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PM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t le 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PMB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2219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0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2221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4" name=""/>
            <p:cNvGrpSpPr/>
            <p:nvPr/>
          </p:nvGrpSpPr>
          <p:grpSpPr>
            <a:xfrm>
              <a:off x="1584360" y="2281320"/>
              <a:ext cx="732240" cy="749160"/>
              <a:chOff x="1584360" y="2281320"/>
              <a:chExt cx="732240" cy="749160"/>
            </a:xfrm>
          </p:grpSpPr>
          <p:sp>
            <p:nvSpPr>
              <p:cNvPr id="2225" name=""/>
              <p:cNvSpPr/>
              <p:nvPr/>
            </p:nvSpPr>
            <p:spPr>
              <a:xfrm>
                <a:off x="1584360" y="2281320"/>
                <a:ext cx="216000" cy="718920"/>
              </a:xfrm>
              <a:prstGeom prst="downArrow">
                <a:avLst>
                  <a:gd name="adj1" fmla="val 50000"/>
                  <a:gd name="adj2" fmla="val 83208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6" name=""/>
              <p:cNvGrpSpPr/>
              <p:nvPr/>
            </p:nvGrpSpPr>
            <p:grpSpPr>
              <a:xfrm>
                <a:off x="1751760" y="2313000"/>
                <a:ext cx="564840" cy="717480"/>
                <a:chOff x="1751760" y="2313000"/>
                <a:chExt cx="564840" cy="71748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1751760" y="2313000"/>
                  <a:ext cx="56484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0" lang="en-US" sz="1800" spc="-1" strike="noStrike" baseline="-25000">
                      <a:solidFill>
                        <a:srgbClr val="0000ff"/>
                      </a:solidFill>
                      <a:latin typeface="Comic Sans MS"/>
                    </a:rPr>
                    <a:t>g/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1874880" y="2340000"/>
                  <a:ext cx="20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9" name=""/>
          <p:cNvSpPr/>
          <p:nvPr/>
        </p:nvSpPr>
        <p:spPr>
          <a:xfrm>
            <a:off x="24120" y="22068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t=</a:t>
            </a:r>
            <a:r>
              <a:rPr b="1" lang="en-US" sz="1400" spc="-1" strike="noStrike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-720" y="3807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t=</a:t>
            </a:r>
            <a:r>
              <a:rPr b="1" lang="en-US" sz="1400" spc="-1" strike="noStrike">
                <a:solidFill>
                  <a:srgbClr val="cc6600"/>
                </a:solidFill>
                <a:latin typeface="Comic Sans MS"/>
              </a:rPr>
              <a:t>0,008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7255080" y="24922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6600"/>
                </a:solidFill>
                <a:latin typeface="Comic Sans MS"/>
              </a:rPr>
              <a:t>t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i="1" lang="en-US" sz="1400" spc="-1" strike="noStrike">
                <a:solidFill>
                  <a:srgbClr val="cc6600"/>
                </a:solidFill>
                <a:latin typeface="Comic Sans MS"/>
              </a:rPr>
              <a:t>0,008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2" name=""/>
          <p:cNvGrpSpPr/>
          <p:nvPr/>
        </p:nvGrpSpPr>
        <p:grpSpPr>
          <a:xfrm>
            <a:off x="3629520" y="3249720"/>
            <a:ext cx="1843920" cy="1140480"/>
            <a:chOff x="3629520" y="3249720"/>
            <a:chExt cx="1843920" cy="1140480"/>
          </a:xfrm>
        </p:grpSpPr>
        <p:grpSp>
          <p:nvGrpSpPr>
            <p:cNvPr id="2233" name=""/>
            <p:cNvGrpSpPr/>
            <p:nvPr/>
          </p:nvGrpSpPr>
          <p:grpSpPr>
            <a:xfrm>
              <a:off x="3746880" y="3249720"/>
              <a:ext cx="1726560" cy="1131480"/>
              <a:chOff x="3746880" y="3249720"/>
              <a:chExt cx="1726560" cy="1131480"/>
            </a:xfrm>
          </p:grpSpPr>
          <p:sp>
            <p:nvSpPr>
              <p:cNvPr id="2234" name=""/>
              <p:cNvSpPr/>
              <p:nvPr/>
            </p:nvSpPr>
            <p:spPr>
              <a:xfrm>
                <a:off x="3746880" y="3537000"/>
                <a:ext cx="5770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Comic Sans MS"/>
                  </a:rPr>
                  <a:t>P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365720" y="3249720"/>
                <a:ext cx="6030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383000" y="382428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483080" y="3860640"/>
                <a:ext cx="4140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33"/>
                    </a:solidFill>
                    <a:latin typeface="Comic Sans MS"/>
                  </a:rPr>
                  <a:t> </a:t>
                </a:r>
                <a:r>
                  <a:rPr b="1" lang="en-US" sz="2800" spc="-1" strike="noStrike">
                    <a:solidFill>
                      <a:srgbClr val="996633"/>
                    </a:solidFill>
                    <a:latin typeface="Comic Sans MS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022720" y="327816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J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963680" y="3873600"/>
                <a:ext cx="50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0" name=""/>
            <p:cNvSpPr/>
            <p:nvPr/>
          </p:nvSpPr>
          <p:spPr>
            <a:xfrm>
              <a:off x="3629520" y="393048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5706720" y="35863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289200" y="3394080"/>
            <a:ext cx="75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59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326280" y="38242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6278760" y="3933720"/>
            <a:ext cx="75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Comic Sans MS"/>
              </a:rPr>
              <a:t>0,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7230600" y="3586320"/>
            <a:ext cx="1403640" cy="459720"/>
            <a:chOff x="7230600" y="3586320"/>
            <a:chExt cx="1403640" cy="459720"/>
          </a:xfrm>
        </p:grpSpPr>
        <p:sp>
          <p:nvSpPr>
            <p:cNvPr id="2246" name=""/>
            <p:cNvSpPr/>
            <p:nvPr/>
          </p:nvSpPr>
          <p:spPr>
            <a:xfrm>
              <a:off x="7230600" y="35863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578720" y="3635280"/>
              <a:ext cx="1055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73790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8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30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3" dur="3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0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7" dur="30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30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7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06358E-006 L 3.88889E-006 0.2296 E">
                                      <p:cBhvr>
                                        <p:cTn id="2211" dur="2000" fill="hold"/>
                                        <p:tgtEl>
                                          <p:spTgt spid="2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5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9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30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9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20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4" dur="20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9" dur="20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086280" y="1341360"/>
            <a:ext cx="395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Puissanc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induite ,en bout  de vilebrequ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54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5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8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241800" y="2238480"/>
            <a:ext cx="368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uissance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ournie par le piston</a:t>
            </a: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: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 = </a:t>
            </a:r>
            <a:r>
              <a:rPr b="1" i="1" lang="en-US" sz="1400" spc="-1" strike="noStrike">
                <a:solidFill>
                  <a:srgbClr val="ff0066"/>
                </a:solidFill>
                <a:latin typeface="Comic Sans MS"/>
              </a:rPr>
              <a:t>73790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930240" y="292896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954000" y="2913120"/>
            <a:ext cx="1446120" cy="996840"/>
            <a:chOff x="954000" y="2913120"/>
            <a:chExt cx="1446120" cy="996840"/>
          </a:xfrm>
        </p:grpSpPr>
        <p:sp>
          <p:nvSpPr>
            <p:cNvPr id="2264" name=""/>
            <p:cNvSpPr/>
            <p:nvPr/>
          </p:nvSpPr>
          <p:spPr>
            <a:xfrm>
              <a:off x="954000" y="291312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969840" y="350028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45840" y="335916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1513080" y="5277240"/>
            <a:ext cx="1085040" cy="583560"/>
            <a:chOff x="1513080" y="5277240"/>
            <a:chExt cx="1085040" cy="583560"/>
          </a:xfrm>
        </p:grpSpPr>
        <p:sp>
          <p:nvSpPr>
            <p:cNvPr id="2268" name=""/>
            <p:cNvSpPr/>
            <p:nvPr/>
          </p:nvSpPr>
          <p:spPr>
            <a:xfrm rot="4335000">
              <a:off x="2286360" y="531252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1802880" y="5491080"/>
              <a:ext cx="4957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 rot="4335000">
              <a:off x="1548360" y="554904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1502640" y="3319200"/>
            <a:ext cx="1103400" cy="2316240"/>
            <a:chOff x="1502640" y="3319200"/>
            <a:chExt cx="1103400" cy="2316240"/>
          </a:xfrm>
        </p:grpSpPr>
        <p:sp>
          <p:nvSpPr>
            <p:cNvPr id="2272" name=""/>
            <p:cNvSpPr/>
            <p:nvPr/>
          </p:nvSpPr>
          <p:spPr>
            <a:xfrm rot="20348400">
              <a:off x="1542600" y="335916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33760" y="3640680"/>
              <a:ext cx="648360" cy="17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 rot="20348400">
              <a:off x="2289600" y="531900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1170000" y="5533920"/>
            <a:ext cx="379080" cy="395280"/>
            <a:chOff x="1170000" y="5533920"/>
            <a:chExt cx="379080" cy="395280"/>
          </a:xfrm>
        </p:grpSpPr>
        <p:sp>
          <p:nvSpPr>
            <p:cNvPr id="2276" name=""/>
            <p:cNvSpPr/>
            <p:nvPr/>
          </p:nvSpPr>
          <p:spPr>
            <a:xfrm flipH="1">
              <a:off x="1345680" y="571500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7" name=""/>
            <p:cNvGrpSpPr/>
            <p:nvPr/>
          </p:nvGrpSpPr>
          <p:grpSpPr>
            <a:xfrm>
              <a:off x="1170000" y="5533920"/>
              <a:ext cx="172800" cy="395280"/>
              <a:chOff x="1170000" y="5533920"/>
              <a:chExt cx="172800" cy="395280"/>
            </a:xfrm>
          </p:grpSpPr>
          <p:sp>
            <p:nvSpPr>
              <p:cNvPr id="2278" name=""/>
              <p:cNvSpPr/>
              <p:nvPr/>
            </p:nvSpPr>
            <p:spPr>
              <a:xfrm>
                <a:off x="1342800" y="553572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170000" y="5533920"/>
                <a:ext cx="166680" cy="38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0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82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3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84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6" name=""/>
          <p:cNvSpPr/>
          <p:nvPr/>
        </p:nvSpPr>
        <p:spPr>
          <a:xfrm>
            <a:off x="3086640" y="3306600"/>
            <a:ext cx="55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négligeant les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tes d’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lors de la transmission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011760" y="3621240"/>
            <a:ext cx="58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puissanc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du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st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ilebrequi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ar l’intermédiaire de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iel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3069000" y="3948120"/>
            <a:ext cx="566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 puissance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u vilebrequin  (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puissance moteu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) sera égale à c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3672000" y="4927680"/>
            <a:ext cx="900000" cy="252360"/>
          </a:xfrm>
          <a:prstGeom prst="rightArrow">
            <a:avLst>
              <a:gd name="adj1" fmla="val 50000"/>
              <a:gd name="adj2" fmla="val 891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4737960" y="48322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P. Mote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7379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3128400" y="42577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urnie par le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0" dur="indefinite" restart="never" nodeType="tmRoot">
          <p:childTnLst>
            <p:seq>
              <p:cTn id="2251" dur="indefinite" nodeType="mainSeq">
                <p:childTnLst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30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30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7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3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9" dur="3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3" dur="3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3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3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3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3117960" y="1341360"/>
            <a:ext cx="25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Couple moteur maxi ( CM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9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30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2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225600" y="223848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uissance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oteur au couple maxi :</a:t>
            </a: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 M= </a:t>
            </a:r>
            <a:r>
              <a:rPr b="1" i="1" lang="en-US" sz="1400" spc="-1" strike="noStrike">
                <a:solidFill>
                  <a:srgbClr val="ff0066"/>
                </a:solidFill>
                <a:latin typeface="Comic Sans MS"/>
              </a:rPr>
              <a:t>73790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930240" y="292896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"/>
          <p:cNvGrpSpPr/>
          <p:nvPr/>
        </p:nvGrpSpPr>
        <p:grpSpPr>
          <a:xfrm>
            <a:off x="954000" y="2913120"/>
            <a:ext cx="1446120" cy="996840"/>
            <a:chOff x="954000" y="2913120"/>
            <a:chExt cx="1446120" cy="996840"/>
          </a:xfrm>
        </p:grpSpPr>
        <p:sp>
          <p:nvSpPr>
            <p:cNvPr id="2308" name=""/>
            <p:cNvSpPr/>
            <p:nvPr/>
          </p:nvSpPr>
          <p:spPr>
            <a:xfrm>
              <a:off x="954000" y="291312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69840" y="350028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545840" y="335916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513080" y="5277240"/>
            <a:ext cx="1085040" cy="583560"/>
            <a:chOff x="1513080" y="5277240"/>
            <a:chExt cx="1085040" cy="583560"/>
          </a:xfrm>
        </p:grpSpPr>
        <p:sp>
          <p:nvSpPr>
            <p:cNvPr id="2312" name=""/>
            <p:cNvSpPr/>
            <p:nvPr/>
          </p:nvSpPr>
          <p:spPr>
            <a:xfrm rot="4335000">
              <a:off x="2286360" y="531252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1802880" y="5491080"/>
              <a:ext cx="4957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4335000">
              <a:off x="1548360" y="554904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"/>
          <p:cNvGrpSpPr/>
          <p:nvPr/>
        </p:nvGrpSpPr>
        <p:grpSpPr>
          <a:xfrm>
            <a:off x="1502640" y="3319200"/>
            <a:ext cx="1103400" cy="2316240"/>
            <a:chOff x="1502640" y="3319200"/>
            <a:chExt cx="1103400" cy="2316240"/>
          </a:xfrm>
        </p:grpSpPr>
        <p:sp>
          <p:nvSpPr>
            <p:cNvPr id="2316" name=""/>
            <p:cNvSpPr/>
            <p:nvPr/>
          </p:nvSpPr>
          <p:spPr>
            <a:xfrm rot="20348400">
              <a:off x="1542600" y="335916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733760" y="3640680"/>
              <a:ext cx="648360" cy="17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20348400">
              <a:off x="2289600" y="531900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1170000" y="5533920"/>
            <a:ext cx="379080" cy="395280"/>
            <a:chOff x="1170000" y="5533920"/>
            <a:chExt cx="379080" cy="395280"/>
          </a:xfrm>
        </p:grpSpPr>
        <p:sp>
          <p:nvSpPr>
            <p:cNvPr id="2320" name=""/>
            <p:cNvSpPr/>
            <p:nvPr/>
          </p:nvSpPr>
          <p:spPr>
            <a:xfrm flipH="1">
              <a:off x="1345680" y="571500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1170000" y="5533920"/>
              <a:ext cx="172800" cy="395280"/>
              <a:chOff x="1170000" y="5533920"/>
              <a:chExt cx="172800" cy="395280"/>
            </a:xfrm>
          </p:grpSpPr>
          <p:sp>
            <p:nvSpPr>
              <p:cNvPr id="2322" name=""/>
              <p:cNvSpPr/>
              <p:nvPr/>
            </p:nvSpPr>
            <p:spPr>
              <a:xfrm>
                <a:off x="1342800" y="553572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70000" y="5533920"/>
                <a:ext cx="166680" cy="38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4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326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7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328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0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916600" y="3162240"/>
            <a:ext cx="360360" cy="250920"/>
          </a:xfrm>
          <a:prstGeom prst="rightArrow">
            <a:avLst>
              <a:gd name="adj1" fmla="val 50000"/>
              <a:gd name="adj2" fmla="val 359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201480" y="2525760"/>
            <a:ext cx="42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Vitesse moteur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au couple maxi: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= 3750 tr.min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3222000" y="2997360"/>
            <a:ext cx="1967400" cy="469080"/>
            <a:chOff x="3222000" y="2997360"/>
            <a:chExt cx="1967400" cy="469080"/>
          </a:xfrm>
        </p:grpSpPr>
        <p:sp>
          <p:nvSpPr>
            <p:cNvPr id="2334" name=""/>
            <p:cNvSpPr/>
            <p:nvPr/>
          </p:nvSpPr>
          <p:spPr>
            <a:xfrm>
              <a:off x="3222000" y="2997360"/>
              <a:ext cx="372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687480" y="300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361040" y="299736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 . </a:t>
              </a:r>
              <a:r>
                <a:rPr b="1" lang="en-US" sz="2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3109320" y="3249720"/>
            <a:ext cx="2827440" cy="461160"/>
            <a:chOff x="3109320" y="3249720"/>
            <a:chExt cx="2827440" cy="461160"/>
          </a:xfrm>
        </p:grpSpPr>
        <p:sp>
          <p:nvSpPr>
            <p:cNvPr id="2338" name=""/>
            <p:cNvSpPr/>
            <p:nvPr/>
          </p:nvSpPr>
          <p:spPr>
            <a:xfrm>
              <a:off x="3109320" y="33256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958920" y="32511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827960" y="324972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.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6386760" y="3044880"/>
            <a:ext cx="2206080" cy="459720"/>
            <a:chOff x="6386760" y="3044880"/>
            <a:chExt cx="2206080" cy="459720"/>
          </a:xfrm>
        </p:grpSpPr>
        <p:sp>
          <p:nvSpPr>
            <p:cNvPr id="2342" name=""/>
            <p:cNvSpPr/>
            <p:nvPr/>
          </p:nvSpPr>
          <p:spPr>
            <a:xfrm>
              <a:off x="6386760" y="3106800"/>
              <a:ext cx="53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880680" y="304488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494480" y="3106800"/>
              <a:ext cx="10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CM . </a:t>
              </a:r>
              <a:r>
                <a:rPr b="1" lang="fr-F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fr-FR" sz="1800" spc="-1" strike="noStrike">
                  <a:solidFill>
                    <a:srgbClr val="ff66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5" name=""/>
          <p:cNvSpPr/>
          <p:nvPr/>
        </p:nvSpPr>
        <p:spPr>
          <a:xfrm rot="5400000">
            <a:off x="7174080" y="3706920"/>
            <a:ext cx="374400" cy="250560"/>
          </a:xfrm>
          <a:prstGeom prst="rightArrow">
            <a:avLst>
              <a:gd name="adj1" fmla="val 50000"/>
              <a:gd name="adj2" fmla="val 373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6" name=""/>
          <p:cNvGrpSpPr/>
          <p:nvPr/>
        </p:nvGrpSpPr>
        <p:grpSpPr>
          <a:xfrm>
            <a:off x="6580800" y="4041720"/>
            <a:ext cx="1697760" cy="806400"/>
            <a:chOff x="6580800" y="4041720"/>
            <a:chExt cx="1697760" cy="806400"/>
          </a:xfrm>
        </p:grpSpPr>
        <p:sp>
          <p:nvSpPr>
            <p:cNvPr id="2347" name=""/>
            <p:cNvSpPr/>
            <p:nvPr/>
          </p:nvSpPr>
          <p:spPr>
            <a:xfrm>
              <a:off x="6580800" y="4260960"/>
              <a:ext cx="54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66440" y="419904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634160" y="447984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fr-FR" sz="1800" spc="-1" strike="noStrike">
                  <a:solidFill>
                    <a:srgbClr val="ff66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650360" y="404172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651440" y="443700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2" name=""/>
          <p:cNvSpPr/>
          <p:nvPr/>
        </p:nvSpPr>
        <p:spPr>
          <a:xfrm rot="5400000">
            <a:off x="7678440" y="4930560"/>
            <a:ext cx="374400" cy="250920"/>
          </a:xfrm>
          <a:prstGeom prst="rightArrow">
            <a:avLst>
              <a:gd name="adj1" fmla="val 50000"/>
              <a:gd name="adj2" fmla="val 373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"/>
          <p:cNvGrpSpPr/>
          <p:nvPr/>
        </p:nvGrpSpPr>
        <p:grpSpPr>
          <a:xfrm>
            <a:off x="7449120" y="5300640"/>
            <a:ext cx="892440" cy="806400"/>
            <a:chOff x="7449120" y="5300640"/>
            <a:chExt cx="892440" cy="806400"/>
          </a:xfrm>
        </p:grpSpPr>
        <p:sp>
          <p:nvSpPr>
            <p:cNvPr id="2354" name=""/>
            <p:cNvSpPr/>
            <p:nvPr/>
          </p:nvSpPr>
          <p:spPr>
            <a:xfrm>
              <a:off x="7711920" y="5738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449120" y="530064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615080" y="569592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4965480" y="5373720"/>
            <a:ext cx="1649880" cy="731880"/>
            <a:chOff x="4965480" y="5373720"/>
            <a:chExt cx="1649880" cy="731880"/>
          </a:xfrm>
        </p:grpSpPr>
        <p:sp>
          <p:nvSpPr>
            <p:cNvPr id="2358" name=""/>
            <p:cNvSpPr/>
            <p:nvPr/>
          </p:nvSpPr>
          <p:spPr>
            <a:xfrm>
              <a:off x="5689800" y="5737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965480" y="537372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. 3,14 . 37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219640" y="5734080"/>
              <a:ext cx="11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 rot="10800000">
            <a:off x="6708240" y="5544720"/>
            <a:ext cx="374760" cy="250920"/>
          </a:xfrm>
          <a:prstGeom prst="rightArrow">
            <a:avLst>
              <a:gd name="adj1" fmla="val 50000"/>
              <a:gd name="adj2" fmla="val 373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5420880" y="45086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39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rot="16200000">
            <a:off x="5618160" y="5079600"/>
            <a:ext cx="374760" cy="250920"/>
          </a:xfrm>
          <a:prstGeom prst="rightArrow">
            <a:avLst>
              <a:gd name="adj1" fmla="val 50000"/>
              <a:gd name="adj2" fmla="val 373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6357600" y="428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472000" y="4476600"/>
            <a:ext cx="273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472000" y="44737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24120" y="40719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737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4814640" y="428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3831120" y="42642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8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027440" y="5132520"/>
            <a:ext cx="1224720" cy="15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692640" y="47689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8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30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2" dur="30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9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3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30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3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20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6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3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6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3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1" dur="3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6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1" dur="30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6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20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6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1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20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1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6" dur="2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1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2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27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44680" y="407664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oteur ther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26771 -0.05764 E">
                                      <p:cBhvr>
                                        <p:cTn id="23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64514 -0.01666 E">
                                      <p:cBhvr>
                                        <p:cTn id="23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52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9600" y="407664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terna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25278 -0.01481 E">
                                      <p:cBhvr>
                                        <p:cTn id="24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185E-006 L 0.63784 -0.10509 E">
                                      <p:cBhvr>
                                        <p:cTn id="25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98560" y="6148440"/>
            <a:ext cx="8094600" cy="257040"/>
            <a:chOff x="898560" y="6148440"/>
            <a:chExt cx="8094600" cy="257040"/>
          </a:xfrm>
        </p:grpSpPr>
        <p:sp>
          <p:nvSpPr>
            <p:cNvPr id="172" name=""/>
            <p:cNvSpPr/>
            <p:nvPr/>
          </p:nvSpPr>
          <p:spPr>
            <a:xfrm>
              <a:off x="898560" y="6153120"/>
              <a:ext cx="806616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175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27720" y="5281560"/>
            <a:ext cx="662040" cy="863640"/>
            <a:chOff x="6327720" y="5281560"/>
            <a:chExt cx="662040" cy="863640"/>
          </a:xfrm>
        </p:grpSpPr>
        <p:sp>
          <p:nvSpPr>
            <p:cNvPr id="179" name=""/>
            <p:cNvSpPr/>
            <p:nvPr/>
          </p:nvSpPr>
          <p:spPr>
            <a:xfrm>
              <a:off x="66564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673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77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2748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2.22222E-006 L 0.55782 2.22222E-006 E">
                                      <p:cBhvr>
                                        <p:cTn id="298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191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194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198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8120" y="5800680"/>
            <a:ext cx="782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98760" y="5013360"/>
            <a:ext cx="2146320" cy="1135080"/>
            <a:chOff x="1598760" y="5013360"/>
            <a:chExt cx="2146320" cy="1135080"/>
          </a:xfrm>
        </p:grpSpPr>
        <p:sp>
          <p:nvSpPr>
            <p:cNvPr id="204" name=""/>
            <p:cNvSpPr/>
            <p:nvPr/>
          </p:nvSpPr>
          <p:spPr>
            <a:xfrm>
              <a:off x="2274840" y="570384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8760" y="5808600"/>
              <a:ext cx="771480" cy="333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98760" y="597060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0240" y="585936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69"/>
                  </a:moveTo>
                  <a:cubicBezTo>
                    <a:pt x="3" y="29"/>
                    <a:pt x="5" y="39"/>
                    <a:pt x="17" y="10"/>
                  </a:cubicBezTo>
                  <a:cubicBezTo>
                    <a:pt x="18" y="1"/>
                    <a:pt x="20" y="1"/>
                    <a:pt x="29" y="0"/>
                  </a:cubicBezTo>
                  <a:cubicBezTo>
                    <a:pt x="35" y="8"/>
                    <a:pt x="31" y="18"/>
                    <a:pt x="27" y="27"/>
                  </a:cubicBezTo>
                  <a:cubicBezTo>
                    <a:pt x="25" y="38"/>
                    <a:pt x="11" y="39"/>
                    <a:pt x="6" y="51"/>
                  </a:cubicBezTo>
                  <a:cubicBezTo>
                    <a:pt x="5" y="58"/>
                    <a:pt x="6" y="65"/>
                    <a:pt x="0" y="6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70240" y="595620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0" y="11"/>
                  </a:moveTo>
                  <a:cubicBezTo>
                    <a:pt x="9" y="7"/>
                    <a:pt x="17" y="4"/>
                    <a:pt x="26" y="0"/>
                  </a:cubicBezTo>
                  <a:cubicBezTo>
                    <a:pt x="35" y="2"/>
                    <a:pt x="40" y="0"/>
                    <a:pt x="42" y="9"/>
                  </a:cubicBezTo>
                  <a:cubicBezTo>
                    <a:pt x="41" y="27"/>
                    <a:pt x="45" y="48"/>
                    <a:pt x="23" y="32"/>
                  </a:cubicBezTo>
                  <a:cubicBezTo>
                    <a:pt x="20" y="27"/>
                    <a:pt x="7" y="4"/>
                    <a:pt x="0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374920" y="5553000"/>
              <a:ext cx="82872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2771640" y="5013360"/>
              <a:ext cx="97344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55694 2.59259E-006 E">
                                      <p:cBhvr>
                                        <p:cTn id="311" dur="5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7:49:43Z</dcterms:created>
  <dc:creator>GENERIQUE</dc:creator>
  <dc:description/>
  <dc:language>en-US</dc:language>
  <cp:lastModifiedBy>GENERIQUE</cp:lastModifiedBy>
  <dcterms:modified xsi:type="dcterms:W3CDTF">2010-05-04T14:31:57Z</dcterms:modified>
  <cp:revision>343</cp:revision>
  <dc:subject/>
  <dc:title>Diapositive 1</dc:title>
</cp:coreProperties>
</file>