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24D-004B-4E36-842A-3B7B3A2E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91D-56F3-431A-A692-7E86E722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51A-66F0-467C-863D-69F2AFB9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685-C843-4ED6-86B0-390A930A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C62-C3E3-49E3-A6B1-C934B717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FF0-40F4-42DF-ABDA-3E00CEE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2C9-574D-4C78-BF67-AE50C6CF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DCC-D46A-456C-A898-547B7F4F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38F-DB0E-4333-BE73-0A28BAC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E92-72F4-4CE0-923E-C276CF6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A45-2A49-4E60-BC32-28E2E5F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700-22D7-4B2F-9D1F-0D3E7EA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8C83-8E00-42C3-87DB-D3AF22AA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40.xml"/><Relationship Id="rId5" Type="http://schemas.openxmlformats.org/officeDocument/2006/relationships/slide" Target="slide8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" Target="slide39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fr.wikipedia.org/wiki/Unit&#233;_d&#233;riv&#233;e_du_syst&#232;me_international" TargetMode="External"/><Relationship Id="rId3" Type="http://schemas.openxmlformats.org/officeDocument/2006/relationships/hyperlink" Target="http://fr.wikipedia.org/wiki/Puissance_(physique)" TargetMode="External"/><Relationship Id="rId4" Type="http://schemas.openxmlformats.org/officeDocument/2006/relationships/hyperlink" Target="http://fr.wikipedia.org/wiki/James_Watt" TargetMode="External"/><Relationship Id="rId5" Type="http://schemas.openxmlformats.org/officeDocument/2006/relationships/hyperlink" Target="http://fr.wikipedia.org/wiki/&#201;nergie" TargetMode="External"/><Relationship Id="rId6" Type="http://schemas.openxmlformats.org/officeDocument/2006/relationships/hyperlink" Target="http://fr.wikipedia.org/wiki/Joule_(unit&#233;)" TargetMode="External"/><Relationship Id="rId7" Type="http://schemas.openxmlformats.org/officeDocument/2006/relationships/hyperlink" Target="http://fr.wikipedia.org/wiki/Seconde_(temps)" TargetMode="External"/><Relationship Id="rId8" Type="http://schemas.openxmlformats.org/officeDocument/2006/relationships/hyperlink" Target="http://fr.wikipedia.org/wiki/Machine_&#224;_vapeur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CANIQUE APPLIQU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880" y="342900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ETIQU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1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2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2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9880" y="58086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3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4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4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98760" y="5029200"/>
            <a:ext cx="2293920" cy="1128240"/>
            <a:chOff x="1598760" y="5029200"/>
            <a:chExt cx="2293920" cy="1128240"/>
          </a:xfrm>
        </p:grpSpPr>
        <p:sp>
          <p:nvSpPr>
            <p:cNvPr id="250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598760" y="5808600"/>
              <a:ext cx="842760" cy="333360"/>
              <a:chOff x="1598760" y="5808600"/>
              <a:chExt cx="842760" cy="33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8760" y="5808600"/>
                <a:ext cx="771480" cy="333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597060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0240" y="5859360"/>
                <a:ext cx="55440" cy="1098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69"/>
                    </a:moveTo>
                    <a:cubicBezTo>
                      <a:pt x="3" y="29"/>
                      <a:pt x="5" y="39"/>
                      <a:pt x="17" y="10"/>
                    </a:cubicBezTo>
                    <a:cubicBezTo>
                      <a:pt x="18" y="1"/>
                      <a:pt x="20" y="1"/>
                      <a:pt x="29" y="0"/>
                    </a:cubicBezTo>
                    <a:cubicBezTo>
                      <a:pt x="35" y="8"/>
                      <a:pt x="31" y="18"/>
                      <a:pt x="27" y="27"/>
                    </a:cubicBezTo>
                    <a:cubicBezTo>
                      <a:pt x="25" y="38"/>
                      <a:pt x="11" y="39"/>
                      <a:pt x="6" y="51"/>
                    </a:cubicBezTo>
                    <a:cubicBezTo>
                      <a:pt x="5" y="58"/>
                      <a:pt x="6" y="65"/>
                      <a:pt x="0" y="69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70240" y="59562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11"/>
                    </a:moveTo>
                    <a:cubicBezTo>
                      <a:pt x="9" y="7"/>
                      <a:pt x="17" y="4"/>
                      <a:pt x="26" y="0"/>
                    </a:cubicBezTo>
                    <a:cubicBezTo>
                      <a:pt x="35" y="2"/>
                      <a:pt x="40" y="0"/>
                      <a:pt x="42" y="9"/>
                    </a:cubicBezTo>
                    <a:cubicBezTo>
                      <a:pt x="41" y="27"/>
                      <a:pt x="45" y="48"/>
                      <a:pt x="23" y="32"/>
                    </a:cubicBezTo>
                    <a:cubicBezTo>
                      <a:pt x="20" y="27"/>
                      <a:pt x="7" y="4"/>
                      <a:pt x="0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87760" y="5029200"/>
              <a:ext cx="1204920" cy="1128240"/>
              <a:chOff x="2687760" y="5029200"/>
              <a:chExt cx="1204920" cy="11282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87760" y="5074920"/>
                <a:ext cx="12049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23840" y="5029200"/>
                <a:ext cx="397080" cy="633240"/>
              </a:xfrm>
              <a:custGeom>
                <a:avLst/>
                <a:gdLst/>
                <a:ahLst/>
                <a:rect l="l" t="t" r="r" b="b"/>
                <a:pathLst>
                  <a:path w="271" h="399">
                    <a:moveTo>
                      <a:pt x="0" y="0"/>
                    </a:moveTo>
                    <a:cubicBezTo>
                      <a:pt x="3" y="17"/>
                      <a:pt x="6" y="33"/>
                      <a:pt x="14" y="49"/>
                    </a:cubicBezTo>
                    <a:cubicBezTo>
                      <a:pt x="16" y="60"/>
                      <a:pt x="21" y="70"/>
                      <a:pt x="27" y="79"/>
                    </a:cubicBezTo>
                    <a:cubicBezTo>
                      <a:pt x="29" y="86"/>
                      <a:pt x="35" y="99"/>
                      <a:pt x="35" y="99"/>
                    </a:cubicBezTo>
                    <a:cubicBezTo>
                      <a:pt x="36" y="105"/>
                      <a:pt x="41" y="115"/>
                      <a:pt x="41" y="115"/>
                    </a:cubicBezTo>
                    <a:cubicBezTo>
                      <a:pt x="41" y="154"/>
                      <a:pt x="27" y="260"/>
                      <a:pt x="68" y="301"/>
                    </a:cubicBezTo>
                    <a:cubicBezTo>
                      <a:pt x="70" y="309"/>
                      <a:pt x="73" y="309"/>
                      <a:pt x="81" y="310"/>
                    </a:cubicBezTo>
                    <a:cubicBezTo>
                      <a:pt x="87" y="316"/>
                      <a:pt x="92" y="319"/>
                      <a:pt x="95" y="327"/>
                    </a:cubicBezTo>
                    <a:cubicBezTo>
                      <a:pt x="98" y="345"/>
                      <a:pt x="98" y="354"/>
                      <a:pt x="117" y="355"/>
                    </a:cubicBezTo>
                    <a:cubicBezTo>
                      <a:pt x="120" y="361"/>
                      <a:pt x="125" y="366"/>
                      <a:pt x="131" y="369"/>
                    </a:cubicBezTo>
                    <a:cubicBezTo>
                      <a:pt x="149" y="392"/>
                      <a:pt x="156" y="379"/>
                      <a:pt x="198" y="381"/>
                    </a:cubicBezTo>
                    <a:cubicBezTo>
                      <a:pt x="224" y="376"/>
                      <a:pt x="199" y="367"/>
                      <a:pt x="218" y="382"/>
                    </a:cubicBezTo>
                    <a:cubicBezTo>
                      <a:pt x="221" y="399"/>
                      <a:pt x="242" y="386"/>
                      <a:pt x="254" y="384"/>
                    </a:cubicBezTo>
                    <a:cubicBezTo>
                      <a:pt x="262" y="380"/>
                      <a:pt x="260" y="379"/>
                      <a:pt x="263" y="372"/>
                    </a:cubicBezTo>
                    <a:cubicBezTo>
                      <a:pt x="259" y="355"/>
                      <a:pt x="249" y="352"/>
                      <a:pt x="236" y="342"/>
                    </a:cubicBezTo>
                    <a:cubicBezTo>
                      <a:pt x="235" y="340"/>
                      <a:pt x="235" y="338"/>
                      <a:pt x="233" y="337"/>
                    </a:cubicBezTo>
                    <a:cubicBezTo>
                      <a:pt x="232" y="336"/>
                      <a:pt x="229" y="337"/>
                      <a:pt x="228" y="336"/>
                    </a:cubicBezTo>
                    <a:cubicBezTo>
                      <a:pt x="226" y="334"/>
                      <a:pt x="226" y="330"/>
                      <a:pt x="224" y="327"/>
                    </a:cubicBezTo>
                    <a:cubicBezTo>
                      <a:pt x="224" y="320"/>
                      <a:pt x="223" y="313"/>
                      <a:pt x="225" y="307"/>
                    </a:cubicBezTo>
                    <a:cubicBezTo>
                      <a:pt x="226" y="304"/>
                      <a:pt x="259" y="283"/>
                      <a:pt x="263" y="280"/>
                    </a:cubicBezTo>
                    <a:cubicBezTo>
                      <a:pt x="271" y="264"/>
                      <a:pt x="268" y="243"/>
                      <a:pt x="261" y="226"/>
                    </a:cubicBezTo>
                    <a:cubicBezTo>
                      <a:pt x="258" y="209"/>
                      <a:pt x="255" y="191"/>
                      <a:pt x="249" y="174"/>
                    </a:cubicBezTo>
                    <a:cubicBezTo>
                      <a:pt x="247" y="147"/>
                      <a:pt x="251" y="119"/>
                      <a:pt x="243" y="94"/>
                    </a:cubicBezTo>
                    <a:cubicBezTo>
                      <a:pt x="242" y="88"/>
                      <a:pt x="241" y="81"/>
                      <a:pt x="239" y="76"/>
                    </a:cubicBezTo>
                    <a:cubicBezTo>
                      <a:pt x="238" y="73"/>
                      <a:pt x="234" y="66"/>
                      <a:pt x="234" y="66"/>
                    </a:cubicBezTo>
                    <a:cubicBezTo>
                      <a:pt x="229" y="43"/>
                      <a:pt x="209" y="25"/>
                      <a:pt x="186" y="21"/>
                    </a:cubicBezTo>
                    <a:cubicBezTo>
                      <a:pt x="174" y="15"/>
                      <a:pt x="180" y="17"/>
                      <a:pt x="171" y="15"/>
                    </a:cubicBezTo>
                    <a:cubicBezTo>
                      <a:pt x="157" y="5"/>
                      <a:pt x="142" y="4"/>
                      <a:pt x="126" y="1"/>
                    </a:cubicBezTo>
                    <a:cubicBezTo>
                      <a:pt x="82" y="2"/>
                      <a:pt x="43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2352600" y="5900760"/>
              <a:ext cx="351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55625 7.40741E-007 E">
                                      <p:cBhvr>
                                        <p:cTn id="323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66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69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73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43 -2.31214E-007 E">
                                      <p:cBhvr>
                                        <p:cTn id="342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8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9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9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08 -2.31214E-007 E">
                                      <p:cBhvr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13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3 L 0.55486 0.00093 E">
                                      <p:cBhvr>
                                        <p:cTn id="38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35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39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42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C 0.01372 -0.0162 0.02795 -0.03217 0.03368 -0.04815 C 0.03976 -0.06412 0.01667 -0.08819 0.03542 -0.09629 C 0.05382 -0.1044 0.12483 -0.11643 0.14445 -0.09629 C 0.16406 -0.07615 0.13351 -0.00115 0.15278 0.02408 C 0.17205 0.04931 0.23507 0.07014 0.26077 0.05556 C 0.28611 0.04098 0.28316 -0.0456 0.30591 -0.06296 C 0.32865 -0.08032 0.37604 -0.06643 0.39792 -0.04815 C 0.41997 -0.02986 0.41007 0.03982 0.43646 0.0463 C 0.46233 0.05278 0.50903 0.02176 0.55556 -0.00926 E">
                                      <p:cBhvr>
                                        <p:cTn id="39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5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5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39520" y="5300640"/>
            <a:ext cx="405720" cy="545760"/>
            <a:chOff x="1739520" y="5300640"/>
            <a:chExt cx="405720" cy="545760"/>
          </a:xfrm>
        </p:grpSpPr>
        <p:grpSp>
          <p:nvGrpSpPr>
            <p:cNvPr id="360" name=""/>
            <p:cNvGrpSpPr/>
            <p:nvPr/>
          </p:nvGrpSpPr>
          <p:grpSpPr>
            <a:xfrm>
              <a:off x="1739520" y="5643720"/>
              <a:ext cx="211320" cy="202680"/>
              <a:chOff x="1739520" y="5643720"/>
              <a:chExt cx="211320" cy="202680"/>
            </a:xfrm>
          </p:grpSpPr>
          <p:sp>
            <p:nvSpPr>
              <p:cNvPr id="361" name=""/>
              <p:cNvSpPr/>
              <p:nvPr/>
            </p:nvSpPr>
            <p:spPr>
              <a:xfrm>
                <a:off x="1755720" y="5648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739520" y="5643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806120" y="5300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7880" y="5326200"/>
            <a:ext cx="713880" cy="493560"/>
            <a:chOff x="1847880" y="5326200"/>
            <a:chExt cx="713880" cy="493560"/>
          </a:xfrm>
        </p:grpSpPr>
        <p:sp>
          <p:nvSpPr>
            <p:cNvPr id="365" name=""/>
            <p:cNvSpPr/>
            <p:nvPr/>
          </p:nvSpPr>
          <p:spPr>
            <a:xfrm>
              <a:off x="1847880" y="5661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56120" y="5326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5373720"/>
              <a:ext cx="21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7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76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79640" y="5300640"/>
            <a:ext cx="1482120" cy="844560"/>
            <a:chOff x="1079640" y="5300640"/>
            <a:chExt cx="1482120" cy="844560"/>
          </a:xfrm>
        </p:grpSpPr>
        <p:sp>
          <p:nvSpPr>
            <p:cNvPr id="379" name=""/>
            <p:cNvSpPr/>
            <p:nvPr/>
          </p:nvSpPr>
          <p:spPr>
            <a:xfrm>
              <a:off x="107964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739520" y="5300640"/>
              <a:ext cx="405720" cy="545760"/>
              <a:chOff x="1739520" y="5300640"/>
              <a:chExt cx="405720" cy="545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739520" y="5643720"/>
                <a:ext cx="211320" cy="202680"/>
                <a:chOff x="1739520" y="5643720"/>
                <a:chExt cx="211320" cy="202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755720" y="5648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739520" y="5643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806120" y="5300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847880" y="5326200"/>
              <a:ext cx="713880" cy="493560"/>
              <a:chOff x="1847880" y="5326200"/>
              <a:chExt cx="713880" cy="493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847880" y="5661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56120" y="5326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03640" y="537372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47396 1.85185E-006 E">
                                      <p:cBhvr>
                                        <p:cTn id="43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4120" y="2491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form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94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9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77200" y="2167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déplac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96920" y="5300640"/>
            <a:ext cx="1495080" cy="844560"/>
            <a:chOff x="1096920" y="5300640"/>
            <a:chExt cx="1495080" cy="844560"/>
          </a:xfrm>
        </p:grpSpPr>
        <p:sp>
          <p:nvSpPr>
            <p:cNvPr id="402" name=""/>
            <p:cNvSpPr/>
            <p:nvPr/>
          </p:nvSpPr>
          <p:spPr>
            <a:xfrm>
              <a:off x="109692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69760" y="5300640"/>
              <a:ext cx="822240" cy="545760"/>
              <a:chOff x="1769760" y="5300640"/>
              <a:chExt cx="822240" cy="5457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69760" y="5300640"/>
                <a:ext cx="405720" cy="545760"/>
                <a:chOff x="1769760" y="5300640"/>
                <a:chExt cx="405720" cy="545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769760" y="5643720"/>
                  <a:ext cx="211320" cy="202680"/>
                  <a:chOff x="1769760" y="5643720"/>
                  <a:chExt cx="211320" cy="20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785960" y="5648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769760" y="5643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1836360" y="5300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78120" y="5326200"/>
                <a:ext cx="713880" cy="493560"/>
                <a:chOff x="1878120" y="5326200"/>
                <a:chExt cx="713880" cy="493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78120" y="566100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86360" y="53262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33880" y="5373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1098360" y="5381640"/>
              <a:ext cx="3240" cy="757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04167 3.33333E-006 E">
                                      <p:cBhvr>
                                        <p:cTn id="44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20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" y="6460200"/>
            <a:ext cx="75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*le symbole du travail (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) est issu du mot « 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erk » (traduction du  mot travail ,en langue allema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25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79640" y="501660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39520" y="4941720"/>
            <a:ext cx="822240" cy="545760"/>
            <a:chOff x="1739520" y="4941720"/>
            <a:chExt cx="822240" cy="545760"/>
          </a:xfrm>
        </p:grpSpPr>
        <p:grpSp>
          <p:nvGrpSpPr>
            <p:cNvPr id="430" name=""/>
            <p:cNvGrpSpPr/>
            <p:nvPr/>
          </p:nvGrpSpPr>
          <p:grpSpPr>
            <a:xfrm>
              <a:off x="1739520" y="4941720"/>
              <a:ext cx="405720" cy="545760"/>
              <a:chOff x="1739520" y="4941720"/>
              <a:chExt cx="405720" cy="5457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739520" y="5284800"/>
                <a:ext cx="211320" cy="202680"/>
                <a:chOff x="1739520" y="5284800"/>
                <a:chExt cx="211320" cy="202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755720" y="528948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1739520" y="528480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18061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847880" y="4967280"/>
              <a:ext cx="713880" cy="493560"/>
              <a:chOff x="1847880" y="4967280"/>
              <a:chExt cx="713880" cy="493560"/>
            </a:xfrm>
          </p:grpSpPr>
          <p:sp>
            <p:nvSpPr>
              <p:cNvPr id="436" name=""/>
              <p:cNvSpPr/>
              <p:nvPr/>
            </p:nvSpPr>
            <p:spPr>
              <a:xfrm>
                <a:off x="1847880" y="530208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56120" y="4967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03640" y="501480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40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46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50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079640" y="4941720"/>
            <a:ext cx="1482120" cy="844560"/>
            <a:chOff x="1079640" y="4941720"/>
            <a:chExt cx="1482120" cy="844560"/>
          </a:xfrm>
        </p:grpSpPr>
        <p:sp>
          <p:nvSpPr>
            <p:cNvPr id="454" name=""/>
            <p:cNvSpPr/>
            <p:nvPr/>
          </p:nvSpPr>
          <p:spPr>
            <a:xfrm>
              <a:off x="1079640" y="501660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39520" y="4941720"/>
              <a:ext cx="822240" cy="545760"/>
              <a:chOff x="1739520" y="4941720"/>
              <a:chExt cx="822240" cy="545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739520" y="4941720"/>
                <a:ext cx="405720" cy="545760"/>
                <a:chOff x="1739520" y="4941720"/>
                <a:chExt cx="405720" cy="5457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739520" y="5284800"/>
                  <a:ext cx="211320" cy="202680"/>
                  <a:chOff x="1739520" y="5284800"/>
                  <a:chExt cx="211320" cy="202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55720" y="528948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1739520" y="528480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806120" y="494172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847880" y="4967280"/>
                <a:ext cx="713880" cy="493560"/>
                <a:chOff x="1847880" y="4967280"/>
                <a:chExt cx="713880" cy="493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47880" y="530208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56120" y="4967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03640" y="50148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66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7840" y="4149720"/>
            <a:ext cx="315000" cy="1654200"/>
            <a:chOff x="7017840" y="4149720"/>
            <a:chExt cx="315000" cy="1654200"/>
          </a:xfrm>
        </p:grpSpPr>
        <p:sp>
          <p:nvSpPr>
            <p:cNvPr id="469" name=""/>
            <p:cNvSpPr/>
            <p:nvPr/>
          </p:nvSpPr>
          <p:spPr>
            <a:xfrm flipV="1">
              <a:off x="715968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17840" y="4149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41400" y="4210200"/>
            <a:ext cx="5321520" cy="425160"/>
            <a:chOff x="1841400" y="4210200"/>
            <a:chExt cx="5321520" cy="425160"/>
          </a:xfrm>
        </p:grpSpPr>
        <p:sp>
          <p:nvSpPr>
            <p:cNvPr id="472" name=""/>
            <p:cNvSpPr/>
            <p:nvPr/>
          </p:nvSpPr>
          <p:spPr>
            <a:xfrm>
              <a:off x="1841400" y="463536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7920" y="4210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828160" y="2781360"/>
            <a:ext cx="2431800" cy="581400"/>
            <a:chOff x="2828160" y="2781360"/>
            <a:chExt cx="2431800" cy="581400"/>
          </a:xfrm>
        </p:grpSpPr>
        <p:sp>
          <p:nvSpPr>
            <p:cNvPr id="475" name=""/>
            <p:cNvSpPr/>
            <p:nvPr/>
          </p:nvSpPr>
          <p:spPr>
            <a:xfrm>
              <a:off x="2828160" y="2781360"/>
              <a:ext cx="24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2806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8612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4020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m 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43120" y="33289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J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52680" y="3132720"/>
            <a:ext cx="1136520" cy="736200"/>
          </a:xfrm>
          <a:prstGeom prst="rightArrow">
            <a:avLst>
              <a:gd name="adj1" fmla="val 50000"/>
              <a:gd name="adj2" fmla="val 385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u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0000" y="2530440"/>
            <a:ext cx="302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: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ité du système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tilisée pour le travail et l’énerg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qui doit son nom au Phys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nglais, James Prescot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Joules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57917 -2.96296E-006 E">
                                      <p:cBhvr>
                                        <p:cTn id="511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4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49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49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496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22320" y="5516640"/>
            <a:ext cx="744480" cy="519120"/>
            <a:chOff x="1822320" y="5516640"/>
            <a:chExt cx="744480" cy="519120"/>
          </a:xfrm>
        </p:grpSpPr>
        <p:sp>
          <p:nvSpPr>
            <p:cNvPr id="500" name=""/>
            <p:cNvSpPr/>
            <p:nvPr/>
          </p:nvSpPr>
          <p:spPr>
            <a:xfrm>
              <a:off x="1822320" y="5877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542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8080" y="5516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04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1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1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518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521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643120" y="2781360"/>
            <a:ext cx="2975040" cy="1464480"/>
            <a:chOff x="2643120" y="2781360"/>
            <a:chExt cx="2975040" cy="1464480"/>
          </a:xfrm>
        </p:grpSpPr>
        <p:grpSp>
          <p:nvGrpSpPr>
            <p:cNvPr id="524" name=""/>
            <p:cNvGrpSpPr/>
            <p:nvPr/>
          </p:nvGrpSpPr>
          <p:grpSpPr>
            <a:xfrm>
              <a:off x="2828160" y="2781360"/>
              <a:ext cx="2431800" cy="581400"/>
              <a:chOff x="2828160" y="2781360"/>
              <a:chExt cx="2431800" cy="5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828160" y="2781360"/>
                <a:ext cx="24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28065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78612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020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3120" y="3328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79640" y="5516640"/>
            <a:ext cx="1487160" cy="844560"/>
            <a:chOff x="1079640" y="5516640"/>
            <a:chExt cx="1487160" cy="844560"/>
          </a:xfrm>
        </p:grpSpPr>
        <p:sp>
          <p:nvSpPr>
            <p:cNvPr id="532" name=""/>
            <p:cNvSpPr/>
            <p:nvPr/>
          </p:nvSpPr>
          <p:spPr>
            <a:xfrm>
              <a:off x="1079640" y="559152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739520" y="5516640"/>
              <a:ext cx="405720" cy="545760"/>
              <a:chOff x="1739520" y="5516640"/>
              <a:chExt cx="405720" cy="54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739520" y="5859720"/>
                <a:ext cx="211320" cy="202680"/>
                <a:chOff x="1739520" y="5859720"/>
                <a:chExt cx="211320" cy="202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755720" y="5864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739520" y="5859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806120" y="5516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822320" y="5516640"/>
              <a:ext cx="744480" cy="519120"/>
              <a:chOff x="1822320" y="5516640"/>
              <a:chExt cx="744480" cy="519120"/>
            </a:xfrm>
          </p:grpSpPr>
          <p:sp>
            <p:nvSpPr>
              <p:cNvPr id="539" name=""/>
              <p:cNvSpPr/>
              <p:nvPr/>
            </p:nvSpPr>
            <p:spPr>
              <a:xfrm>
                <a:off x="1822320" y="5877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30560" y="5542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78080" y="5516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43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0.57916 4.07407E-006 E">
                                      <p:cBhvr>
                                        <p:cTn id="58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50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54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58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563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568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569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574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580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8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91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95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00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05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06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11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17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2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2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3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63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640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7160" y="3043080"/>
            <a:ext cx="2975040" cy="1464840"/>
            <a:chOff x="227160" y="3043080"/>
            <a:chExt cx="2975040" cy="1464840"/>
          </a:xfrm>
        </p:grpSpPr>
        <p:grpSp>
          <p:nvGrpSpPr>
            <p:cNvPr id="643" name=""/>
            <p:cNvGrpSpPr/>
            <p:nvPr/>
          </p:nvGrpSpPr>
          <p:grpSpPr>
            <a:xfrm>
              <a:off x="420480" y="3043080"/>
              <a:ext cx="2712240" cy="648720"/>
              <a:chOff x="420480" y="3043080"/>
              <a:chExt cx="2712240" cy="648720"/>
            </a:xfrm>
          </p:grpSpPr>
          <p:sp>
            <p:nvSpPr>
              <p:cNvPr id="644" name=""/>
              <p:cNvSpPr/>
              <p:nvPr/>
            </p:nvSpPr>
            <p:spPr>
              <a:xfrm>
                <a:off x="420480" y="3043080"/>
                <a:ext cx="2712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fr-FR" sz="32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fr-FR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49600" y="3094200"/>
                <a:ext cx="3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37016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424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7160" y="35910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651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56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6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67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73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77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79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82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85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688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693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696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00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04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07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715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719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9840" y="3043080"/>
            <a:ext cx="2712240" cy="648720"/>
            <a:chOff x="429840" y="3043080"/>
            <a:chExt cx="2712240" cy="648720"/>
          </a:xfrm>
        </p:grpSpPr>
        <p:sp>
          <p:nvSpPr>
            <p:cNvPr id="722" name=""/>
            <p:cNvSpPr/>
            <p:nvPr/>
          </p:nvSpPr>
          <p:spPr>
            <a:xfrm>
              <a:off x="429840" y="3043080"/>
              <a:ext cx="271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3200" spc="-1" strike="noStrike" baseline="-25000">
                  <a:solidFill>
                    <a:srgbClr val="0000ff"/>
                  </a:solidFill>
                  <a:latin typeface="Comic Sans MS"/>
                </a:rPr>
                <a:t>ox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8960" y="30942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726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731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733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73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73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742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748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75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75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75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76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763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768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771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75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79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82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3392640"/>
            <a:ext cx="2125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01040" y="393372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914480" y="4324320"/>
            <a:ext cx="568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908000" y="4010040"/>
            <a:ext cx="0" cy="3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2920" y="3068640"/>
            <a:ext cx="4265640" cy="1420200"/>
            <a:chOff x="142920" y="3068640"/>
            <a:chExt cx="4265640" cy="1420200"/>
          </a:xfrm>
        </p:grpSpPr>
        <p:sp>
          <p:nvSpPr>
            <p:cNvPr id="790" name=""/>
            <p:cNvSpPr/>
            <p:nvPr/>
          </p:nvSpPr>
          <p:spPr>
            <a:xfrm>
              <a:off x="1403640" y="3571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0960" y="357192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0640" y="3571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42920" y="3068640"/>
              <a:ext cx="3997440" cy="1190520"/>
              <a:chOff x="142920" y="3068640"/>
              <a:chExt cx="3997440" cy="11905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22200" y="3068640"/>
                <a:ext cx="3818160" cy="581400"/>
                <a:chOff x="322200" y="3068640"/>
                <a:chExt cx="3818160" cy="581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22200" y="3068640"/>
                  <a:ext cx="3818160" cy="58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W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=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 .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os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. </a:t>
                  </a:r>
                  <a:r>
                    <a:rPr b="1" lang="en-US" sz="3200" spc="-1" strike="noStrike">
                      <a:solidFill>
                        <a:srgbClr val="339933"/>
                      </a:solidFill>
                      <a:latin typeface="Comic Sans MS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665360" y="311976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1285920" y="3616560"/>
                <a:ext cx="77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40000" y="36165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2920" y="3616560"/>
                <a:ext cx="777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0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0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814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1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2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2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2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832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3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3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84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7472520" y="2198520"/>
            <a:ext cx="128736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45720" y="2923560"/>
            <a:ext cx="788040" cy="756000"/>
            <a:chOff x="7245720" y="2923560"/>
            <a:chExt cx="788040" cy="756000"/>
          </a:xfrm>
        </p:grpSpPr>
        <p:sp>
          <p:nvSpPr>
            <p:cNvPr id="850" name=""/>
            <p:cNvSpPr/>
            <p:nvPr/>
          </p:nvSpPr>
          <p:spPr>
            <a:xfrm rot="938400">
              <a:off x="7322400" y="2981160"/>
              <a:ext cx="516600" cy="6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1" y="417"/>
                  </a:moveTo>
                  <a:arcTo wR="10800" hR="10800" stAng="-4441998" swAng="286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1" y="417"/>
                  </a:moveTo>
                  <a:arcTo wR="10800" hR="10800" stAng="-4441998" swAng="286623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56920" y="29383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991640" y="28144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3238560"/>
            <a:ext cx="519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5480" y="24573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75360" y="24573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78920" y="2457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27680" y="56196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mot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6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6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762200" y="4938840"/>
            <a:ext cx="597960" cy="1001520"/>
            <a:chOff x="1762200" y="4938840"/>
            <a:chExt cx="597960" cy="1001520"/>
          </a:xfrm>
        </p:grpSpPr>
        <p:sp>
          <p:nvSpPr>
            <p:cNvPr id="874" name=""/>
            <p:cNvSpPr/>
            <p:nvPr/>
          </p:nvSpPr>
          <p:spPr>
            <a:xfrm rot="16200000">
              <a:off x="1340640" y="536004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054520" y="5256360"/>
              <a:ext cx="305640" cy="368280"/>
              <a:chOff x="2054520" y="5256360"/>
              <a:chExt cx="30564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054520" y="525636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70000" y="52563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7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8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1833480" y="3981600"/>
            <a:ext cx="25560" cy="1977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8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8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-1052640" y="4023360"/>
            <a:ext cx="4292280" cy="3855960"/>
            <a:chOff x="-1052640" y="4023360"/>
            <a:chExt cx="4292280" cy="3855960"/>
          </a:xfrm>
        </p:grpSpPr>
        <p:sp>
          <p:nvSpPr>
            <p:cNvPr id="892" name=""/>
            <p:cNvSpPr/>
            <p:nvPr/>
          </p:nvSpPr>
          <p:spPr>
            <a:xfrm>
              <a:off x="-1052640" y="4023360"/>
              <a:ext cx="4292280" cy="38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8" y="716"/>
                  </a:moveTo>
                  <a:arcTo wR="10800" hR="10800" stAng="-4140952" swAng="4115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8" y="716"/>
                  </a:moveTo>
                  <a:arcTo wR="10800" hR="10800" stAng="-4140952" swAng="411547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9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9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0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7464600" y="2015640"/>
            <a:ext cx="7920" cy="1212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48320" y="2634120"/>
            <a:ext cx="1527480" cy="1215360"/>
            <a:chOff x="6448320" y="2634120"/>
            <a:chExt cx="1527480" cy="1215360"/>
          </a:xfrm>
        </p:grpSpPr>
        <p:sp>
          <p:nvSpPr>
            <p:cNvPr id="910" name=""/>
            <p:cNvSpPr/>
            <p:nvPr/>
          </p:nvSpPr>
          <p:spPr>
            <a:xfrm rot="938400">
              <a:off x="6543000" y="2797920"/>
              <a:ext cx="133776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36" y="213"/>
                  </a:moveTo>
                  <a:arcTo wR="10800" hR="10800" stAng="-4715628" swAng="3139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36" y="213"/>
                  </a:moveTo>
                  <a:arcTo wR="10800" hR="10800" stAng="-4715628" swAng="313986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7760" y="28386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467480" y="2538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2920" y="308628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11400" y="29242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75360" y="29242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05200" y="292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55040" y="5300640"/>
            <a:ext cx="117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sans eff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3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93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93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4400" y="4653000"/>
            <a:ext cx="801360" cy="1345320"/>
            <a:chOff x="1094400" y="4653000"/>
            <a:chExt cx="801360" cy="1345320"/>
          </a:xfrm>
        </p:grpSpPr>
        <p:sp>
          <p:nvSpPr>
            <p:cNvPr id="941" name=""/>
            <p:cNvSpPr/>
            <p:nvPr/>
          </p:nvSpPr>
          <p:spPr>
            <a:xfrm rot="13606800">
              <a:off x="994320" y="549936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195560" y="4653000"/>
              <a:ext cx="305640" cy="368280"/>
              <a:chOff x="1195560" y="4653000"/>
              <a:chExt cx="305640" cy="368280"/>
            </a:xfrm>
          </p:grpSpPr>
          <p:sp>
            <p:nvSpPr>
              <p:cNvPr id="943" name=""/>
              <p:cNvSpPr/>
              <p:nvPr/>
            </p:nvSpPr>
            <p:spPr>
              <a:xfrm>
                <a:off x="1195560" y="46530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040" y="4653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94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94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H="1" flipV="1">
            <a:off x="128520" y="4039920"/>
            <a:ext cx="1704960" cy="19191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953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956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-1052280" y="4024440"/>
            <a:ext cx="4291920" cy="3856680"/>
            <a:chOff x="-1052280" y="4024440"/>
            <a:chExt cx="4291920" cy="3856680"/>
          </a:xfrm>
        </p:grpSpPr>
        <p:sp>
          <p:nvSpPr>
            <p:cNvPr id="959" name=""/>
            <p:cNvSpPr/>
            <p:nvPr/>
          </p:nvSpPr>
          <p:spPr>
            <a:xfrm>
              <a:off x="-1052280" y="4024440"/>
              <a:ext cx="4291920" cy="38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9" y="872"/>
                  </a:moveTo>
                  <a:arcTo wR="10800" hR="10800" stAng="-6790657" swAng="6765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9" y="872"/>
                  </a:moveTo>
                  <a:arcTo wR="10800" hR="10800" stAng="-6790657" swAng="67651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962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966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71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831360" y="2666880"/>
            <a:ext cx="1121400" cy="1228680"/>
            <a:chOff x="6831360" y="2666880"/>
            <a:chExt cx="1121400" cy="1228680"/>
          </a:xfrm>
        </p:grpSpPr>
        <p:sp>
          <p:nvSpPr>
            <p:cNvPr id="976" name=""/>
            <p:cNvSpPr/>
            <p:nvPr/>
          </p:nvSpPr>
          <p:spPr>
            <a:xfrm rot="938400">
              <a:off x="6941880" y="2845800"/>
              <a:ext cx="900000" cy="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5" y="3283"/>
                  </a:moveTo>
                  <a:arcTo wR="10800" hR="10800" stAng="-8153535" swAng="6577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5" y="3283"/>
                  </a:moveTo>
                  <a:arcTo wR="10800" hR="10800" stAng="-8153535" swAng="657776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5480" y="26668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10320" y="29973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66720" y="299736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07000" y="29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8080" y="34005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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06560" y="33861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98680" y="35067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85480" y="33544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21320" y="35193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75360" y="33544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78920" y="3354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6643800" y="2325600"/>
            <a:ext cx="798480" cy="8985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9760" y="272736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973560" y="3238560"/>
            <a:ext cx="493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840" y="4905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rési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1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913800" y="6133680"/>
            <a:ext cx="2241000" cy="423000"/>
          </a:xfrm>
          <a:custGeom>
            <a:avLst/>
            <a:gdLst>
              <a:gd name="textAreaLeft" fmla="*/ 27360 w 2241000"/>
              <a:gd name="textAreaRight" fmla="*/ 2213640 w 2241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114355" h="21600">
                <a:moveTo>
                  <a:pt x="0" y="0"/>
                </a:moveTo>
                <a:lnTo>
                  <a:pt x="114355" y="0"/>
                </a:lnTo>
                <a:lnTo>
                  <a:pt x="114355" y="21600"/>
                </a:lnTo>
                <a:lnTo>
                  <a:pt x="0" y="21600"/>
                </a:lnTo>
                <a:close/>
              </a:path>
              <a:path fill="lightenLess" w="114355" h="21600">
                <a:moveTo>
                  <a:pt x="0" y="0"/>
                </a:moveTo>
                <a:lnTo>
                  <a:pt x="114355" y="0"/>
                </a:lnTo>
                <a:lnTo>
                  <a:pt x="112955" y="1400"/>
                </a:lnTo>
                <a:lnTo>
                  <a:pt x="1400" y="1400"/>
                </a:lnTo>
                <a:close/>
              </a:path>
              <a:path fill="darken" w="114355" h="21600">
                <a:moveTo>
                  <a:pt x="114355" y="0"/>
                </a:moveTo>
                <a:lnTo>
                  <a:pt x="114355" y="21600"/>
                </a:lnTo>
                <a:lnTo>
                  <a:pt x="112955" y="20200"/>
                </a:lnTo>
                <a:lnTo>
                  <a:pt x="112955" y="1400"/>
                </a:lnTo>
                <a:close/>
              </a:path>
              <a:path fill="darkenLess" w="114355" h="21600">
                <a:moveTo>
                  <a:pt x="114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55" y="20200"/>
                </a:lnTo>
                <a:close/>
              </a:path>
              <a:path fill="lighten" w="114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 du diapo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0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1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1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1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24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29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33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43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50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55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9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60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65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69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077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081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085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19640" y="5803920"/>
            <a:ext cx="5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80520" y="5805360"/>
            <a:ext cx="81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9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10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10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14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18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25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rot="19141200">
            <a:off x="5313600" y="3184920"/>
            <a:ext cx="1523160" cy="736200"/>
          </a:xfrm>
          <a:prstGeom prst="rightArrow">
            <a:avLst>
              <a:gd name="adj1" fmla="val 50000"/>
              <a:gd name="adj2" fmla="val 517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36560" y="2243880"/>
            <a:ext cx="2370960" cy="2177280"/>
            <a:chOff x="2536560" y="2243880"/>
            <a:chExt cx="2370960" cy="2177280"/>
          </a:xfrm>
        </p:grpSpPr>
        <p:sp>
          <p:nvSpPr>
            <p:cNvPr id="1134" name=""/>
            <p:cNvSpPr/>
            <p:nvPr/>
          </p:nvSpPr>
          <p:spPr>
            <a:xfrm flipH="1" rot="19168800">
              <a:off x="2476800" y="2964240"/>
              <a:ext cx="2489760" cy="736200"/>
            </a:xfrm>
            <a:prstGeom prst="rightArrow">
              <a:avLst>
                <a:gd name="adj1" fmla="val 50000"/>
                <a:gd name="adj2" fmla="val 84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gne d’action de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76160" y="2496240"/>
              <a:ext cx="136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38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145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149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153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16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16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706400" y="3513240"/>
            <a:ext cx="2400480" cy="1333440"/>
          </a:xfrm>
          <a:custGeom>
            <a:avLst/>
            <a:gdLst/>
            <a:ahLst/>
            <a:rect l="l" t="t" r="r" b="b"/>
            <a:pathLst>
              <a:path w="1512" h="840">
                <a:moveTo>
                  <a:pt x="15" y="0"/>
                </a:moveTo>
                <a:lnTo>
                  <a:pt x="1503" y="5"/>
                </a:lnTo>
                <a:lnTo>
                  <a:pt x="1512" y="840"/>
                </a:lnTo>
                <a:lnTo>
                  <a:pt x="0" y="840"/>
                </a:lnTo>
                <a:lnTo>
                  <a:pt x="15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171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77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81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87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96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203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207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211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2560" y="577836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9024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3840" y="3527280"/>
            <a:ext cx="3518280" cy="1317600"/>
            <a:chOff x="1653840" y="3527280"/>
            <a:chExt cx="3518280" cy="1317600"/>
          </a:xfrm>
        </p:grpSpPr>
        <p:sp>
          <p:nvSpPr>
            <p:cNvPr id="1220" name=""/>
            <p:cNvSpPr/>
            <p:nvPr/>
          </p:nvSpPr>
          <p:spPr>
            <a:xfrm>
              <a:off x="1754280" y="3527280"/>
              <a:ext cx="3417840" cy="1317600"/>
            </a:xfrm>
            <a:custGeom>
              <a:avLst/>
              <a:gdLst/>
              <a:ahLst/>
              <a:rect l="l" t="t" r="r" b="b"/>
              <a:pathLst>
                <a:path w="2153" h="830">
                  <a:moveTo>
                    <a:pt x="1" y="0"/>
                  </a:moveTo>
                  <a:lnTo>
                    <a:pt x="0" y="830"/>
                  </a:lnTo>
                  <a:lnTo>
                    <a:pt x="126" y="828"/>
                  </a:lnTo>
                  <a:lnTo>
                    <a:pt x="124" y="428"/>
                  </a:lnTo>
                  <a:lnTo>
                    <a:pt x="2150" y="428"/>
                  </a:lnTo>
                  <a:lnTo>
                    <a:pt x="2153" y="341"/>
                  </a:lnTo>
                  <a:lnTo>
                    <a:pt x="124" y="340"/>
                  </a:lnTo>
                  <a:lnTo>
                    <a:pt x="1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653840" y="4021200"/>
              <a:ext cx="548640" cy="465120"/>
              <a:chOff x="1653840" y="4021200"/>
              <a:chExt cx="548640" cy="465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653840" y="4021200"/>
                <a:ext cx="203760" cy="196560"/>
                <a:chOff x="1653840" y="4021200"/>
                <a:chExt cx="203760" cy="1965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6068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5384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1863360" y="41180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1752480" y="3716280"/>
              <a:ext cx="609840" cy="480960"/>
              <a:chOff x="1752480" y="3716280"/>
              <a:chExt cx="609840" cy="480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752480" y="4064040"/>
                <a:ext cx="609840" cy="133200"/>
              </a:xfrm>
              <a:prstGeom prst="rightArrow">
                <a:avLst>
                  <a:gd name="adj1" fmla="val 50000"/>
                  <a:gd name="adj2" fmla="val 114459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1951560" y="3716280"/>
                <a:ext cx="305640" cy="368280"/>
                <a:chOff x="1951560" y="3716280"/>
                <a:chExt cx="305640" cy="3682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51560" y="3716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74960" y="3762360"/>
                  <a:ext cx="241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23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23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237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752480" y="4092480"/>
            <a:ext cx="2333880" cy="1212840"/>
            <a:chOff x="1752480" y="4092480"/>
            <a:chExt cx="2333880" cy="1212840"/>
          </a:xfrm>
        </p:grpSpPr>
        <p:sp>
          <p:nvSpPr>
            <p:cNvPr id="1242" name=""/>
            <p:cNvSpPr/>
            <p:nvPr/>
          </p:nvSpPr>
          <p:spPr>
            <a:xfrm>
              <a:off x="1752480" y="4102200"/>
              <a:ext cx="0" cy="12031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4092480"/>
              <a:ext cx="0" cy="12128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52480" y="5229360"/>
              <a:ext cx="2333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83440" y="48578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0,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835000" y="54054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33000" y="5824440"/>
            <a:ext cx="5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16000" y="5405400"/>
            <a:ext cx="3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06480" y="4867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35000" y="5897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88960" y="5951520"/>
            <a:ext cx="134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,5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15 L 0.25313 0.00115 E">
                                      <p:cBhvr>
                                        <p:cTn id="118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3.33333E-006 L -0.27204 -0.05301 E">
                                      <p:cBhvr>
                                        <p:cTn id="119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15556 0.08704 E">
                                      <p:cBhvr>
                                        <p:cTn id="1210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5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65840" y="265284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262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2920" y="309096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42920" y="350820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696280" y="3068640"/>
            <a:ext cx="627840" cy="1001520"/>
            <a:chOff x="5696280" y="3068640"/>
            <a:chExt cx="627840" cy="1001520"/>
          </a:xfrm>
        </p:grpSpPr>
        <p:sp>
          <p:nvSpPr>
            <p:cNvPr id="1270" name=""/>
            <p:cNvSpPr/>
            <p:nvPr/>
          </p:nvSpPr>
          <p:spPr>
            <a:xfrm rot="5400000">
              <a:off x="5744160" y="3490200"/>
              <a:ext cx="1001520" cy="158400"/>
            </a:xfrm>
            <a:prstGeom prst="rightArrow">
              <a:avLst>
                <a:gd name="adj1" fmla="val 50000"/>
                <a:gd name="adj2" fmla="val 15806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696280" y="3655800"/>
              <a:ext cx="305640" cy="368280"/>
              <a:chOff x="5696280" y="3655800"/>
              <a:chExt cx="305640" cy="368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696280" y="36558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1760" y="36558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276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245280" y="2467080"/>
            <a:ext cx="0" cy="393696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3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736560" y="3500280"/>
            <a:ext cx="1849680" cy="459720"/>
            <a:chOff x="736560" y="3500280"/>
            <a:chExt cx="1849680" cy="459720"/>
          </a:xfrm>
        </p:grpSpPr>
        <p:sp>
          <p:nvSpPr>
            <p:cNvPr id="1290" name=""/>
            <p:cNvSpPr/>
            <p:nvPr/>
          </p:nvSpPr>
          <p:spPr>
            <a:xfrm>
              <a:off x="736560" y="350028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92360" y="353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6280" y="2652840"/>
            <a:ext cx="941040" cy="1417320"/>
            <a:chOff x="5696280" y="2652840"/>
            <a:chExt cx="941040" cy="1417320"/>
          </a:xfrm>
        </p:grpSpPr>
        <p:sp>
          <p:nvSpPr>
            <p:cNvPr id="1294" name=""/>
            <p:cNvSpPr/>
            <p:nvPr/>
          </p:nvSpPr>
          <p:spPr>
            <a:xfrm>
              <a:off x="5865840" y="265284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5696280" y="3068640"/>
              <a:ext cx="627840" cy="1001520"/>
              <a:chOff x="5696280" y="3068640"/>
              <a:chExt cx="627840" cy="1001520"/>
            </a:xfrm>
          </p:grpSpPr>
          <p:sp>
            <p:nvSpPr>
              <p:cNvPr id="1296" name=""/>
              <p:cNvSpPr/>
              <p:nvPr/>
            </p:nvSpPr>
            <p:spPr>
              <a:xfrm rot="5400000">
                <a:off x="5744160" y="3490200"/>
                <a:ext cx="1001520" cy="158400"/>
              </a:xfrm>
              <a:prstGeom prst="rightArrow">
                <a:avLst>
                  <a:gd name="adj1" fmla="val 50000"/>
                  <a:gd name="adj2" fmla="val 158068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696280" y="3655800"/>
                <a:ext cx="305640" cy="368280"/>
                <a:chOff x="5696280" y="3655800"/>
                <a:chExt cx="305640" cy="368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696280" y="3655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1760" y="365580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302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6245280" y="2466720"/>
            <a:ext cx="0" cy="38732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310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311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03640" y="3068640"/>
            <a:ext cx="3097080" cy="2268360"/>
          </a:xfrm>
          <a:custGeom>
            <a:avLst/>
            <a:gdLst/>
            <a:ahLst/>
            <a:rect l="l" t="t" r="r" b="b"/>
            <a:pathLst>
              <a:path w="1951" h="1429">
                <a:moveTo>
                  <a:pt x="1951" y="0"/>
                </a:moveTo>
                <a:cubicBezTo>
                  <a:pt x="1866" y="13"/>
                  <a:pt x="1557" y="10"/>
                  <a:pt x="1443" y="77"/>
                </a:cubicBezTo>
                <a:cubicBezTo>
                  <a:pt x="1329" y="144"/>
                  <a:pt x="1359" y="342"/>
                  <a:pt x="1269" y="401"/>
                </a:cubicBezTo>
                <a:cubicBezTo>
                  <a:pt x="1179" y="460"/>
                  <a:pt x="1047" y="420"/>
                  <a:pt x="903" y="431"/>
                </a:cubicBezTo>
                <a:cubicBezTo>
                  <a:pt x="759" y="442"/>
                  <a:pt x="531" y="424"/>
                  <a:pt x="405" y="467"/>
                </a:cubicBezTo>
                <a:cubicBezTo>
                  <a:pt x="279" y="510"/>
                  <a:pt x="207" y="609"/>
                  <a:pt x="147" y="689"/>
                </a:cubicBezTo>
                <a:cubicBezTo>
                  <a:pt x="87" y="769"/>
                  <a:pt x="69" y="824"/>
                  <a:pt x="45" y="947"/>
                </a:cubicBezTo>
                <a:cubicBezTo>
                  <a:pt x="21" y="1070"/>
                  <a:pt x="9" y="1329"/>
                  <a:pt x="0" y="14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235560" y="2770200"/>
            <a:ext cx="995400" cy="368280"/>
            <a:chOff x="6235560" y="2770200"/>
            <a:chExt cx="995400" cy="368280"/>
          </a:xfrm>
        </p:grpSpPr>
        <p:sp>
          <p:nvSpPr>
            <p:cNvPr id="1316" name=""/>
            <p:cNvSpPr/>
            <p:nvPr/>
          </p:nvSpPr>
          <p:spPr>
            <a:xfrm>
              <a:off x="6235560" y="3086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98200" y="27702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00400" y="4941720"/>
            <a:ext cx="3975120" cy="379440"/>
            <a:chOff x="3200400" y="4941720"/>
            <a:chExt cx="3975120" cy="379440"/>
          </a:xfrm>
        </p:grpSpPr>
        <p:sp>
          <p:nvSpPr>
            <p:cNvPr id="1319" name=""/>
            <p:cNvSpPr/>
            <p:nvPr/>
          </p:nvSpPr>
          <p:spPr>
            <a:xfrm>
              <a:off x="3200400" y="5321160"/>
              <a:ext cx="39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1760" y="4941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930000" y="3086280"/>
            <a:ext cx="356040" cy="2234880"/>
            <a:chOff x="6930000" y="3086280"/>
            <a:chExt cx="356040" cy="2234880"/>
          </a:xfrm>
        </p:grpSpPr>
        <p:sp>
          <p:nvSpPr>
            <p:cNvPr id="1322" name=""/>
            <p:cNvSpPr/>
            <p:nvPr/>
          </p:nvSpPr>
          <p:spPr>
            <a:xfrm>
              <a:off x="6972480" y="308628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0000" y="392112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895320" y="39211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rot="3316800">
            <a:off x="4228560" y="4075920"/>
            <a:ext cx="1522800" cy="736200"/>
          </a:xfrm>
          <a:prstGeom prst="rightArrow">
            <a:avLst>
              <a:gd name="adj1" fmla="val 50000"/>
              <a:gd name="adj2" fmla="val 517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3385 0.00347 -0.06753 0.00717 -0.08958 0.0236 C -0.11163 0.04004 -0.1059 0.08564 -0.13229 0.0986 C -0.15868 0.11157 -0.21771 0.09166 -0.24791 0.10138 C -0.27812 0.1111 -0.29913 0.11897 -0.31354 0.15694 C -0.32795 0.1949 -0.33125 0.26203 -0.33437 0.32916 E">
                                      <p:cBhvr>
                                        <p:cTn id="1277" dur="5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34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37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grpSp>
          <p:nvGrpSpPr>
            <p:cNvPr id="1340" name=""/>
            <p:cNvGrpSpPr/>
            <p:nvPr/>
          </p:nvGrpSpPr>
          <p:grpSpPr>
            <a:xfrm>
              <a:off x="4176720" y="3686040"/>
              <a:ext cx="2786040" cy="1425600"/>
              <a:chOff x="4176720" y="3686040"/>
              <a:chExt cx="2786040" cy="1425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81400" y="3686040"/>
                <a:ext cx="2773440" cy="540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7816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5952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76720" y="3944880"/>
                <a:ext cx="2786040" cy="1166760"/>
              </a:xfrm>
              <a:custGeom>
                <a:avLst/>
                <a:gdLst/>
                <a:ahLst/>
                <a:rect l="l" t="t" r="r" b="b"/>
                <a:pathLst>
                  <a:path w="1755" h="735">
                    <a:moveTo>
                      <a:pt x="0" y="6"/>
                    </a:moveTo>
                    <a:lnTo>
                      <a:pt x="9" y="36"/>
                    </a:lnTo>
                    <a:lnTo>
                      <a:pt x="57" y="66"/>
                    </a:lnTo>
                    <a:lnTo>
                      <a:pt x="147" y="102"/>
                    </a:lnTo>
                    <a:lnTo>
                      <a:pt x="249" y="123"/>
                    </a:lnTo>
                    <a:lnTo>
                      <a:pt x="402" y="147"/>
                    </a:lnTo>
                    <a:lnTo>
                      <a:pt x="531" y="159"/>
                    </a:lnTo>
                    <a:lnTo>
                      <a:pt x="684" y="171"/>
                    </a:lnTo>
                    <a:lnTo>
                      <a:pt x="837" y="173"/>
                    </a:lnTo>
                    <a:lnTo>
                      <a:pt x="933" y="173"/>
                    </a:lnTo>
                    <a:lnTo>
                      <a:pt x="1041" y="171"/>
                    </a:lnTo>
                    <a:lnTo>
                      <a:pt x="1185" y="162"/>
                    </a:lnTo>
                    <a:lnTo>
                      <a:pt x="1317" y="153"/>
                    </a:lnTo>
                    <a:lnTo>
                      <a:pt x="1407" y="141"/>
                    </a:lnTo>
                    <a:lnTo>
                      <a:pt x="1512" y="123"/>
                    </a:lnTo>
                    <a:lnTo>
                      <a:pt x="1587" y="102"/>
                    </a:lnTo>
                    <a:lnTo>
                      <a:pt x="1662" y="81"/>
                    </a:lnTo>
                    <a:lnTo>
                      <a:pt x="1701" y="63"/>
                    </a:lnTo>
                    <a:lnTo>
                      <a:pt x="1737" y="33"/>
                    </a:lnTo>
                    <a:lnTo>
                      <a:pt x="1755" y="0"/>
                    </a:lnTo>
                    <a:lnTo>
                      <a:pt x="1755" y="561"/>
                    </a:lnTo>
                    <a:lnTo>
                      <a:pt x="1754" y="587"/>
                    </a:lnTo>
                    <a:lnTo>
                      <a:pt x="1722" y="612"/>
                    </a:lnTo>
                    <a:lnTo>
                      <a:pt x="1629" y="651"/>
                    </a:lnTo>
                    <a:lnTo>
                      <a:pt x="1527" y="678"/>
                    </a:lnTo>
                    <a:lnTo>
                      <a:pt x="1380" y="705"/>
                    </a:lnTo>
                    <a:lnTo>
                      <a:pt x="1227" y="720"/>
                    </a:lnTo>
                    <a:lnTo>
                      <a:pt x="1089" y="729"/>
                    </a:lnTo>
                    <a:lnTo>
                      <a:pt x="957" y="735"/>
                    </a:lnTo>
                    <a:lnTo>
                      <a:pt x="813" y="734"/>
                    </a:lnTo>
                    <a:lnTo>
                      <a:pt x="636" y="726"/>
                    </a:lnTo>
                    <a:lnTo>
                      <a:pt x="516" y="720"/>
                    </a:lnTo>
                    <a:lnTo>
                      <a:pt x="395" y="707"/>
                    </a:lnTo>
                    <a:lnTo>
                      <a:pt x="264" y="690"/>
                    </a:lnTo>
                    <a:lnTo>
                      <a:pt x="123" y="654"/>
                    </a:lnTo>
                    <a:lnTo>
                      <a:pt x="41" y="620"/>
                    </a:lnTo>
                    <a:lnTo>
                      <a:pt x="20" y="604"/>
                    </a:lnTo>
                    <a:lnTo>
                      <a:pt x="2" y="58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4052880" y="3149640"/>
              <a:ext cx="3327480" cy="2403360"/>
              <a:chOff x="4052880" y="3149640"/>
              <a:chExt cx="3327480" cy="2403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4052880" y="3936960"/>
                <a:ext cx="33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89720" y="3149640"/>
                <a:ext cx="0" cy="240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8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49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78200" y="3941640"/>
            <a:ext cx="905040" cy="314640"/>
            <a:chOff x="4678200" y="3941640"/>
            <a:chExt cx="905040" cy="314640"/>
          </a:xfrm>
        </p:grpSpPr>
        <p:sp>
          <p:nvSpPr>
            <p:cNvPr id="1353" name=""/>
            <p:cNvSpPr/>
            <p:nvPr/>
          </p:nvSpPr>
          <p:spPr>
            <a:xfrm flipH="1">
              <a:off x="4933800" y="394164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678200" y="3979800"/>
              <a:ext cx="312480" cy="276480"/>
              <a:chOff x="4678200" y="3979800"/>
              <a:chExt cx="312480" cy="276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881600" y="4147920"/>
                <a:ext cx="109080" cy="101160"/>
                <a:chOff x="4881600" y="4147920"/>
                <a:chExt cx="109080" cy="10116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88916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488160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678200" y="39798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929120" y="4189320"/>
            <a:ext cx="541440" cy="453240"/>
            <a:chOff x="4929120" y="4189320"/>
            <a:chExt cx="541440" cy="453240"/>
          </a:xfrm>
        </p:grpSpPr>
        <p:sp>
          <p:nvSpPr>
            <p:cNvPr id="1361" name=""/>
            <p:cNvSpPr/>
            <p:nvPr/>
          </p:nvSpPr>
          <p:spPr>
            <a:xfrm>
              <a:off x="4929120" y="418932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8680" y="43052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79960" y="435276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365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369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938840" y="419112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79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82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81400" y="3686040"/>
            <a:ext cx="2773440" cy="540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2929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7816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5952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76720" y="3944880"/>
            <a:ext cx="2786040" cy="1166760"/>
          </a:xfrm>
          <a:custGeom>
            <a:avLst/>
            <a:gdLst/>
            <a:ahLst/>
            <a:rect l="l" t="t" r="r" b="b"/>
            <a:pathLst>
              <a:path w="1755" h="735">
                <a:moveTo>
                  <a:pt x="0" y="6"/>
                </a:moveTo>
                <a:lnTo>
                  <a:pt x="9" y="36"/>
                </a:lnTo>
                <a:lnTo>
                  <a:pt x="57" y="66"/>
                </a:lnTo>
                <a:lnTo>
                  <a:pt x="147" y="102"/>
                </a:lnTo>
                <a:lnTo>
                  <a:pt x="249" y="123"/>
                </a:lnTo>
                <a:lnTo>
                  <a:pt x="402" y="147"/>
                </a:lnTo>
                <a:lnTo>
                  <a:pt x="531" y="159"/>
                </a:lnTo>
                <a:lnTo>
                  <a:pt x="684" y="171"/>
                </a:lnTo>
                <a:lnTo>
                  <a:pt x="837" y="173"/>
                </a:lnTo>
                <a:lnTo>
                  <a:pt x="933" y="173"/>
                </a:lnTo>
                <a:lnTo>
                  <a:pt x="1041" y="171"/>
                </a:lnTo>
                <a:lnTo>
                  <a:pt x="1185" y="162"/>
                </a:lnTo>
                <a:lnTo>
                  <a:pt x="1317" y="153"/>
                </a:lnTo>
                <a:lnTo>
                  <a:pt x="1407" y="141"/>
                </a:lnTo>
                <a:lnTo>
                  <a:pt x="1512" y="123"/>
                </a:lnTo>
                <a:lnTo>
                  <a:pt x="1587" y="102"/>
                </a:lnTo>
                <a:lnTo>
                  <a:pt x="1662" y="81"/>
                </a:lnTo>
                <a:lnTo>
                  <a:pt x="1701" y="63"/>
                </a:lnTo>
                <a:lnTo>
                  <a:pt x="1737" y="33"/>
                </a:lnTo>
                <a:lnTo>
                  <a:pt x="1755" y="0"/>
                </a:lnTo>
                <a:lnTo>
                  <a:pt x="1755" y="561"/>
                </a:lnTo>
                <a:lnTo>
                  <a:pt x="1754" y="587"/>
                </a:lnTo>
                <a:lnTo>
                  <a:pt x="1722" y="612"/>
                </a:lnTo>
                <a:lnTo>
                  <a:pt x="1629" y="651"/>
                </a:lnTo>
                <a:lnTo>
                  <a:pt x="1527" y="678"/>
                </a:lnTo>
                <a:lnTo>
                  <a:pt x="1380" y="705"/>
                </a:lnTo>
                <a:lnTo>
                  <a:pt x="1227" y="720"/>
                </a:lnTo>
                <a:lnTo>
                  <a:pt x="1089" y="729"/>
                </a:lnTo>
                <a:lnTo>
                  <a:pt x="957" y="735"/>
                </a:lnTo>
                <a:lnTo>
                  <a:pt x="813" y="734"/>
                </a:lnTo>
                <a:lnTo>
                  <a:pt x="636" y="726"/>
                </a:lnTo>
                <a:lnTo>
                  <a:pt x="516" y="720"/>
                </a:lnTo>
                <a:lnTo>
                  <a:pt x="395" y="707"/>
                </a:lnTo>
                <a:lnTo>
                  <a:pt x="264" y="690"/>
                </a:lnTo>
                <a:lnTo>
                  <a:pt x="123" y="654"/>
                </a:lnTo>
                <a:lnTo>
                  <a:pt x="41" y="620"/>
                </a:lnTo>
                <a:lnTo>
                  <a:pt x="20" y="604"/>
                </a:lnTo>
                <a:lnTo>
                  <a:pt x="2" y="584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sp>
          <p:nvSpPr>
            <p:cNvPr id="1389" name=""/>
            <p:cNvSpPr/>
            <p:nvPr/>
          </p:nvSpPr>
          <p:spPr>
            <a:xfrm>
              <a:off x="4052880" y="393696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89720" y="3149640"/>
              <a:ext cx="0" cy="240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92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 flipH="1">
            <a:off x="4933800" y="3941640"/>
            <a:ext cx="649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881600" y="4148280"/>
            <a:ext cx="109080" cy="101160"/>
            <a:chOff x="4881600" y="4148280"/>
            <a:chExt cx="109080" cy="101160"/>
          </a:xfrm>
        </p:grpSpPr>
        <p:sp>
          <p:nvSpPr>
            <p:cNvPr id="1397" name=""/>
            <p:cNvSpPr/>
            <p:nvPr/>
          </p:nvSpPr>
          <p:spPr>
            <a:xfrm>
              <a:off x="488916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88160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678200" y="39798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402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406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158880" y="3951360"/>
            <a:ext cx="317880" cy="276480"/>
            <a:chOff x="6158880" y="3951360"/>
            <a:chExt cx="317880" cy="276480"/>
          </a:xfrm>
        </p:grpSpPr>
        <p:grpSp>
          <p:nvGrpSpPr>
            <p:cNvPr id="1410" name=""/>
            <p:cNvGrpSpPr/>
            <p:nvPr/>
          </p:nvGrpSpPr>
          <p:grpSpPr>
            <a:xfrm>
              <a:off x="6367680" y="4119480"/>
              <a:ext cx="109080" cy="101160"/>
              <a:chOff x="6367680" y="4119480"/>
              <a:chExt cx="109080" cy="101160"/>
            </a:xfrm>
          </p:grpSpPr>
          <p:sp>
            <p:nvSpPr>
              <p:cNvPr id="1411" name=""/>
              <p:cNvSpPr/>
              <p:nvPr/>
            </p:nvSpPr>
            <p:spPr>
              <a:xfrm>
                <a:off x="637524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36768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6158880" y="395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415200" y="416232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406920" y="4038120"/>
            <a:ext cx="545040" cy="12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524640" y="4172040"/>
            <a:ext cx="291960" cy="337320"/>
            <a:chOff x="6524640" y="4172040"/>
            <a:chExt cx="291960" cy="337320"/>
          </a:xfrm>
        </p:grpSpPr>
        <p:sp>
          <p:nvSpPr>
            <p:cNvPr id="1417" name=""/>
            <p:cNvSpPr/>
            <p:nvPr/>
          </p:nvSpPr>
          <p:spPr>
            <a:xfrm>
              <a:off x="6524640" y="41720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5920" y="421992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89040" y="3944880"/>
            <a:ext cx="1983600" cy="510120"/>
            <a:chOff x="689040" y="3944880"/>
            <a:chExt cx="1983600" cy="510120"/>
          </a:xfrm>
        </p:grpSpPr>
        <p:sp>
          <p:nvSpPr>
            <p:cNvPr id="1420" name=""/>
            <p:cNvSpPr/>
            <p:nvPr/>
          </p:nvSpPr>
          <p:spPr>
            <a:xfrm>
              <a:off x="689040" y="3944880"/>
              <a:ext cx="198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= (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Arial Unicode MS"/>
                </a:rPr>
                <a:t>o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)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60560" y="3975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732240" y="43657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 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52480" y="353232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015200" y="2852640"/>
            <a:ext cx="1727280" cy="459720"/>
            <a:chOff x="1015200" y="2852640"/>
            <a:chExt cx="1727280" cy="459720"/>
          </a:xfrm>
        </p:grpSpPr>
        <p:sp>
          <p:nvSpPr>
            <p:cNvPr id="1425" name=""/>
            <p:cNvSpPr/>
            <p:nvPr/>
          </p:nvSpPr>
          <p:spPr>
            <a:xfrm>
              <a:off x="1015200" y="2852640"/>
              <a:ext cx="1727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fr-FR" sz="2400" spc="-1" strike="noStrike">
                  <a:solidFill>
                    <a:srgbClr val="ff33cc"/>
                  </a:solidFill>
                  <a:latin typeface="Comic Sans MS"/>
                </a:rPr>
                <a:t>B 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66560" y="2890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74840" y="3191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0800000">
            <a:off x="1752480" y="48016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86160" y="5192640"/>
            <a:ext cx="45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1560" y="5192640"/>
            <a:ext cx="80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06360" y="5192640"/>
            <a:ext cx="34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6040" y="5181480"/>
            <a:ext cx="33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413400" y="4016520"/>
            <a:ext cx="2125080" cy="967320"/>
            <a:chOff x="6413400" y="4016520"/>
            <a:chExt cx="2125080" cy="967320"/>
          </a:xfrm>
        </p:grpSpPr>
        <p:sp>
          <p:nvSpPr>
            <p:cNvPr id="1434" name=""/>
            <p:cNvSpPr/>
            <p:nvPr/>
          </p:nvSpPr>
          <p:spPr>
            <a:xfrm>
              <a:off x="6413400" y="416880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02280" y="401652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7818480" y="4519080"/>
              <a:ext cx="5205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911360" y="4516200"/>
              <a:ext cx="627120" cy="467640"/>
              <a:chOff x="7911360" y="4516200"/>
              <a:chExt cx="627120" cy="467640"/>
            </a:xfrm>
          </p:grpSpPr>
          <p:sp>
            <p:nvSpPr>
              <p:cNvPr id="1438" name=""/>
              <p:cNvSpPr/>
              <p:nvPr/>
            </p:nvSpPr>
            <p:spPr>
              <a:xfrm rot="20724000">
                <a:off x="7944480" y="4581000"/>
                <a:ext cx="56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8092440" y="4579200"/>
                <a:ext cx="175320" cy="45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922320" y="5610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7280" y="5160960"/>
            <a:ext cx="32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2987640" y="560376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021" h="21600">
                <a:moveTo>
                  <a:pt x="12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021" h="21600">
                <a:moveTo>
                  <a:pt x="9434" y="8224"/>
                </a:moveTo>
                <a:lnTo>
                  <a:pt x="13299" y="8224"/>
                </a:lnTo>
                <a:lnTo>
                  <a:pt x="13299" y="15221"/>
                </a:lnTo>
                <a:lnTo>
                  <a:pt x="14587" y="15221"/>
                </a:lnTo>
                <a:lnTo>
                  <a:pt x="14587" y="16144"/>
                </a:lnTo>
                <a:lnTo>
                  <a:pt x="9434" y="16144"/>
                </a:lnTo>
                <a:lnTo>
                  <a:pt x="9434" y="15221"/>
                </a:lnTo>
                <a:lnTo>
                  <a:pt x="10723" y="15221"/>
                </a:lnTo>
                <a:lnTo>
                  <a:pt x="10723" y="9129"/>
                </a:lnTo>
                <a:lnTo>
                  <a:pt x="9434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1160" y="212652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angle 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1 ra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est un angle, qui, ayant son sommet au centre d'un cerc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49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95280" y="468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97520" y="2418480"/>
            <a:ext cx="77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cepte, sur la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circonfére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 ce cercle,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rc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'une longueur ég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63960" y="2698200"/>
            <a:ext cx="29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à celle du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yon du cerc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23760" y="39481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24360" y="4257720"/>
            <a:ext cx="238320" cy="42552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2360" y="4292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3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64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80960" y="43815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6680" y="190728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n cercle complet représente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ngle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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d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859280" y="414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96000" y="19155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,28 rad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rot="18201600">
            <a:off x="4408200" y="33886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4016160" y="3448080"/>
            <a:ext cx="53964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4764800">
            <a:off x="3636720" y="37252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222720" y="4469760"/>
            <a:ext cx="1333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rot="11349000">
            <a:off x="3507840" y="454140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3640680" y="4694400"/>
            <a:ext cx="925920" cy="98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rot="7959000">
            <a:off x="4116240" y="5114520"/>
            <a:ext cx="44424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62640" y="4710240"/>
            <a:ext cx="32508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4533000">
            <a:off x="4927320" y="491292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555080" y="4696560"/>
            <a:ext cx="1280520" cy="4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97560" y="4695840"/>
            <a:ext cx="54000" cy="318960"/>
          </a:xfrm>
          <a:custGeom>
            <a:avLst/>
            <a:gdLst/>
            <a:ahLst/>
            <a:rect l="l" t="t" r="r" b="b"/>
            <a:pathLst>
              <a:path w="34" h="201">
                <a:moveTo>
                  <a:pt x="0" y="201"/>
                </a:moveTo>
                <a:cubicBezTo>
                  <a:pt x="4" y="190"/>
                  <a:pt x="18" y="154"/>
                  <a:pt x="23" y="134"/>
                </a:cubicBezTo>
                <a:cubicBezTo>
                  <a:pt x="28" y="114"/>
                  <a:pt x="30" y="94"/>
                  <a:pt x="32" y="78"/>
                </a:cubicBezTo>
                <a:cubicBezTo>
                  <a:pt x="34" y="62"/>
                  <a:pt x="34" y="51"/>
                  <a:pt x="34" y="38"/>
                </a:cubicBezTo>
                <a:cubicBezTo>
                  <a:pt x="34" y="25"/>
                  <a:pt x="34" y="8"/>
                  <a:pt x="3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373640" y="3924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2120" y="41562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60920" y="47829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56200" y="5153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1280" y="4976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22280" y="46530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0,28 r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5" action="ppaction://hlinksldjump"/>
          </p:cNvPr>
          <p:cNvSpPr/>
          <p:nvPr/>
        </p:nvSpPr>
        <p:spPr>
          <a:xfrm>
            <a:off x="8424720" y="6093000"/>
            <a:ext cx="505080" cy="549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77">
                <a:moveTo>
                  <a:pt x="0" y="0"/>
                </a:moveTo>
                <a:lnTo>
                  <a:pt x="21600" y="0"/>
                </a:lnTo>
                <a:lnTo>
                  <a:pt x="21600" y="23477"/>
                </a:lnTo>
                <a:lnTo>
                  <a:pt x="0" y="23477"/>
                </a:lnTo>
                <a:close/>
              </a:path>
              <a:path fill="lightenLess" w="21600" h="234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77">
                <a:moveTo>
                  <a:pt x="21600" y="0"/>
                </a:moveTo>
                <a:lnTo>
                  <a:pt x="21600" y="23477"/>
                </a:lnTo>
                <a:lnTo>
                  <a:pt x="20200" y="22077"/>
                </a:lnTo>
                <a:lnTo>
                  <a:pt x="20200" y="1400"/>
                </a:lnTo>
                <a:close/>
              </a:path>
              <a:path fill="darkenLess" w="21600" h="23477">
                <a:moveTo>
                  <a:pt x="21600" y="23477"/>
                </a:moveTo>
                <a:lnTo>
                  <a:pt x="0" y="23477"/>
                </a:lnTo>
                <a:lnTo>
                  <a:pt x="1400" y="22077"/>
                </a:lnTo>
                <a:lnTo>
                  <a:pt x="20200" y="22077"/>
                </a:lnTo>
                <a:close/>
              </a:path>
              <a:path fill="lighten" w="21600" h="23477">
                <a:moveTo>
                  <a:pt x="0" y="234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77"/>
                </a:lnTo>
                <a:close/>
              </a:path>
              <a:path fill="darken" w="21600" h="23477">
                <a:moveTo>
                  <a:pt x="3794" y="8431"/>
                </a:moveTo>
                <a:lnTo>
                  <a:pt x="7301" y="8431"/>
                </a:lnTo>
                <a:lnTo>
                  <a:pt x="7301" y="13766"/>
                </a:lnTo>
                <a:cubicBezTo>
                  <a:pt x="7301" y="14689"/>
                  <a:pt x="8102" y="15420"/>
                  <a:pt x="9138" y="15420"/>
                </a:cubicBezTo>
                <a:lnTo>
                  <a:pt x="10800" y="15420"/>
                </a:lnTo>
                <a:cubicBezTo>
                  <a:pt x="11836" y="15420"/>
                  <a:pt x="12636" y="14689"/>
                  <a:pt x="12636" y="13766"/>
                </a:cubicBezTo>
                <a:lnTo>
                  <a:pt x="12636" y="8431"/>
                </a:lnTo>
                <a:lnTo>
                  <a:pt x="10800" y="8431"/>
                </a:lnTo>
                <a:lnTo>
                  <a:pt x="14308" y="4923"/>
                </a:lnTo>
                <a:lnTo>
                  <a:pt x="17981" y="8431"/>
                </a:lnTo>
                <a:lnTo>
                  <a:pt x="16144" y="8431"/>
                </a:lnTo>
                <a:lnTo>
                  <a:pt x="16144" y="13766"/>
                </a:lnTo>
                <a:cubicBezTo>
                  <a:pt x="16144" y="16534"/>
                  <a:pt x="13568" y="19093"/>
                  <a:pt x="10800" y="19093"/>
                </a:cubicBezTo>
                <a:lnTo>
                  <a:pt x="9138" y="19093"/>
                </a:lnTo>
                <a:cubicBezTo>
                  <a:pt x="6370" y="19093"/>
                  <a:pt x="3794" y="16534"/>
                  <a:pt x="3794" y="1376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3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3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3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882000" y="9428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5840" y="295740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670120"/>
            <a:ext cx="60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1960" y="32446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79720" y="3246480"/>
            <a:ext cx="41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20640" y="1449360"/>
            <a:ext cx="7551720" cy="383400"/>
            <a:chOff x="620640" y="1449360"/>
            <a:chExt cx="7551720" cy="383400"/>
          </a:xfrm>
        </p:grpSpPr>
        <p:sp>
          <p:nvSpPr>
            <p:cNvPr id="1502" name=""/>
            <p:cNvSpPr/>
            <p:nvPr/>
          </p:nvSpPr>
          <p:spPr>
            <a:xfrm>
              <a:off x="620640" y="1464480"/>
              <a:ext cx="755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(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d’un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ce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 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est le résultat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travail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( 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3640" y="14493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20640" y="188676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’ effectue cette mêm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dant u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temp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42040" y="2698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383000" y="32940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48480" y="3351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55640" y="3321000"/>
            <a:ext cx="1332000" cy="611280"/>
            <a:chOff x="1655640" y="3321000"/>
            <a:chExt cx="1332000" cy="611280"/>
          </a:xfrm>
        </p:grpSpPr>
        <p:sp>
          <p:nvSpPr>
            <p:cNvPr id="1509" name=""/>
            <p:cNvSpPr/>
            <p:nvPr/>
          </p:nvSpPr>
          <p:spPr>
            <a:xfrm>
              <a:off x="1655640" y="3321000"/>
              <a:ext cx="1332000" cy="611280"/>
            </a:xfrm>
            <a:prstGeom prst="rightArrow">
              <a:avLst>
                <a:gd name="adj1" fmla="val 50000"/>
                <a:gd name="adj2" fmla="val 544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34527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att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28960" y="4346640"/>
            <a:ext cx="869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*L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watt (symbole W) est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nité du 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uiss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1040" y="5449680"/>
            <a:ext cx="791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terme provient du nom de l'ingénieur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James Wat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qui a contribué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000" y="476028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watt est la puissance d'un système énergétique dans lequel est transfé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7040" y="5108400"/>
            <a:ext cx="4725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énerg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de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jo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endant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secon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200" y="5780160"/>
            <a:ext cx="433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éveloppement de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machine à vape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3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3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21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3330360" y="2084400"/>
            <a:ext cx="2467080" cy="581400"/>
            <a:chOff x="3330360" y="2084400"/>
            <a:chExt cx="2467080" cy="581400"/>
          </a:xfrm>
        </p:grpSpPr>
        <p:sp>
          <p:nvSpPr>
            <p:cNvPr id="1530" name=""/>
            <p:cNvSpPr/>
            <p:nvPr/>
          </p:nvSpPr>
          <p:spPr>
            <a:xfrm>
              <a:off x="3330360" y="2084400"/>
              <a:ext cx="24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35280" y="21193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090960" y="2641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848120" y="2712960"/>
            <a:ext cx="1012680" cy="520560"/>
            <a:chOff x="4848120" y="2712960"/>
            <a:chExt cx="1012680" cy="520560"/>
          </a:xfrm>
        </p:grpSpPr>
        <p:sp>
          <p:nvSpPr>
            <p:cNvPr id="1535" name=""/>
            <p:cNvSpPr/>
            <p:nvPr/>
          </p:nvSpPr>
          <p:spPr>
            <a:xfrm>
              <a:off x="4848120" y="27129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51040" y="27604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896000" y="190188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25520" y="2018520"/>
            <a:ext cx="1266840" cy="736200"/>
          </a:xfrm>
          <a:prstGeom prst="leftArrow">
            <a:avLst>
              <a:gd name="adj1" fmla="val 50000"/>
              <a:gd name="adj2" fmla="val 43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867280" y="2656800"/>
            <a:ext cx="1225800" cy="736200"/>
          </a:xfrm>
          <a:prstGeom prst="leftArrow">
            <a:avLst>
              <a:gd name="adj1" fmla="val 50000"/>
              <a:gd name="adj2" fmla="val 41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41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48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559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3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3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73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251880" y="2301840"/>
            <a:ext cx="3426120" cy="581400"/>
            <a:chOff x="3251880" y="2301840"/>
            <a:chExt cx="3426120" cy="581400"/>
          </a:xfrm>
        </p:grpSpPr>
        <p:grpSp>
          <p:nvGrpSpPr>
            <p:cNvPr id="1583" name=""/>
            <p:cNvGrpSpPr/>
            <p:nvPr/>
          </p:nvGrpSpPr>
          <p:grpSpPr>
            <a:xfrm>
              <a:off x="3251880" y="2301840"/>
              <a:ext cx="3426120" cy="581400"/>
              <a:chOff x="3251880" y="2301840"/>
              <a:chExt cx="3426120" cy="581400"/>
            </a:xfrm>
          </p:grpSpPr>
          <p:sp>
            <p:nvSpPr>
              <p:cNvPr id="1584" name=""/>
              <p:cNvSpPr/>
              <p:nvPr/>
            </p:nvSpPr>
            <p:spPr>
              <a:xfrm>
                <a:off x="3251880" y="2301840"/>
                <a:ext cx="342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N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m.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35280" y="23367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5240160" y="2322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4867920" y="2845080"/>
            <a:ext cx="1054440" cy="963360"/>
          </a:xfrm>
          <a:prstGeom prst="upArrowCallout">
            <a:avLst>
              <a:gd name="adj1" fmla="val 27366"/>
              <a:gd name="adj2" fmla="val 27364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89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93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1847880" y="5958000"/>
            <a:ext cx="904680" cy="496800"/>
            <a:chOff x="1847880" y="5958000"/>
            <a:chExt cx="904680" cy="496800"/>
          </a:xfrm>
        </p:grpSpPr>
        <p:sp>
          <p:nvSpPr>
            <p:cNvPr id="1618" name=""/>
            <p:cNvSpPr/>
            <p:nvPr/>
          </p:nvSpPr>
          <p:spPr>
            <a:xfrm>
              <a:off x="1847880" y="5958000"/>
              <a:ext cx="904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2343960" y="6086520"/>
              <a:ext cx="330120" cy="368280"/>
              <a:chOff x="2343960" y="6086520"/>
              <a:chExt cx="330120" cy="368280"/>
            </a:xfrm>
          </p:grpSpPr>
          <p:sp>
            <p:nvSpPr>
              <p:cNvPr id="1620" name=""/>
              <p:cNvSpPr/>
              <p:nvPr/>
            </p:nvSpPr>
            <p:spPr>
              <a:xfrm>
                <a:off x="2343960" y="60865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97240" y="609768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27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427920" y="1739880"/>
            <a:ext cx="2978640" cy="581400"/>
            <a:chOff x="3427920" y="1739880"/>
            <a:chExt cx="2978640" cy="581400"/>
          </a:xfrm>
        </p:grpSpPr>
        <p:sp>
          <p:nvSpPr>
            <p:cNvPr id="1636" name=""/>
            <p:cNvSpPr/>
            <p:nvPr/>
          </p:nvSpPr>
          <p:spPr>
            <a:xfrm>
              <a:off x="3427920" y="173988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098960" y="1774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3090960" y="230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5392800" y="2368440"/>
            <a:ext cx="1012680" cy="520560"/>
            <a:chOff x="5392800" y="2368440"/>
            <a:chExt cx="1012680" cy="520560"/>
          </a:xfrm>
        </p:grpSpPr>
        <p:sp>
          <p:nvSpPr>
            <p:cNvPr id="1640" name=""/>
            <p:cNvSpPr/>
            <p:nvPr/>
          </p:nvSpPr>
          <p:spPr>
            <a:xfrm>
              <a:off x="5392800" y="236844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5720" y="24159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5454720" y="155736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40400" y="1674000"/>
            <a:ext cx="2345040" cy="736200"/>
          </a:xfrm>
          <a:prstGeom prst="leftArrow">
            <a:avLst>
              <a:gd name="adj1" fmla="val 50000"/>
              <a:gd name="adj2" fmla="val 79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l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427800" y="2312280"/>
            <a:ext cx="1225440" cy="736200"/>
          </a:xfrm>
          <a:prstGeom prst="leftArrow">
            <a:avLst>
              <a:gd name="adj1" fmla="val 50000"/>
              <a:gd name="adj2" fmla="val 41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636360" y="3776760"/>
            <a:ext cx="5446800" cy="2747880"/>
            <a:chOff x="3636360" y="3776760"/>
            <a:chExt cx="5446800" cy="2747880"/>
          </a:xfrm>
        </p:grpSpPr>
        <p:grpSp>
          <p:nvGrpSpPr>
            <p:cNvPr id="1647" name=""/>
            <p:cNvGrpSpPr/>
            <p:nvPr/>
          </p:nvGrpSpPr>
          <p:grpSpPr>
            <a:xfrm>
              <a:off x="4411800" y="4121280"/>
              <a:ext cx="3327120" cy="2403360"/>
              <a:chOff x="4411800" y="4121280"/>
              <a:chExt cx="3327120" cy="240336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4535280" y="4657680"/>
                <a:ext cx="2785680" cy="1425600"/>
                <a:chOff x="4535280" y="4657680"/>
                <a:chExt cx="2785680" cy="142560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4539600" y="4657680"/>
                  <a:ext cx="2773080" cy="5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2929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53636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31772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535280" y="4916520"/>
                  <a:ext cx="2785680" cy="1166760"/>
                </a:xfrm>
                <a:custGeom>
                  <a:avLst/>
                  <a:gdLst/>
                  <a:ahLst/>
                  <a:rect l="l" t="t" r="r" b="b"/>
                  <a:pathLst>
                    <a:path w="1755" h="735">
                      <a:moveTo>
                        <a:pt x="0" y="6"/>
                      </a:moveTo>
                      <a:lnTo>
                        <a:pt x="9" y="36"/>
                      </a:lnTo>
                      <a:lnTo>
                        <a:pt x="57" y="66"/>
                      </a:lnTo>
                      <a:lnTo>
                        <a:pt x="147" y="102"/>
                      </a:lnTo>
                      <a:lnTo>
                        <a:pt x="249" y="123"/>
                      </a:lnTo>
                      <a:lnTo>
                        <a:pt x="402" y="147"/>
                      </a:lnTo>
                      <a:lnTo>
                        <a:pt x="531" y="159"/>
                      </a:lnTo>
                      <a:lnTo>
                        <a:pt x="684" y="171"/>
                      </a:lnTo>
                      <a:lnTo>
                        <a:pt x="837" y="173"/>
                      </a:lnTo>
                      <a:lnTo>
                        <a:pt x="933" y="173"/>
                      </a:lnTo>
                      <a:lnTo>
                        <a:pt x="1041" y="171"/>
                      </a:lnTo>
                      <a:lnTo>
                        <a:pt x="1185" y="162"/>
                      </a:lnTo>
                      <a:lnTo>
                        <a:pt x="1317" y="153"/>
                      </a:lnTo>
                      <a:lnTo>
                        <a:pt x="1407" y="141"/>
                      </a:lnTo>
                      <a:lnTo>
                        <a:pt x="1512" y="123"/>
                      </a:lnTo>
                      <a:lnTo>
                        <a:pt x="1587" y="102"/>
                      </a:lnTo>
                      <a:lnTo>
                        <a:pt x="1662" y="81"/>
                      </a:lnTo>
                      <a:lnTo>
                        <a:pt x="1701" y="63"/>
                      </a:lnTo>
                      <a:lnTo>
                        <a:pt x="1737" y="33"/>
                      </a:lnTo>
                      <a:lnTo>
                        <a:pt x="1755" y="0"/>
                      </a:lnTo>
                      <a:lnTo>
                        <a:pt x="1755" y="561"/>
                      </a:lnTo>
                      <a:lnTo>
                        <a:pt x="1754" y="587"/>
                      </a:lnTo>
                      <a:lnTo>
                        <a:pt x="1722" y="612"/>
                      </a:lnTo>
                      <a:lnTo>
                        <a:pt x="1629" y="651"/>
                      </a:lnTo>
                      <a:lnTo>
                        <a:pt x="1527" y="678"/>
                      </a:lnTo>
                      <a:lnTo>
                        <a:pt x="1380" y="705"/>
                      </a:lnTo>
                      <a:lnTo>
                        <a:pt x="1227" y="720"/>
                      </a:lnTo>
                      <a:lnTo>
                        <a:pt x="1089" y="729"/>
                      </a:lnTo>
                      <a:lnTo>
                        <a:pt x="957" y="735"/>
                      </a:lnTo>
                      <a:lnTo>
                        <a:pt x="813" y="734"/>
                      </a:lnTo>
                      <a:lnTo>
                        <a:pt x="636" y="726"/>
                      </a:lnTo>
                      <a:lnTo>
                        <a:pt x="516" y="720"/>
                      </a:lnTo>
                      <a:lnTo>
                        <a:pt x="395" y="707"/>
                      </a:lnTo>
                      <a:lnTo>
                        <a:pt x="264" y="690"/>
                      </a:lnTo>
                      <a:lnTo>
                        <a:pt x="123" y="654"/>
                      </a:lnTo>
                      <a:lnTo>
                        <a:pt x="41" y="620"/>
                      </a:lnTo>
                      <a:lnTo>
                        <a:pt x="20" y="604"/>
                      </a:lnTo>
                      <a:lnTo>
                        <a:pt x="2" y="58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411800" y="4121280"/>
                <a:ext cx="3327120" cy="2403360"/>
                <a:chOff x="4411800" y="4121280"/>
                <a:chExt cx="3327120" cy="24033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411800" y="490860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948280" y="4121280"/>
                  <a:ext cx="0" cy="240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7199280" y="4653000"/>
              <a:ext cx="1883880" cy="826560"/>
              <a:chOff x="7199280" y="4653000"/>
              <a:chExt cx="1883880" cy="826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28640" y="4653000"/>
                <a:ext cx="115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id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88400" y="497340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7199280" y="4971960"/>
                <a:ext cx="78912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5037120" y="4913280"/>
              <a:ext cx="905040" cy="314640"/>
              <a:chOff x="5037120" y="4913280"/>
              <a:chExt cx="905040" cy="314640"/>
            </a:xfrm>
          </p:grpSpPr>
          <p:sp>
            <p:nvSpPr>
              <p:cNvPr id="1661" name=""/>
              <p:cNvSpPr/>
              <p:nvPr/>
            </p:nvSpPr>
            <p:spPr>
              <a:xfrm flipH="1">
                <a:off x="5292720" y="4913280"/>
                <a:ext cx="64944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5037120" y="4951440"/>
                <a:ext cx="312480" cy="276480"/>
                <a:chOff x="5037120" y="4951440"/>
                <a:chExt cx="312480" cy="27648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5240520" y="5119560"/>
                  <a:ext cx="109080" cy="101160"/>
                  <a:chOff x="5240520" y="5119560"/>
                  <a:chExt cx="109080" cy="1011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24808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524052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037120" y="4951440"/>
                  <a:ext cx="285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7" name=""/>
            <p:cNvSpPr/>
            <p:nvPr/>
          </p:nvSpPr>
          <p:spPr>
            <a:xfrm>
              <a:off x="5631120" y="469728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5288040" y="5160960"/>
              <a:ext cx="541440" cy="453240"/>
              <a:chOff x="5288040" y="5160960"/>
              <a:chExt cx="541440" cy="453240"/>
            </a:xfrm>
          </p:grpSpPr>
          <p:sp>
            <p:nvSpPr>
              <p:cNvPr id="1669" name=""/>
              <p:cNvSpPr/>
              <p:nvPr/>
            </p:nvSpPr>
            <p:spPr>
              <a:xfrm>
                <a:off x="5288040" y="5160960"/>
                <a:ext cx="54144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367600" y="527688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38880" y="532440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05560" y="5005440"/>
              <a:ext cx="752400" cy="246240"/>
              <a:chOff x="5605560" y="5005440"/>
              <a:chExt cx="752400" cy="24624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05560" y="5025960"/>
                <a:ext cx="752400" cy="42840"/>
              </a:xfrm>
              <a:custGeom>
                <a:avLst/>
                <a:gdLst/>
                <a:ahLst/>
                <a:rect l="l" t="t" r="r" b="b"/>
                <a:pathLst>
                  <a:path w="474" h="27">
                    <a:moveTo>
                      <a:pt x="0" y="15"/>
                    </a:moveTo>
                    <a:cubicBezTo>
                      <a:pt x="24" y="16"/>
                      <a:pt x="112" y="22"/>
                      <a:pt x="147" y="24"/>
                    </a:cubicBezTo>
                    <a:cubicBezTo>
                      <a:pt x="182" y="26"/>
                      <a:pt x="190" y="27"/>
                      <a:pt x="213" y="27"/>
                    </a:cubicBezTo>
                    <a:cubicBezTo>
                      <a:pt x="236" y="27"/>
                      <a:pt x="262" y="26"/>
                      <a:pt x="286" y="25"/>
                    </a:cubicBezTo>
                    <a:cubicBezTo>
                      <a:pt x="310" y="24"/>
                      <a:pt x="326" y="22"/>
                      <a:pt x="357" y="18"/>
                    </a:cubicBezTo>
                    <a:cubicBezTo>
                      <a:pt x="388" y="14"/>
                      <a:pt x="450" y="4"/>
                      <a:pt x="474" y="0"/>
                    </a:cubicBez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95000" y="500544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946840" y="4911840"/>
              <a:ext cx="826920" cy="225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636360" y="3776760"/>
              <a:ext cx="2295720" cy="663480"/>
              <a:chOff x="3636360" y="3776760"/>
              <a:chExt cx="2295720" cy="66348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32080" y="41212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9840" y="4121280"/>
                <a:ext cx="55224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36360" y="3776760"/>
                <a:ext cx="183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xe de ro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5297400" y="5162400"/>
              <a:ext cx="0" cy="89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08080" y="4929120"/>
              <a:ext cx="317880" cy="276480"/>
              <a:chOff x="6508080" y="4929120"/>
              <a:chExt cx="317880" cy="27648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716880" y="5097240"/>
                <a:ext cx="109080" cy="101160"/>
                <a:chOff x="6716880" y="5097240"/>
                <a:chExt cx="109080" cy="1011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72444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671688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6508080" y="4929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 flipV="1">
              <a:off x="6762600" y="5015880"/>
              <a:ext cx="545040" cy="129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6880320" y="5149800"/>
              <a:ext cx="291960" cy="337320"/>
              <a:chOff x="6880320" y="5149800"/>
              <a:chExt cx="291960" cy="337320"/>
            </a:xfrm>
          </p:grpSpPr>
          <p:sp>
            <p:nvSpPr>
              <p:cNvPr id="1688" name=""/>
              <p:cNvSpPr/>
              <p:nvPr/>
            </p:nvSpPr>
            <p:spPr>
              <a:xfrm>
                <a:off x="6880320" y="514980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51600" y="519768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6777000" y="5162400"/>
              <a:ext cx="0" cy="85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3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9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437280" y="1959120"/>
            <a:ext cx="3394800" cy="581400"/>
            <a:chOff x="3437280" y="1959120"/>
            <a:chExt cx="3394800" cy="581400"/>
          </a:xfrm>
        </p:grpSpPr>
        <p:sp>
          <p:nvSpPr>
            <p:cNvPr id="1703" name=""/>
            <p:cNvSpPr/>
            <p:nvPr/>
          </p:nvSpPr>
          <p:spPr>
            <a:xfrm>
              <a:off x="3437280" y="1959120"/>
              <a:ext cx="339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98960" y="19936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07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14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18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20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26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30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34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39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745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75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65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72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76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2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84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88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92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97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98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803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219120" y="2595960"/>
            <a:ext cx="1034640" cy="963360"/>
          </a:xfrm>
          <a:prstGeom prst="upArrowCallout">
            <a:avLst>
              <a:gd name="adj1" fmla="val 26852"/>
              <a:gd name="adj2" fmla="val 26850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0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925560" y="1905120"/>
            <a:ext cx="1881000" cy="4024080"/>
            <a:chOff x="925560" y="1905120"/>
            <a:chExt cx="1881000" cy="4024080"/>
          </a:xfrm>
        </p:grpSpPr>
        <p:grpSp>
          <p:nvGrpSpPr>
            <p:cNvPr id="1817" name=""/>
            <p:cNvGrpSpPr/>
            <p:nvPr/>
          </p:nvGrpSpPr>
          <p:grpSpPr>
            <a:xfrm>
              <a:off x="1547640" y="4809960"/>
              <a:ext cx="276480" cy="1050840"/>
              <a:chOff x="1547640" y="4809960"/>
              <a:chExt cx="276480" cy="1050840"/>
            </a:xfrm>
          </p:grpSpPr>
          <p:sp>
            <p:nvSpPr>
              <p:cNvPr id="1818" name=""/>
              <p:cNvSpPr/>
              <p:nvPr/>
            </p:nvSpPr>
            <p:spPr>
              <a:xfrm>
                <a:off x="1547640" y="48099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85880" y="507996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547640" y="558468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50880" y="2714760"/>
              <a:ext cx="276480" cy="2373120"/>
              <a:chOff x="1550880" y="2714760"/>
              <a:chExt cx="276480" cy="23731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50880" y="2714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87680" y="3005280"/>
                <a:ext cx="0" cy="18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50880" y="4811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955800" y="2265480"/>
              <a:ext cx="1446120" cy="996840"/>
              <a:chOff x="955800" y="2265480"/>
              <a:chExt cx="1446120" cy="996840"/>
            </a:xfrm>
          </p:grpSpPr>
          <p:sp>
            <p:nvSpPr>
              <p:cNvPr id="1826" name=""/>
              <p:cNvSpPr/>
              <p:nvPr/>
            </p:nvSpPr>
            <p:spPr>
              <a:xfrm>
                <a:off x="9558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716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476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157400" y="5533920"/>
              <a:ext cx="379080" cy="395280"/>
              <a:chOff x="1157400" y="5533920"/>
              <a:chExt cx="379080" cy="39528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1333080" y="571500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1157400" y="5533920"/>
                <a:ext cx="172800" cy="395280"/>
                <a:chOff x="1157400" y="5533920"/>
                <a:chExt cx="172800" cy="39528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30200" y="553572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57400" y="5533920"/>
                  <a:ext cx="166680" cy="385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925560" y="1905120"/>
              <a:ext cx="1503360" cy="2717640"/>
            </a:xfrm>
            <a:custGeom>
              <a:avLst/>
              <a:gdLst/>
              <a:ahLst/>
              <a:rect l="l" t="t" r="r" b="b"/>
              <a:pathLst>
                <a:path w="947" h="1712">
                  <a:moveTo>
                    <a:pt x="0" y="1686"/>
                  </a:moveTo>
                  <a:lnTo>
                    <a:pt x="0" y="0"/>
                  </a:lnTo>
                  <a:lnTo>
                    <a:pt x="947" y="0"/>
                  </a:lnTo>
                  <a:lnTo>
                    <a:pt x="947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2427480" y="3184560"/>
              <a:ext cx="379080" cy="395280"/>
              <a:chOff x="2427480" y="3184560"/>
              <a:chExt cx="379080" cy="39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2427480" y="339876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33760" y="3184560"/>
                <a:ext cx="172800" cy="395280"/>
                <a:chOff x="2633760" y="3184560"/>
                <a:chExt cx="172800" cy="39528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33760" y="318456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0800000">
                  <a:off x="2639880" y="3193920"/>
                  <a:ext cx="166680" cy="38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0" name=""/>
          <p:cNvGrpSpPr/>
          <p:nvPr/>
        </p:nvGrpSpPr>
        <p:grpSpPr>
          <a:xfrm>
            <a:off x="2411280" y="3633840"/>
            <a:ext cx="2988000" cy="276480"/>
            <a:chOff x="2411280" y="3633840"/>
            <a:chExt cx="2988000" cy="276480"/>
          </a:xfrm>
        </p:grpSpPr>
        <p:sp>
          <p:nvSpPr>
            <p:cNvPr id="1841" name=""/>
            <p:cNvSpPr/>
            <p:nvPr/>
          </p:nvSpPr>
          <p:spPr>
            <a:xfrm>
              <a:off x="2411280" y="389736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35240" y="3633840"/>
              <a:ext cx="22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organes fi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625760" y="1376280"/>
            <a:ext cx="2514240" cy="858600"/>
            <a:chOff x="1625760" y="1376280"/>
            <a:chExt cx="2514240" cy="858600"/>
          </a:xfrm>
        </p:grpSpPr>
        <p:sp>
          <p:nvSpPr>
            <p:cNvPr id="1844" name=""/>
            <p:cNvSpPr/>
            <p:nvPr/>
          </p:nvSpPr>
          <p:spPr>
            <a:xfrm>
              <a:off x="2385000" y="1376280"/>
              <a:ext cx="175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1625760" y="1596600"/>
              <a:ext cx="63792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63680" y="159696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14680" y="4229280"/>
            <a:ext cx="2409480" cy="276480"/>
            <a:chOff x="1714680" y="4229280"/>
            <a:chExt cx="2409480" cy="276480"/>
          </a:xfrm>
        </p:grpSpPr>
        <p:sp>
          <p:nvSpPr>
            <p:cNvPr id="1848" name=""/>
            <p:cNvSpPr/>
            <p:nvPr/>
          </p:nvSpPr>
          <p:spPr>
            <a:xfrm>
              <a:off x="1714680" y="44924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4680" y="4229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bi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685880" y="5056200"/>
            <a:ext cx="2815560" cy="276480"/>
            <a:chOff x="1685880" y="5056200"/>
            <a:chExt cx="2815560" cy="276480"/>
          </a:xfrm>
        </p:grpSpPr>
        <p:sp>
          <p:nvSpPr>
            <p:cNvPr id="1851" name=""/>
            <p:cNvSpPr/>
            <p:nvPr/>
          </p:nvSpPr>
          <p:spPr>
            <a:xfrm>
              <a:off x="1685880" y="5319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88240" y="5056200"/>
              <a:ext cx="21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vilebrequ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5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6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6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6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2" name=""/>
          <p:cNvGrpSpPr/>
          <p:nvPr/>
        </p:nvGrpSpPr>
        <p:grpSpPr>
          <a:xfrm>
            <a:off x="957240" y="2265480"/>
            <a:ext cx="1446120" cy="996840"/>
            <a:chOff x="957240" y="2265480"/>
            <a:chExt cx="1446120" cy="996840"/>
          </a:xfrm>
        </p:grpSpPr>
        <p:sp>
          <p:nvSpPr>
            <p:cNvPr id="1873" name=""/>
            <p:cNvSpPr/>
            <p:nvPr/>
          </p:nvSpPr>
          <p:spPr>
            <a:xfrm>
              <a:off x="95724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7308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4908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57400" y="2963880"/>
            <a:ext cx="61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3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3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3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3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3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3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3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3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8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92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95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9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0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1904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46600" y="2963880"/>
            <a:ext cx="63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934920" y="1924200"/>
            <a:ext cx="1478160" cy="331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065400" y="340056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 conséquent, lors des calculs suivants nous utiliserons une va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162600" y="369900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 « pression fictive » appelée 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3.88889E-006 0.22778 E">
                                      <p:cBhvr>
                                        <p:cTn id="1992" dur="20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3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3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24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28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931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935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37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1941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334680" y="2238480"/>
            <a:ext cx="37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1949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1961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1964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1969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1972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1977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1986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3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3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3000"/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3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3000"/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03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5200" y="4076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é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25035 -0.09792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3681 -0.01227 E">
                                      <p:cBhvr>
                                        <p:cTn id="2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95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99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002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00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0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2012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355920" y="2238480"/>
            <a:ext cx="38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fr-FR" sz="1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020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026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032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035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040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043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048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055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059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061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4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065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066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072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074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081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584360" y="2281320"/>
            <a:ext cx="732240" cy="749160"/>
            <a:chOff x="1584360" y="2281320"/>
            <a:chExt cx="732240" cy="749160"/>
          </a:xfrm>
        </p:grpSpPr>
        <p:sp>
          <p:nvSpPr>
            <p:cNvPr id="2086" name=""/>
            <p:cNvSpPr/>
            <p:nvPr/>
          </p:nvSpPr>
          <p:spPr>
            <a:xfrm>
              <a:off x="1584360" y="2281320"/>
              <a:ext cx="216000" cy="718920"/>
            </a:xfrm>
            <a:prstGeom prst="downArrow">
              <a:avLst>
                <a:gd name="adj1" fmla="val 50000"/>
                <a:gd name="adj2" fmla="val 83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751760" y="2313000"/>
              <a:ext cx="564840" cy="717480"/>
              <a:chOff x="1751760" y="2313000"/>
              <a:chExt cx="564840" cy="71748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51760" y="2313000"/>
                <a:ext cx="5648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74880" y="234000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5" dur="indefinite" restart="never" nodeType="tmRoot">
          <p:childTnLst>
            <p:seq>
              <p:cTn id="2116" dur="indefinite" nodeType="mainSeq">
                <p:childTnLst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3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3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3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3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3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3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3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09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10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10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10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11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340080" y="2238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117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5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129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132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137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140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145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152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156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158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1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162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169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171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178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183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185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3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172" dur="2000" fill="hold"/>
                                        <p:tgtEl>
                                          <p:spTgt spid="2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19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3090960" y="1341360"/>
            <a:ext cx="5130000" cy="307080"/>
            <a:chOff x="3090960" y="1341360"/>
            <a:chExt cx="5130000" cy="307080"/>
          </a:xfrm>
        </p:grpSpPr>
        <p:sp>
          <p:nvSpPr>
            <p:cNvPr id="2201" name=""/>
            <p:cNvSpPr/>
            <p:nvPr/>
          </p:nvSpPr>
          <p:spPr>
            <a:xfrm>
              <a:off x="3090960" y="134136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fournie par le pis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03200" y="134136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ntre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86240" y="134136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205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0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343680" y="2238480"/>
            <a:ext cx="33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Travail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ffectué par le piston: W =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590,3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57640" y="251316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emps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is par le piston entre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B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219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221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225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9" name=""/>
          <p:cNvSpPr/>
          <p:nvPr/>
        </p:nvSpPr>
        <p:spPr>
          <a:xfrm>
            <a:off x="24120" y="22068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-720" y="380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7255080" y="2492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9520" y="3249720"/>
            <a:ext cx="1843920" cy="1140480"/>
            <a:chOff x="3629520" y="3249720"/>
            <a:chExt cx="1843920" cy="1140480"/>
          </a:xfrm>
        </p:grpSpPr>
        <p:grpSp>
          <p:nvGrpSpPr>
            <p:cNvPr id="2233" name=""/>
            <p:cNvGrpSpPr/>
            <p:nvPr/>
          </p:nvGrpSpPr>
          <p:grpSpPr>
            <a:xfrm>
              <a:off x="3746880" y="3249720"/>
              <a:ext cx="1726560" cy="1131480"/>
              <a:chOff x="3746880" y="3249720"/>
              <a:chExt cx="1726560" cy="1131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746880" y="3537000"/>
                <a:ext cx="577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65720" y="3249720"/>
                <a:ext cx="603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383000" y="3824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483080" y="3860640"/>
                <a:ext cx="414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33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996633"/>
                    </a:solidFill>
                    <a:latin typeface="Comic Sans MS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022720" y="32781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J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63680" y="3873600"/>
                <a:ext cx="50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3629520" y="393048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5706720" y="35863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89200" y="3394080"/>
            <a:ext cx="75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59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26280" y="38242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78760" y="3933720"/>
            <a:ext cx="75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0,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7230600" y="3586320"/>
            <a:ext cx="1403640" cy="459720"/>
            <a:chOff x="7230600" y="3586320"/>
            <a:chExt cx="1403640" cy="459720"/>
          </a:xfrm>
        </p:grpSpPr>
        <p:sp>
          <p:nvSpPr>
            <p:cNvPr id="2246" name=""/>
            <p:cNvSpPr/>
            <p:nvPr/>
          </p:nvSpPr>
          <p:spPr>
            <a:xfrm>
              <a:off x="7230600" y="35863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78720" y="3635280"/>
              <a:ext cx="1055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73790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3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3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3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211" dur="2000" fill="hold"/>
                                        <p:tgtEl>
                                          <p:spTgt spid="2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3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86280" y="1341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induite ,en bout  de vilebrequ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54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241800" y="2238480"/>
            <a:ext cx="36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urnie par le piston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264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268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272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276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278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82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84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6" name=""/>
          <p:cNvSpPr/>
          <p:nvPr/>
        </p:nvSpPr>
        <p:spPr>
          <a:xfrm>
            <a:off x="3086640" y="3306600"/>
            <a:ext cx="55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négligeant les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tes d’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ors de la transmission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11760" y="3621240"/>
            <a:ext cx="58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st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ilebrequ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l’intermédiaire de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el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069000" y="3948120"/>
            <a:ext cx="56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 puissanc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 vilebrequin  (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 moteu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sera égale à c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672000" y="4927680"/>
            <a:ext cx="900000" cy="252360"/>
          </a:xfrm>
          <a:prstGeom prst="rightArrow">
            <a:avLst>
              <a:gd name="adj1" fmla="val 50000"/>
              <a:gd name="adj2" fmla="val 891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737960" y="48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P. Mot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7379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128400" y="42577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nie par le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3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3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3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3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3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3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3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117960" y="134136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Couple moteur maxi ( CM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9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25600" y="22384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oteur au couple maxi :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M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308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312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316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320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322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32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2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916600" y="3162240"/>
            <a:ext cx="360360" cy="250920"/>
          </a:xfrm>
          <a:prstGeom prst="rightArrow">
            <a:avLst>
              <a:gd name="adj1" fmla="val 50000"/>
              <a:gd name="adj2" fmla="val 359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01480" y="2525760"/>
            <a:ext cx="42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Vitesse moteur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au couple maxi: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= 3750 tr.mi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222000" y="2997360"/>
            <a:ext cx="1967400" cy="469080"/>
            <a:chOff x="3222000" y="2997360"/>
            <a:chExt cx="1967400" cy="469080"/>
          </a:xfrm>
        </p:grpSpPr>
        <p:sp>
          <p:nvSpPr>
            <p:cNvPr id="2334" name=""/>
            <p:cNvSpPr/>
            <p:nvPr/>
          </p:nvSpPr>
          <p:spPr>
            <a:xfrm>
              <a:off x="3222000" y="2997360"/>
              <a:ext cx="372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87480" y="30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61040" y="299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 . </a:t>
              </a:r>
              <a:r>
                <a:rPr b="1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3109320" y="3249720"/>
            <a:ext cx="2827440" cy="461160"/>
            <a:chOff x="3109320" y="3249720"/>
            <a:chExt cx="2827440" cy="461160"/>
          </a:xfrm>
        </p:grpSpPr>
        <p:sp>
          <p:nvSpPr>
            <p:cNvPr id="2338" name=""/>
            <p:cNvSpPr/>
            <p:nvPr/>
          </p:nvSpPr>
          <p:spPr>
            <a:xfrm>
              <a:off x="3109320" y="3325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58920" y="32511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7960" y="32497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6386760" y="3044880"/>
            <a:ext cx="2206080" cy="459720"/>
            <a:chOff x="6386760" y="3044880"/>
            <a:chExt cx="2206080" cy="459720"/>
          </a:xfrm>
        </p:grpSpPr>
        <p:sp>
          <p:nvSpPr>
            <p:cNvPr id="2342" name=""/>
            <p:cNvSpPr/>
            <p:nvPr/>
          </p:nvSpPr>
          <p:spPr>
            <a:xfrm>
              <a:off x="6386760" y="3106800"/>
              <a:ext cx="53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80680" y="304488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94480" y="31068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M . </a:t>
              </a: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 rot="5400000">
            <a:off x="7174080" y="3706920"/>
            <a:ext cx="374400" cy="250560"/>
          </a:xfrm>
          <a:prstGeom prst="rightArrow">
            <a:avLst>
              <a:gd name="adj1" fmla="val 50000"/>
              <a:gd name="adj2" fmla="val 37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6580800" y="4041720"/>
            <a:ext cx="1697760" cy="806400"/>
            <a:chOff x="6580800" y="4041720"/>
            <a:chExt cx="1697760" cy="806400"/>
          </a:xfrm>
        </p:grpSpPr>
        <p:sp>
          <p:nvSpPr>
            <p:cNvPr id="2347" name=""/>
            <p:cNvSpPr/>
            <p:nvPr/>
          </p:nvSpPr>
          <p:spPr>
            <a:xfrm>
              <a:off x="6580800" y="4260960"/>
              <a:ext cx="54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66440" y="419904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4160" y="447984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0360" y="40417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51440" y="443700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"/>
          <p:cNvSpPr/>
          <p:nvPr/>
        </p:nvSpPr>
        <p:spPr>
          <a:xfrm rot="5400000">
            <a:off x="7678440" y="4930560"/>
            <a:ext cx="374400" cy="250920"/>
          </a:xfrm>
          <a:prstGeom prst="rightArrow">
            <a:avLst>
              <a:gd name="adj1" fmla="val 50000"/>
              <a:gd name="adj2" fmla="val 373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7449120" y="5300640"/>
            <a:ext cx="892440" cy="806400"/>
            <a:chOff x="7449120" y="5300640"/>
            <a:chExt cx="892440" cy="806400"/>
          </a:xfrm>
        </p:grpSpPr>
        <p:sp>
          <p:nvSpPr>
            <p:cNvPr id="2354" name=""/>
            <p:cNvSpPr/>
            <p:nvPr/>
          </p:nvSpPr>
          <p:spPr>
            <a:xfrm>
              <a:off x="7711920" y="573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449120" y="53006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615080" y="569592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965480" y="5373720"/>
            <a:ext cx="1649880" cy="731880"/>
            <a:chOff x="4965480" y="5373720"/>
            <a:chExt cx="1649880" cy="731880"/>
          </a:xfrm>
        </p:grpSpPr>
        <p:sp>
          <p:nvSpPr>
            <p:cNvPr id="2358" name=""/>
            <p:cNvSpPr/>
            <p:nvPr/>
          </p:nvSpPr>
          <p:spPr>
            <a:xfrm>
              <a:off x="5689800" y="5737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65480" y="5373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. 3,14 . 37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19640" y="57340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 rot="10800000">
            <a:off x="6708240" y="554472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420880" y="4508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9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rot="16200000">
            <a:off x="5618160" y="507960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635760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72000" y="4476600"/>
            <a:ext cx="2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472000" y="44737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24120" y="40719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73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1464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831120" y="4264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027440" y="5132520"/>
            <a:ext cx="122472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92640" y="4768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3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3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3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3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3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2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3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3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3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6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2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27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4680" y="40766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6771 -0.05764 E">
                                      <p:cBhvr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4514 -0.01666 E">
                                      <p:cBhvr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52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600" y="4076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5278 -0.01481 E">
                                      <p:cBhvr>
                                        <p:cTn id="24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63784 -0.10509 E">
                                      <p:cBhvr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98560" y="6148440"/>
            <a:ext cx="8094600" cy="257040"/>
            <a:chOff x="898560" y="6148440"/>
            <a:chExt cx="8094600" cy="257040"/>
          </a:xfrm>
        </p:grpSpPr>
        <p:sp>
          <p:nvSpPr>
            <p:cNvPr id="172" name=""/>
            <p:cNvSpPr/>
            <p:nvPr/>
          </p:nvSpPr>
          <p:spPr>
            <a:xfrm>
              <a:off x="898560" y="6153120"/>
              <a:ext cx="806616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75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7720" y="5281560"/>
            <a:ext cx="662040" cy="863640"/>
            <a:chOff x="6327720" y="5281560"/>
            <a:chExt cx="662040" cy="863640"/>
          </a:xfrm>
        </p:grpSpPr>
        <p:sp>
          <p:nvSpPr>
            <p:cNvPr id="179" name=""/>
            <p:cNvSpPr/>
            <p:nvPr/>
          </p:nvSpPr>
          <p:spPr>
            <a:xfrm>
              <a:off x="66564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73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77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748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2.22222E-006 L 0.55782 2.22222E-006 E">
                                      <p:cBhvr>
                                        <p:cTn id="29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191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94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198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8760" y="5013360"/>
            <a:ext cx="2146320" cy="1135080"/>
            <a:chOff x="1598760" y="5013360"/>
            <a:chExt cx="2146320" cy="1135080"/>
          </a:xfrm>
        </p:grpSpPr>
        <p:sp>
          <p:nvSpPr>
            <p:cNvPr id="204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808600"/>
              <a:ext cx="771480" cy="333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8760" y="59706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0240" y="58593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cubicBezTo>
                    <a:pt x="3" y="29"/>
                    <a:pt x="5" y="39"/>
                    <a:pt x="17" y="10"/>
                  </a:cubicBezTo>
                  <a:cubicBezTo>
                    <a:pt x="18" y="1"/>
                    <a:pt x="20" y="1"/>
                    <a:pt x="29" y="0"/>
                  </a:cubicBezTo>
                  <a:cubicBezTo>
                    <a:pt x="35" y="8"/>
                    <a:pt x="31" y="18"/>
                    <a:pt x="27" y="27"/>
                  </a:cubicBezTo>
                  <a:cubicBezTo>
                    <a:pt x="25" y="38"/>
                    <a:pt x="11" y="39"/>
                    <a:pt x="6" y="51"/>
                  </a:cubicBezTo>
                  <a:cubicBezTo>
                    <a:pt x="5" y="58"/>
                    <a:pt x="6" y="65"/>
                    <a:pt x="0" y="6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595620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11"/>
                  </a:moveTo>
                  <a:cubicBezTo>
                    <a:pt x="9" y="7"/>
                    <a:pt x="17" y="4"/>
                    <a:pt x="26" y="0"/>
                  </a:cubicBezTo>
                  <a:cubicBezTo>
                    <a:pt x="35" y="2"/>
                    <a:pt x="40" y="0"/>
                    <a:pt x="42" y="9"/>
                  </a:cubicBezTo>
                  <a:cubicBezTo>
                    <a:pt x="41" y="27"/>
                    <a:pt x="45" y="48"/>
                    <a:pt x="23" y="32"/>
                  </a:cubicBezTo>
                  <a:cubicBezTo>
                    <a:pt x="20" y="27"/>
                    <a:pt x="7" y="4"/>
                    <a:pt x="0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374920" y="5553000"/>
              <a:ext cx="8287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771640" y="5013360"/>
              <a:ext cx="97344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55694 2.59259E-006 E">
                                      <p:cBhvr>
                                        <p:cTn id="311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49:43Z</dcterms:created>
  <dc:creator>GENERIQUE</dc:creator>
  <dc:description/>
  <dc:language>en-US</dc:language>
  <cp:lastModifiedBy>GENERIQUE</cp:lastModifiedBy>
  <dcterms:modified xsi:type="dcterms:W3CDTF">2010-05-04T14:31:57Z</dcterms:modified>
  <cp:revision>343</cp:revision>
  <dc:subject/>
  <dc:title>Diapositive 1</dc:title>
</cp:coreProperties>
</file>