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183-7C3E-4D0D-83A4-DEEDF370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C319-CD46-4778-A260-2CEE65A2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38F8-F116-45AB-B865-55021273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A51-2B7E-4142-9155-9F18379A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5831-5148-48F7-BD9C-4AED9005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AA43-8EB7-4370-A808-7081ABF2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AA41-D505-44F8-9695-A3DE5615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574-BE2C-4457-B1B7-34344583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C794-6E4B-401B-80C0-1DC071A9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CB6-ED58-4D09-A6D9-BD4588D6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0999-CD0A-47E5-94FF-54CF5492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BE3-CA15-4569-B78D-B8B97E8A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30CC-5C10-4DEC-B416-CBD585A7B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0"/>
            <a:ext cx="9067680" cy="6858000"/>
          </a:xfrm>
          <a:prstGeom prst="rect">
            <a:avLst/>
          </a:prstGeom>
          <a:solidFill>
            <a:srgbClr val="111111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079640" y="453960"/>
            <a:ext cx="7586640" cy="5991840"/>
            <a:chOff x="1079640" y="453960"/>
            <a:chExt cx="7586640" cy="5991840"/>
          </a:xfrm>
        </p:grpSpPr>
        <p:sp>
          <p:nvSpPr>
            <p:cNvPr id="43" name=""/>
            <p:cNvSpPr/>
            <p:nvPr/>
          </p:nvSpPr>
          <p:spPr>
            <a:xfrm>
              <a:off x="1954800" y="3494160"/>
              <a:ext cx="5902560" cy="4546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ssion en fonction de la position du pis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54280" y="4156200"/>
              <a:ext cx="6686280" cy="155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UT 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Montrer l’importance d’une bonne combustion déflagrante par rapport à une combustion détonan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57360" y="4838760"/>
              <a:ext cx="7051680" cy="974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361280" y="5991120"/>
              <a:ext cx="1217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L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79640" y="453960"/>
              <a:ext cx="7586640" cy="252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Times New Roman"/>
                </a:rPr>
                <a:t>Pression de combustion 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0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602320" y="349200"/>
            <a:ext cx="2228760" cy="20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13520" y="2859120"/>
            <a:ext cx="847800" cy="18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54760" y="582480"/>
            <a:ext cx="46512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92600" y="781200"/>
            <a:ext cx="2076120" cy="24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80160" y="3441600"/>
            <a:ext cx="1081080" cy="30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07160" y="2486160"/>
            <a:ext cx="129960" cy="80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1760" y="2743200"/>
            <a:ext cx="11772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49920" y="2619360"/>
            <a:ext cx="889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37320" y="2701800"/>
            <a:ext cx="361800" cy="17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19920" y="3505320"/>
            <a:ext cx="50472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38960" y="3994200"/>
            <a:ext cx="4795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07000" y="2400480"/>
            <a:ext cx="7308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26080" y="2409840"/>
            <a:ext cx="13032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45160" y="2390760"/>
            <a:ext cx="28260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31080" y="415800"/>
            <a:ext cx="88920" cy="31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00960" y="4371840"/>
            <a:ext cx="10141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16800" y="4122720"/>
            <a:ext cx="3333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6600" y="4255920"/>
            <a:ext cx="349200" cy="2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9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0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602320" y="349200"/>
            <a:ext cx="2228760" cy="20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54760" y="582480"/>
            <a:ext cx="46512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2600" y="781200"/>
            <a:ext cx="2077920" cy="24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580160" y="6466680"/>
            <a:ext cx="108108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07160" y="2486160"/>
            <a:ext cx="129960" cy="80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1760" y="2743200"/>
            <a:ext cx="11772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49920" y="2619360"/>
            <a:ext cx="889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37320" y="2701800"/>
            <a:ext cx="361800" cy="17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3505320"/>
            <a:ext cx="50472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38960" y="3994200"/>
            <a:ext cx="4795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07000" y="2400480"/>
            <a:ext cx="7308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26080" y="2409840"/>
            <a:ext cx="13032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45160" y="2390760"/>
            <a:ext cx="28260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00960" y="4371840"/>
            <a:ext cx="10141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16800" y="4122720"/>
            <a:ext cx="3333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39120" y="4497480"/>
            <a:ext cx="27936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931160" y="4533840"/>
            <a:ext cx="889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20000" y="4614840"/>
            <a:ext cx="22860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148600" y="4633920"/>
            <a:ext cx="114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8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9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0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602320" y="349200"/>
            <a:ext cx="2228760" cy="20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54760" y="582480"/>
            <a:ext cx="46512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92600" y="781200"/>
            <a:ext cx="2077920" cy="24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580160" y="6466680"/>
            <a:ext cx="108108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07160" y="2486160"/>
            <a:ext cx="129960" cy="80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11760" y="2743200"/>
            <a:ext cx="11772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49920" y="2619360"/>
            <a:ext cx="889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2701800"/>
            <a:ext cx="361800" cy="17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3505320"/>
            <a:ext cx="50472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38960" y="3994200"/>
            <a:ext cx="4795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07000" y="2400480"/>
            <a:ext cx="7308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26080" y="2409840"/>
            <a:ext cx="13032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45160" y="2390760"/>
            <a:ext cx="28260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00960" y="4371840"/>
            <a:ext cx="10141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16800" y="4122720"/>
            <a:ext cx="3333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39120" y="4497480"/>
            <a:ext cx="27936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31160" y="4533840"/>
            <a:ext cx="889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920000" y="4614840"/>
            <a:ext cx="22860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148600" y="4633920"/>
            <a:ext cx="114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6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8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9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0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5602320" y="349200"/>
            <a:ext cx="22287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54760" y="1459080"/>
            <a:ext cx="465120" cy="17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92600" y="1620720"/>
            <a:ext cx="2077920" cy="16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7580160" y="6466680"/>
            <a:ext cx="108108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05440" y="2352600"/>
            <a:ext cx="457200" cy="2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29280" y="2562120"/>
            <a:ext cx="324000" cy="4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67480" y="4057560"/>
            <a:ext cx="371520" cy="44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39080" y="3876840"/>
            <a:ext cx="49536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91240" y="3467160"/>
            <a:ext cx="49536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48520" y="2352600"/>
            <a:ext cx="155232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94280" y="2341440"/>
            <a:ext cx="4284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5838840" y="2441520"/>
            <a:ext cx="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53160" y="2470320"/>
            <a:ext cx="4680" cy="172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99160" y="2598840"/>
            <a:ext cx="11160" cy="26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00680" y="2424240"/>
            <a:ext cx="0" cy="150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48200" y="2381400"/>
            <a:ext cx="0" cy="23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10400" y="1905120"/>
            <a:ext cx="0" cy="79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680080" y="1898640"/>
            <a:ext cx="0" cy="1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20040" y="801720"/>
            <a:ext cx="279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78000" y="282600"/>
            <a:ext cx="747360" cy="26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5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6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7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8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9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10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78000" y="282600"/>
            <a:ext cx="747360" cy="26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62000" y="5869080"/>
            <a:ext cx="509760" cy="441360"/>
          </a:xfrm>
          <a:custGeom>
            <a:avLst/>
            <a:gdLst/>
            <a:ahLst/>
            <a:rect l="l" t="t" r="r" b="b"/>
            <a:pathLst>
              <a:path w="4172" h="3609">
                <a:moveTo>
                  <a:pt x="2086" y="1524"/>
                </a:moveTo>
                <a:lnTo>
                  <a:pt x="3508" y="0"/>
                </a:lnTo>
                <a:lnTo>
                  <a:pt x="3508" y="0"/>
                </a:lnTo>
                <a:lnTo>
                  <a:pt x="3561" y="50"/>
                </a:lnTo>
                <a:lnTo>
                  <a:pt x="3611" y="103"/>
                </a:lnTo>
                <a:lnTo>
                  <a:pt x="3660" y="156"/>
                </a:lnTo>
                <a:lnTo>
                  <a:pt x="3707" y="212"/>
                </a:lnTo>
                <a:lnTo>
                  <a:pt x="3752" y="269"/>
                </a:lnTo>
                <a:lnTo>
                  <a:pt x="3795" y="328"/>
                </a:lnTo>
                <a:lnTo>
                  <a:pt x="3835" y="388"/>
                </a:lnTo>
                <a:lnTo>
                  <a:pt x="3874" y="450"/>
                </a:lnTo>
                <a:lnTo>
                  <a:pt x="3910" y="513"/>
                </a:lnTo>
                <a:lnTo>
                  <a:pt x="3944" y="577"/>
                </a:lnTo>
                <a:lnTo>
                  <a:pt x="3977" y="643"/>
                </a:lnTo>
                <a:lnTo>
                  <a:pt x="4006" y="709"/>
                </a:lnTo>
                <a:lnTo>
                  <a:pt x="4033" y="776"/>
                </a:lnTo>
                <a:lnTo>
                  <a:pt x="4059" y="845"/>
                </a:lnTo>
                <a:lnTo>
                  <a:pt x="4081" y="914"/>
                </a:lnTo>
                <a:lnTo>
                  <a:pt x="4101" y="984"/>
                </a:lnTo>
                <a:lnTo>
                  <a:pt x="4118" y="1055"/>
                </a:lnTo>
                <a:lnTo>
                  <a:pt x="4133" y="1126"/>
                </a:lnTo>
                <a:lnTo>
                  <a:pt x="4146" y="1197"/>
                </a:lnTo>
                <a:lnTo>
                  <a:pt x="4156" y="1270"/>
                </a:lnTo>
                <a:lnTo>
                  <a:pt x="4164" y="1342"/>
                </a:lnTo>
                <a:lnTo>
                  <a:pt x="4169" y="1415"/>
                </a:lnTo>
                <a:lnTo>
                  <a:pt x="4172" y="1487"/>
                </a:lnTo>
                <a:lnTo>
                  <a:pt x="4172" y="1561"/>
                </a:lnTo>
                <a:lnTo>
                  <a:pt x="4169" y="1633"/>
                </a:lnTo>
                <a:lnTo>
                  <a:pt x="4164" y="1705"/>
                </a:lnTo>
                <a:lnTo>
                  <a:pt x="4156" y="1778"/>
                </a:lnTo>
                <a:lnTo>
                  <a:pt x="4146" y="1850"/>
                </a:lnTo>
                <a:lnTo>
                  <a:pt x="4133" y="1922"/>
                </a:lnTo>
                <a:lnTo>
                  <a:pt x="4118" y="1993"/>
                </a:lnTo>
                <a:lnTo>
                  <a:pt x="4101" y="2063"/>
                </a:lnTo>
                <a:lnTo>
                  <a:pt x="4081" y="2134"/>
                </a:lnTo>
                <a:lnTo>
                  <a:pt x="4059" y="2202"/>
                </a:lnTo>
                <a:lnTo>
                  <a:pt x="4033" y="2271"/>
                </a:lnTo>
                <a:lnTo>
                  <a:pt x="4006" y="2338"/>
                </a:lnTo>
                <a:lnTo>
                  <a:pt x="3977" y="2405"/>
                </a:lnTo>
                <a:lnTo>
                  <a:pt x="3944" y="2471"/>
                </a:lnTo>
                <a:lnTo>
                  <a:pt x="3910" y="2535"/>
                </a:lnTo>
                <a:lnTo>
                  <a:pt x="3874" y="2598"/>
                </a:lnTo>
                <a:lnTo>
                  <a:pt x="3835" y="2660"/>
                </a:lnTo>
                <a:lnTo>
                  <a:pt x="3795" y="2719"/>
                </a:lnTo>
                <a:lnTo>
                  <a:pt x="3752" y="2778"/>
                </a:lnTo>
                <a:lnTo>
                  <a:pt x="3707" y="2836"/>
                </a:lnTo>
                <a:lnTo>
                  <a:pt x="3660" y="2892"/>
                </a:lnTo>
                <a:lnTo>
                  <a:pt x="3611" y="2945"/>
                </a:lnTo>
                <a:lnTo>
                  <a:pt x="3561" y="2998"/>
                </a:lnTo>
                <a:lnTo>
                  <a:pt x="3508" y="3048"/>
                </a:lnTo>
                <a:lnTo>
                  <a:pt x="3455" y="3097"/>
                </a:lnTo>
                <a:lnTo>
                  <a:pt x="3399" y="3144"/>
                </a:lnTo>
                <a:lnTo>
                  <a:pt x="3341" y="3189"/>
                </a:lnTo>
                <a:lnTo>
                  <a:pt x="3282" y="3232"/>
                </a:lnTo>
                <a:lnTo>
                  <a:pt x="3222" y="3272"/>
                </a:lnTo>
                <a:lnTo>
                  <a:pt x="3161" y="3310"/>
                </a:lnTo>
                <a:lnTo>
                  <a:pt x="3097" y="3347"/>
                </a:lnTo>
                <a:lnTo>
                  <a:pt x="3033" y="3381"/>
                </a:lnTo>
                <a:lnTo>
                  <a:pt x="2967" y="3413"/>
                </a:lnTo>
                <a:lnTo>
                  <a:pt x="2901" y="3443"/>
                </a:lnTo>
                <a:lnTo>
                  <a:pt x="2834" y="3470"/>
                </a:lnTo>
                <a:lnTo>
                  <a:pt x="2765" y="3495"/>
                </a:lnTo>
                <a:lnTo>
                  <a:pt x="2696" y="3517"/>
                </a:lnTo>
                <a:lnTo>
                  <a:pt x="2626" y="3537"/>
                </a:lnTo>
                <a:lnTo>
                  <a:pt x="2556" y="3555"/>
                </a:lnTo>
                <a:lnTo>
                  <a:pt x="2484" y="3570"/>
                </a:lnTo>
                <a:lnTo>
                  <a:pt x="2413" y="3582"/>
                </a:lnTo>
                <a:lnTo>
                  <a:pt x="2340" y="3593"/>
                </a:lnTo>
                <a:lnTo>
                  <a:pt x="2268" y="3600"/>
                </a:lnTo>
                <a:lnTo>
                  <a:pt x="2195" y="3605"/>
                </a:lnTo>
                <a:lnTo>
                  <a:pt x="2123" y="3609"/>
                </a:lnTo>
                <a:lnTo>
                  <a:pt x="2049" y="3609"/>
                </a:lnTo>
                <a:lnTo>
                  <a:pt x="1977" y="3605"/>
                </a:lnTo>
                <a:lnTo>
                  <a:pt x="1904" y="3600"/>
                </a:lnTo>
                <a:lnTo>
                  <a:pt x="1832" y="3593"/>
                </a:lnTo>
                <a:lnTo>
                  <a:pt x="1759" y="3582"/>
                </a:lnTo>
                <a:lnTo>
                  <a:pt x="1688" y="3570"/>
                </a:lnTo>
                <a:lnTo>
                  <a:pt x="1616" y="3555"/>
                </a:lnTo>
                <a:lnTo>
                  <a:pt x="1546" y="3537"/>
                </a:lnTo>
                <a:lnTo>
                  <a:pt x="1476" y="3517"/>
                </a:lnTo>
                <a:lnTo>
                  <a:pt x="1406" y="3495"/>
                </a:lnTo>
                <a:lnTo>
                  <a:pt x="1338" y="3470"/>
                </a:lnTo>
                <a:lnTo>
                  <a:pt x="1271" y="3443"/>
                </a:lnTo>
                <a:lnTo>
                  <a:pt x="1205" y="3413"/>
                </a:lnTo>
                <a:lnTo>
                  <a:pt x="1139" y="3381"/>
                </a:lnTo>
                <a:lnTo>
                  <a:pt x="1075" y="3347"/>
                </a:lnTo>
                <a:lnTo>
                  <a:pt x="1011" y="3310"/>
                </a:lnTo>
                <a:lnTo>
                  <a:pt x="950" y="3272"/>
                </a:lnTo>
                <a:lnTo>
                  <a:pt x="890" y="3232"/>
                </a:lnTo>
                <a:lnTo>
                  <a:pt x="831" y="3189"/>
                </a:lnTo>
                <a:lnTo>
                  <a:pt x="773" y="3144"/>
                </a:lnTo>
                <a:lnTo>
                  <a:pt x="717" y="3097"/>
                </a:lnTo>
                <a:lnTo>
                  <a:pt x="664" y="3048"/>
                </a:lnTo>
                <a:lnTo>
                  <a:pt x="611" y="2998"/>
                </a:lnTo>
                <a:lnTo>
                  <a:pt x="561" y="2945"/>
                </a:lnTo>
                <a:lnTo>
                  <a:pt x="512" y="2892"/>
                </a:lnTo>
                <a:lnTo>
                  <a:pt x="465" y="2836"/>
                </a:lnTo>
                <a:lnTo>
                  <a:pt x="420" y="2778"/>
                </a:lnTo>
                <a:lnTo>
                  <a:pt x="377" y="2719"/>
                </a:lnTo>
                <a:lnTo>
                  <a:pt x="336" y="2660"/>
                </a:lnTo>
                <a:lnTo>
                  <a:pt x="298" y="2598"/>
                </a:lnTo>
                <a:lnTo>
                  <a:pt x="262" y="2535"/>
                </a:lnTo>
                <a:lnTo>
                  <a:pt x="227" y="2471"/>
                </a:lnTo>
                <a:lnTo>
                  <a:pt x="195" y="2405"/>
                </a:lnTo>
                <a:lnTo>
                  <a:pt x="166" y="2338"/>
                </a:lnTo>
                <a:lnTo>
                  <a:pt x="139" y="2271"/>
                </a:lnTo>
                <a:lnTo>
                  <a:pt x="113" y="2202"/>
                </a:lnTo>
                <a:lnTo>
                  <a:pt x="91" y="2134"/>
                </a:lnTo>
                <a:lnTo>
                  <a:pt x="71" y="2063"/>
                </a:lnTo>
                <a:lnTo>
                  <a:pt x="54" y="1993"/>
                </a:lnTo>
                <a:lnTo>
                  <a:pt x="38" y="1922"/>
                </a:lnTo>
                <a:lnTo>
                  <a:pt x="25" y="1850"/>
                </a:lnTo>
                <a:lnTo>
                  <a:pt x="16" y="1778"/>
                </a:lnTo>
                <a:lnTo>
                  <a:pt x="8" y="1705"/>
                </a:lnTo>
                <a:lnTo>
                  <a:pt x="3" y="1633"/>
                </a:lnTo>
                <a:lnTo>
                  <a:pt x="0" y="1561"/>
                </a:lnTo>
                <a:lnTo>
                  <a:pt x="0" y="1487"/>
                </a:lnTo>
                <a:lnTo>
                  <a:pt x="3" y="1415"/>
                </a:lnTo>
                <a:lnTo>
                  <a:pt x="8" y="1342"/>
                </a:lnTo>
                <a:lnTo>
                  <a:pt x="16" y="1270"/>
                </a:lnTo>
                <a:lnTo>
                  <a:pt x="25" y="1197"/>
                </a:lnTo>
                <a:lnTo>
                  <a:pt x="38" y="1126"/>
                </a:lnTo>
                <a:lnTo>
                  <a:pt x="54" y="1055"/>
                </a:lnTo>
                <a:lnTo>
                  <a:pt x="71" y="984"/>
                </a:lnTo>
                <a:lnTo>
                  <a:pt x="91" y="914"/>
                </a:lnTo>
                <a:lnTo>
                  <a:pt x="113" y="845"/>
                </a:lnTo>
                <a:lnTo>
                  <a:pt x="139" y="776"/>
                </a:lnTo>
                <a:lnTo>
                  <a:pt x="166" y="709"/>
                </a:lnTo>
                <a:lnTo>
                  <a:pt x="195" y="643"/>
                </a:lnTo>
                <a:lnTo>
                  <a:pt x="227" y="577"/>
                </a:lnTo>
                <a:lnTo>
                  <a:pt x="262" y="513"/>
                </a:lnTo>
                <a:lnTo>
                  <a:pt x="298" y="450"/>
                </a:lnTo>
                <a:lnTo>
                  <a:pt x="336" y="388"/>
                </a:lnTo>
                <a:lnTo>
                  <a:pt x="377" y="328"/>
                </a:lnTo>
                <a:lnTo>
                  <a:pt x="420" y="269"/>
                </a:lnTo>
                <a:lnTo>
                  <a:pt x="465" y="212"/>
                </a:lnTo>
                <a:lnTo>
                  <a:pt x="512" y="156"/>
                </a:lnTo>
                <a:lnTo>
                  <a:pt x="561" y="103"/>
                </a:lnTo>
                <a:lnTo>
                  <a:pt x="2086" y="152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076480" y="5273640"/>
            <a:ext cx="27000" cy="12600"/>
          </a:xfrm>
          <a:prstGeom prst="line">
            <a:avLst/>
          </a:prstGeom>
          <a:ln w="144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43000" y="5384880"/>
            <a:ext cx="36720" cy="523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354400" y="5384880"/>
            <a:ext cx="36360" cy="514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14560" y="5848200"/>
            <a:ext cx="404640" cy="40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55680" y="5273640"/>
            <a:ext cx="3816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33440" y="5273640"/>
            <a:ext cx="4464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0320" y="5235480"/>
            <a:ext cx="27000" cy="7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0320" y="5197320"/>
            <a:ext cx="27000" cy="44640"/>
          </a:xfrm>
          <a:custGeom>
            <a:avLst/>
            <a:gdLst/>
            <a:ahLst/>
            <a:rect l="l" t="t" r="r" b="b"/>
            <a:pathLst>
              <a:path w="226" h="361">
                <a:moveTo>
                  <a:pt x="0" y="361"/>
                </a:moveTo>
                <a:lnTo>
                  <a:pt x="91" y="0"/>
                </a:lnTo>
                <a:lnTo>
                  <a:pt x="136" y="0"/>
                </a:lnTo>
                <a:lnTo>
                  <a:pt x="226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11480" y="5186520"/>
            <a:ext cx="46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11480" y="5302080"/>
            <a:ext cx="15840" cy="33480"/>
          </a:xfrm>
          <a:custGeom>
            <a:avLst/>
            <a:gdLst/>
            <a:ahLst/>
            <a:rect l="l" t="t" r="r" b="b"/>
            <a:pathLst>
              <a:path w="135" h="271">
                <a:moveTo>
                  <a:pt x="0" y="225"/>
                </a:moveTo>
                <a:lnTo>
                  <a:pt x="0" y="271"/>
                </a:lnTo>
                <a:lnTo>
                  <a:pt x="135" y="271"/>
                </a:lnTo>
                <a:lnTo>
                  <a:pt x="135" y="0"/>
                </a:lnTo>
                <a:lnTo>
                  <a:pt x="90" y="0"/>
                </a:lnTo>
                <a:lnTo>
                  <a:pt x="90" y="225"/>
                </a:lnTo>
                <a:lnTo>
                  <a:pt x="0" y="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89160" y="5246640"/>
            <a:ext cx="1584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90" y="0"/>
                </a:moveTo>
                <a:lnTo>
                  <a:pt x="45" y="0"/>
                </a:lnTo>
                <a:lnTo>
                  <a:pt x="0" y="46"/>
                </a:lnTo>
                <a:lnTo>
                  <a:pt x="0" y="226"/>
                </a:lnTo>
                <a:lnTo>
                  <a:pt x="45" y="226"/>
                </a:lnTo>
                <a:lnTo>
                  <a:pt x="45" y="496"/>
                </a:lnTo>
                <a:lnTo>
                  <a:pt x="90" y="541"/>
                </a:lnTo>
                <a:lnTo>
                  <a:pt x="136" y="541"/>
                </a:lnTo>
                <a:lnTo>
                  <a:pt x="136" y="451"/>
                </a:lnTo>
                <a:lnTo>
                  <a:pt x="90" y="271"/>
                </a:lnTo>
                <a:lnTo>
                  <a:pt x="9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22640" y="5246640"/>
            <a:ext cx="1584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45" y="0"/>
                </a:moveTo>
                <a:lnTo>
                  <a:pt x="90" y="0"/>
                </a:lnTo>
                <a:lnTo>
                  <a:pt x="136" y="46"/>
                </a:lnTo>
                <a:lnTo>
                  <a:pt x="136" y="226"/>
                </a:lnTo>
                <a:lnTo>
                  <a:pt x="90" y="226"/>
                </a:lnTo>
                <a:lnTo>
                  <a:pt x="90" y="496"/>
                </a:lnTo>
                <a:lnTo>
                  <a:pt x="45" y="541"/>
                </a:lnTo>
                <a:lnTo>
                  <a:pt x="0" y="541"/>
                </a:lnTo>
                <a:lnTo>
                  <a:pt x="0" y="451"/>
                </a:lnTo>
                <a:lnTo>
                  <a:pt x="45" y="271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33560" y="5340240"/>
            <a:ext cx="15552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1200" y="376"/>
                </a:moveTo>
                <a:lnTo>
                  <a:pt x="1200" y="150"/>
                </a:lnTo>
                <a:lnTo>
                  <a:pt x="1275" y="75"/>
                </a:lnTo>
                <a:lnTo>
                  <a:pt x="974" y="0"/>
                </a:lnTo>
                <a:lnTo>
                  <a:pt x="0" y="0"/>
                </a:lnTo>
                <a:lnTo>
                  <a:pt x="0" y="300"/>
                </a:lnTo>
                <a:lnTo>
                  <a:pt x="0" y="376"/>
                </a:lnTo>
                <a:lnTo>
                  <a:pt x="749" y="376"/>
                </a:lnTo>
                <a:lnTo>
                  <a:pt x="900" y="526"/>
                </a:lnTo>
                <a:lnTo>
                  <a:pt x="1200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24200" y="5240160"/>
            <a:ext cx="14580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1127" y="300"/>
                </a:moveTo>
                <a:lnTo>
                  <a:pt x="846" y="0"/>
                </a:lnTo>
                <a:lnTo>
                  <a:pt x="0" y="0"/>
                </a:lnTo>
                <a:lnTo>
                  <a:pt x="0" y="300"/>
                </a:lnTo>
                <a:lnTo>
                  <a:pt x="1198" y="300"/>
                </a:lnTo>
                <a:lnTo>
                  <a:pt x="1127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78200" y="5240160"/>
            <a:ext cx="4572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016000" y="5240160"/>
            <a:ext cx="4464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44680" y="5340240"/>
            <a:ext cx="15552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75" y="376"/>
                </a:moveTo>
                <a:lnTo>
                  <a:pt x="75" y="150"/>
                </a:lnTo>
                <a:lnTo>
                  <a:pt x="0" y="75"/>
                </a:lnTo>
                <a:lnTo>
                  <a:pt x="301" y="0"/>
                </a:lnTo>
                <a:lnTo>
                  <a:pt x="1275" y="0"/>
                </a:lnTo>
                <a:lnTo>
                  <a:pt x="1275" y="300"/>
                </a:lnTo>
                <a:lnTo>
                  <a:pt x="1275" y="376"/>
                </a:lnTo>
                <a:lnTo>
                  <a:pt x="526" y="376"/>
                </a:lnTo>
                <a:lnTo>
                  <a:pt x="375" y="526"/>
                </a:lnTo>
                <a:lnTo>
                  <a:pt x="75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3760" y="5240160"/>
            <a:ext cx="14616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70" y="300"/>
                </a:moveTo>
                <a:lnTo>
                  <a:pt x="352" y="0"/>
                </a:lnTo>
                <a:lnTo>
                  <a:pt x="1198" y="0"/>
                </a:lnTo>
                <a:lnTo>
                  <a:pt x="1198" y="300"/>
                </a:lnTo>
                <a:lnTo>
                  <a:pt x="0" y="300"/>
                </a:lnTo>
                <a:lnTo>
                  <a:pt x="70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240984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2373120" y="5240160"/>
            <a:ext cx="442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23920" y="5240160"/>
            <a:ext cx="13824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75" y="0"/>
                </a:moveTo>
                <a:lnTo>
                  <a:pt x="151" y="74"/>
                </a:lnTo>
                <a:lnTo>
                  <a:pt x="375" y="74"/>
                </a:lnTo>
                <a:lnTo>
                  <a:pt x="750" y="224"/>
                </a:lnTo>
                <a:lnTo>
                  <a:pt x="1125" y="224"/>
                </a:lnTo>
                <a:lnTo>
                  <a:pt x="1125" y="449"/>
                </a:lnTo>
                <a:lnTo>
                  <a:pt x="826" y="525"/>
                </a:lnTo>
                <a:lnTo>
                  <a:pt x="676" y="525"/>
                </a:lnTo>
                <a:lnTo>
                  <a:pt x="526" y="375"/>
                </a:lnTo>
                <a:lnTo>
                  <a:pt x="375" y="300"/>
                </a:lnTo>
                <a:lnTo>
                  <a:pt x="301" y="300"/>
                </a:lnTo>
                <a:lnTo>
                  <a:pt x="301" y="300"/>
                </a:lnTo>
                <a:lnTo>
                  <a:pt x="0" y="0"/>
                </a:lnTo>
                <a:lnTo>
                  <a:pt x="75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71600" y="5240160"/>
            <a:ext cx="13824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1050" y="0"/>
                </a:moveTo>
                <a:lnTo>
                  <a:pt x="974" y="74"/>
                </a:lnTo>
                <a:lnTo>
                  <a:pt x="750" y="74"/>
                </a:lnTo>
                <a:lnTo>
                  <a:pt x="375" y="224"/>
                </a:lnTo>
                <a:lnTo>
                  <a:pt x="0" y="224"/>
                </a:lnTo>
                <a:lnTo>
                  <a:pt x="0" y="449"/>
                </a:lnTo>
                <a:lnTo>
                  <a:pt x="299" y="525"/>
                </a:lnTo>
                <a:lnTo>
                  <a:pt x="449" y="525"/>
                </a:lnTo>
                <a:lnTo>
                  <a:pt x="599" y="375"/>
                </a:lnTo>
                <a:lnTo>
                  <a:pt x="750" y="300"/>
                </a:lnTo>
                <a:lnTo>
                  <a:pt x="824" y="300"/>
                </a:lnTo>
                <a:lnTo>
                  <a:pt x="824" y="300"/>
                </a:lnTo>
                <a:lnTo>
                  <a:pt x="1125" y="0"/>
                </a:lnTo>
                <a:lnTo>
                  <a:pt x="105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59120" y="5208480"/>
            <a:ext cx="220680" cy="187560"/>
          </a:xfrm>
          <a:custGeom>
            <a:avLst/>
            <a:gdLst/>
            <a:ahLst/>
            <a:rect l="l" t="t" r="r" b="b"/>
            <a:pathLst>
              <a:path w="1807" h="1534">
                <a:moveTo>
                  <a:pt x="1807" y="904"/>
                </a:moveTo>
                <a:lnTo>
                  <a:pt x="1697" y="866"/>
                </a:lnTo>
                <a:lnTo>
                  <a:pt x="1343" y="1011"/>
                </a:lnTo>
                <a:lnTo>
                  <a:pt x="221" y="87"/>
                </a:lnTo>
                <a:lnTo>
                  <a:pt x="104" y="0"/>
                </a:lnTo>
                <a:lnTo>
                  <a:pt x="0" y="13"/>
                </a:lnTo>
                <a:lnTo>
                  <a:pt x="5" y="63"/>
                </a:lnTo>
                <a:lnTo>
                  <a:pt x="11" y="113"/>
                </a:lnTo>
                <a:lnTo>
                  <a:pt x="1193" y="1080"/>
                </a:lnTo>
                <a:lnTo>
                  <a:pt x="1251" y="1123"/>
                </a:lnTo>
                <a:lnTo>
                  <a:pt x="1131" y="1441"/>
                </a:lnTo>
                <a:lnTo>
                  <a:pt x="1136" y="1491"/>
                </a:lnTo>
                <a:lnTo>
                  <a:pt x="1195" y="1534"/>
                </a:lnTo>
                <a:lnTo>
                  <a:pt x="1807" y="9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73400" y="5191200"/>
            <a:ext cx="220680" cy="187200"/>
          </a:xfrm>
          <a:custGeom>
            <a:avLst/>
            <a:gdLst/>
            <a:ahLst/>
            <a:rect l="l" t="t" r="r" b="b"/>
            <a:pathLst>
              <a:path w="1809" h="1533">
                <a:moveTo>
                  <a:pt x="0" y="902"/>
                </a:moveTo>
                <a:lnTo>
                  <a:pt x="111" y="865"/>
                </a:lnTo>
                <a:lnTo>
                  <a:pt x="465" y="1010"/>
                </a:lnTo>
                <a:lnTo>
                  <a:pt x="1587" y="86"/>
                </a:lnTo>
                <a:lnTo>
                  <a:pt x="1705" y="0"/>
                </a:lnTo>
                <a:lnTo>
                  <a:pt x="1809" y="12"/>
                </a:lnTo>
                <a:lnTo>
                  <a:pt x="1802" y="62"/>
                </a:lnTo>
                <a:lnTo>
                  <a:pt x="1796" y="112"/>
                </a:lnTo>
                <a:lnTo>
                  <a:pt x="615" y="1079"/>
                </a:lnTo>
                <a:lnTo>
                  <a:pt x="558" y="1122"/>
                </a:lnTo>
                <a:lnTo>
                  <a:pt x="677" y="1440"/>
                </a:lnTo>
                <a:lnTo>
                  <a:pt x="671" y="1490"/>
                </a:lnTo>
                <a:lnTo>
                  <a:pt x="613" y="1533"/>
                </a:lnTo>
                <a:lnTo>
                  <a:pt x="0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61120" y="5869080"/>
            <a:ext cx="509400" cy="441360"/>
          </a:xfrm>
          <a:custGeom>
            <a:avLst/>
            <a:gdLst/>
            <a:ahLst/>
            <a:rect l="l" t="t" r="r" b="b"/>
            <a:pathLst>
              <a:path w="4172" h="3609">
                <a:moveTo>
                  <a:pt x="2086" y="1524"/>
                </a:moveTo>
                <a:lnTo>
                  <a:pt x="3508" y="0"/>
                </a:lnTo>
                <a:lnTo>
                  <a:pt x="3508" y="0"/>
                </a:lnTo>
                <a:lnTo>
                  <a:pt x="3561" y="50"/>
                </a:lnTo>
                <a:lnTo>
                  <a:pt x="3611" y="103"/>
                </a:lnTo>
                <a:lnTo>
                  <a:pt x="3660" y="156"/>
                </a:lnTo>
                <a:lnTo>
                  <a:pt x="3707" y="212"/>
                </a:lnTo>
                <a:lnTo>
                  <a:pt x="3752" y="269"/>
                </a:lnTo>
                <a:lnTo>
                  <a:pt x="3795" y="328"/>
                </a:lnTo>
                <a:lnTo>
                  <a:pt x="3835" y="388"/>
                </a:lnTo>
                <a:lnTo>
                  <a:pt x="3874" y="450"/>
                </a:lnTo>
                <a:lnTo>
                  <a:pt x="3910" y="513"/>
                </a:lnTo>
                <a:lnTo>
                  <a:pt x="3944" y="577"/>
                </a:lnTo>
                <a:lnTo>
                  <a:pt x="3977" y="643"/>
                </a:lnTo>
                <a:lnTo>
                  <a:pt x="4006" y="709"/>
                </a:lnTo>
                <a:lnTo>
                  <a:pt x="4033" y="776"/>
                </a:lnTo>
                <a:lnTo>
                  <a:pt x="4059" y="845"/>
                </a:lnTo>
                <a:lnTo>
                  <a:pt x="4081" y="914"/>
                </a:lnTo>
                <a:lnTo>
                  <a:pt x="4101" y="984"/>
                </a:lnTo>
                <a:lnTo>
                  <a:pt x="4118" y="1055"/>
                </a:lnTo>
                <a:lnTo>
                  <a:pt x="4133" y="1126"/>
                </a:lnTo>
                <a:lnTo>
                  <a:pt x="4146" y="1197"/>
                </a:lnTo>
                <a:lnTo>
                  <a:pt x="4156" y="1270"/>
                </a:lnTo>
                <a:lnTo>
                  <a:pt x="4164" y="1342"/>
                </a:lnTo>
                <a:lnTo>
                  <a:pt x="4169" y="1415"/>
                </a:lnTo>
                <a:lnTo>
                  <a:pt x="4172" y="1487"/>
                </a:lnTo>
                <a:lnTo>
                  <a:pt x="4172" y="1561"/>
                </a:lnTo>
                <a:lnTo>
                  <a:pt x="4169" y="1633"/>
                </a:lnTo>
                <a:lnTo>
                  <a:pt x="4164" y="1705"/>
                </a:lnTo>
                <a:lnTo>
                  <a:pt x="4156" y="1778"/>
                </a:lnTo>
                <a:lnTo>
                  <a:pt x="4146" y="1850"/>
                </a:lnTo>
                <a:lnTo>
                  <a:pt x="4133" y="1922"/>
                </a:lnTo>
                <a:lnTo>
                  <a:pt x="4118" y="1993"/>
                </a:lnTo>
                <a:lnTo>
                  <a:pt x="4101" y="2063"/>
                </a:lnTo>
                <a:lnTo>
                  <a:pt x="4081" y="2134"/>
                </a:lnTo>
                <a:lnTo>
                  <a:pt x="4059" y="2202"/>
                </a:lnTo>
                <a:lnTo>
                  <a:pt x="4033" y="2271"/>
                </a:lnTo>
                <a:lnTo>
                  <a:pt x="4006" y="2338"/>
                </a:lnTo>
                <a:lnTo>
                  <a:pt x="3977" y="2405"/>
                </a:lnTo>
                <a:lnTo>
                  <a:pt x="3944" y="2471"/>
                </a:lnTo>
                <a:lnTo>
                  <a:pt x="3910" y="2535"/>
                </a:lnTo>
                <a:lnTo>
                  <a:pt x="3874" y="2598"/>
                </a:lnTo>
                <a:lnTo>
                  <a:pt x="3835" y="2660"/>
                </a:lnTo>
                <a:lnTo>
                  <a:pt x="3795" y="2719"/>
                </a:lnTo>
                <a:lnTo>
                  <a:pt x="3752" y="2778"/>
                </a:lnTo>
                <a:lnTo>
                  <a:pt x="3707" y="2836"/>
                </a:lnTo>
                <a:lnTo>
                  <a:pt x="3660" y="2892"/>
                </a:lnTo>
                <a:lnTo>
                  <a:pt x="3611" y="2945"/>
                </a:lnTo>
                <a:lnTo>
                  <a:pt x="3561" y="2998"/>
                </a:lnTo>
                <a:lnTo>
                  <a:pt x="3508" y="3048"/>
                </a:lnTo>
                <a:lnTo>
                  <a:pt x="3455" y="3097"/>
                </a:lnTo>
                <a:lnTo>
                  <a:pt x="3399" y="3144"/>
                </a:lnTo>
                <a:lnTo>
                  <a:pt x="3341" y="3189"/>
                </a:lnTo>
                <a:lnTo>
                  <a:pt x="3282" y="3232"/>
                </a:lnTo>
                <a:lnTo>
                  <a:pt x="3222" y="3272"/>
                </a:lnTo>
                <a:lnTo>
                  <a:pt x="3161" y="3310"/>
                </a:lnTo>
                <a:lnTo>
                  <a:pt x="3097" y="3347"/>
                </a:lnTo>
                <a:lnTo>
                  <a:pt x="3033" y="3381"/>
                </a:lnTo>
                <a:lnTo>
                  <a:pt x="2967" y="3413"/>
                </a:lnTo>
                <a:lnTo>
                  <a:pt x="2901" y="3443"/>
                </a:lnTo>
                <a:lnTo>
                  <a:pt x="2834" y="3470"/>
                </a:lnTo>
                <a:lnTo>
                  <a:pt x="2765" y="3495"/>
                </a:lnTo>
                <a:lnTo>
                  <a:pt x="2696" y="3517"/>
                </a:lnTo>
                <a:lnTo>
                  <a:pt x="2626" y="3537"/>
                </a:lnTo>
                <a:lnTo>
                  <a:pt x="2556" y="3555"/>
                </a:lnTo>
                <a:lnTo>
                  <a:pt x="2484" y="3570"/>
                </a:lnTo>
                <a:lnTo>
                  <a:pt x="2413" y="3582"/>
                </a:lnTo>
                <a:lnTo>
                  <a:pt x="2340" y="3593"/>
                </a:lnTo>
                <a:lnTo>
                  <a:pt x="2268" y="3600"/>
                </a:lnTo>
                <a:lnTo>
                  <a:pt x="2195" y="3605"/>
                </a:lnTo>
                <a:lnTo>
                  <a:pt x="2123" y="3609"/>
                </a:lnTo>
                <a:lnTo>
                  <a:pt x="2049" y="3609"/>
                </a:lnTo>
                <a:lnTo>
                  <a:pt x="1977" y="3605"/>
                </a:lnTo>
                <a:lnTo>
                  <a:pt x="1904" y="3600"/>
                </a:lnTo>
                <a:lnTo>
                  <a:pt x="1832" y="3593"/>
                </a:lnTo>
                <a:lnTo>
                  <a:pt x="1759" y="3582"/>
                </a:lnTo>
                <a:lnTo>
                  <a:pt x="1688" y="3570"/>
                </a:lnTo>
                <a:lnTo>
                  <a:pt x="1616" y="3555"/>
                </a:lnTo>
                <a:lnTo>
                  <a:pt x="1546" y="3537"/>
                </a:lnTo>
                <a:lnTo>
                  <a:pt x="1476" y="3517"/>
                </a:lnTo>
                <a:lnTo>
                  <a:pt x="1406" y="3495"/>
                </a:lnTo>
                <a:lnTo>
                  <a:pt x="1338" y="3470"/>
                </a:lnTo>
                <a:lnTo>
                  <a:pt x="1271" y="3443"/>
                </a:lnTo>
                <a:lnTo>
                  <a:pt x="1205" y="3413"/>
                </a:lnTo>
                <a:lnTo>
                  <a:pt x="1139" y="3381"/>
                </a:lnTo>
                <a:lnTo>
                  <a:pt x="1075" y="3347"/>
                </a:lnTo>
                <a:lnTo>
                  <a:pt x="1011" y="3310"/>
                </a:lnTo>
                <a:lnTo>
                  <a:pt x="950" y="3272"/>
                </a:lnTo>
                <a:lnTo>
                  <a:pt x="890" y="3232"/>
                </a:lnTo>
                <a:lnTo>
                  <a:pt x="831" y="3189"/>
                </a:lnTo>
                <a:lnTo>
                  <a:pt x="773" y="3144"/>
                </a:lnTo>
                <a:lnTo>
                  <a:pt x="717" y="3097"/>
                </a:lnTo>
                <a:lnTo>
                  <a:pt x="664" y="3048"/>
                </a:lnTo>
                <a:lnTo>
                  <a:pt x="611" y="2998"/>
                </a:lnTo>
                <a:lnTo>
                  <a:pt x="561" y="2945"/>
                </a:lnTo>
                <a:lnTo>
                  <a:pt x="512" y="2892"/>
                </a:lnTo>
                <a:lnTo>
                  <a:pt x="465" y="2836"/>
                </a:lnTo>
                <a:lnTo>
                  <a:pt x="420" y="2778"/>
                </a:lnTo>
                <a:lnTo>
                  <a:pt x="377" y="2719"/>
                </a:lnTo>
                <a:lnTo>
                  <a:pt x="336" y="2660"/>
                </a:lnTo>
                <a:lnTo>
                  <a:pt x="298" y="2598"/>
                </a:lnTo>
                <a:lnTo>
                  <a:pt x="262" y="2535"/>
                </a:lnTo>
                <a:lnTo>
                  <a:pt x="227" y="2471"/>
                </a:lnTo>
                <a:lnTo>
                  <a:pt x="195" y="2405"/>
                </a:lnTo>
                <a:lnTo>
                  <a:pt x="166" y="2338"/>
                </a:lnTo>
                <a:lnTo>
                  <a:pt x="139" y="2271"/>
                </a:lnTo>
                <a:lnTo>
                  <a:pt x="113" y="2202"/>
                </a:lnTo>
                <a:lnTo>
                  <a:pt x="91" y="2134"/>
                </a:lnTo>
                <a:lnTo>
                  <a:pt x="71" y="2063"/>
                </a:lnTo>
                <a:lnTo>
                  <a:pt x="54" y="1993"/>
                </a:lnTo>
                <a:lnTo>
                  <a:pt x="38" y="1922"/>
                </a:lnTo>
                <a:lnTo>
                  <a:pt x="25" y="1850"/>
                </a:lnTo>
                <a:lnTo>
                  <a:pt x="16" y="1778"/>
                </a:lnTo>
                <a:lnTo>
                  <a:pt x="8" y="1705"/>
                </a:lnTo>
                <a:lnTo>
                  <a:pt x="3" y="1633"/>
                </a:lnTo>
                <a:lnTo>
                  <a:pt x="0" y="1561"/>
                </a:lnTo>
                <a:lnTo>
                  <a:pt x="0" y="1487"/>
                </a:lnTo>
                <a:lnTo>
                  <a:pt x="3" y="1415"/>
                </a:lnTo>
                <a:lnTo>
                  <a:pt x="8" y="1342"/>
                </a:lnTo>
                <a:lnTo>
                  <a:pt x="16" y="1270"/>
                </a:lnTo>
                <a:lnTo>
                  <a:pt x="25" y="1197"/>
                </a:lnTo>
                <a:lnTo>
                  <a:pt x="38" y="1126"/>
                </a:lnTo>
                <a:lnTo>
                  <a:pt x="54" y="1055"/>
                </a:lnTo>
                <a:lnTo>
                  <a:pt x="71" y="984"/>
                </a:lnTo>
                <a:lnTo>
                  <a:pt x="91" y="914"/>
                </a:lnTo>
                <a:lnTo>
                  <a:pt x="113" y="845"/>
                </a:lnTo>
                <a:lnTo>
                  <a:pt x="139" y="776"/>
                </a:lnTo>
                <a:lnTo>
                  <a:pt x="166" y="709"/>
                </a:lnTo>
                <a:lnTo>
                  <a:pt x="195" y="643"/>
                </a:lnTo>
                <a:lnTo>
                  <a:pt x="227" y="577"/>
                </a:lnTo>
                <a:lnTo>
                  <a:pt x="262" y="513"/>
                </a:lnTo>
                <a:lnTo>
                  <a:pt x="298" y="450"/>
                </a:lnTo>
                <a:lnTo>
                  <a:pt x="336" y="388"/>
                </a:lnTo>
                <a:lnTo>
                  <a:pt x="377" y="328"/>
                </a:lnTo>
                <a:lnTo>
                  <a:pt x="420" y="269"/>
                </a:lnTo>
                <a:lnTo>
                  <a:pt x="465" y="212"/>
                </a:lnTo>
                <a:lnTo>
                  <a:pt x="512" y="156"/>
                </a:lnTo>
                <a:lnTo>
                  <a:pt x="561" y="103"/>
                </a:lnTo>
                <a:lnTo>
                  <a:pt x="2086" y="152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75240" y="5273640"/>
            <a:ext cx="27000" cy="12600"/>
          </a:xfrm>
          <a:prstGeom prst="line">
            <a:avLst/>
          </a:prstGeom>
          <a:ln w="144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42120" y="5384880"/>
            <a:ext cx="36360" cy="523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53160" y="5384880"/>
            <a:ext cx="36360" cy="514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13320" y="5848200"/>
            <a:ext cx="405000" cy="40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54800" y="5273640"/>
            <a:ext cx="3780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32560" y="5273640"/>
            <a:ext cx="4428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99080" y="5235480"/>
            <a:ext cx="27000" cy="7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599080" y="5197320"/>
            <a:ext cx="27000" cy="44640"/>
          </a:xfrm>
          <a:custGeom>
            <a:avLst/>
            <a:gdLst/>
            <a:ahLst/>
            <a:rect l="l" t="t" r="r" b="b"/>
            <a:pathLst>
              <a:path w="226" h="361">
                <a:moveTo>
                  <a:pt x="0" y="361"/>
                </a:moveTo>
                <a:lnTo>
                  <a:pt x="91" y="0"/>
                </a:lnTo>
                <a:lnTo>
                  <a:pt x="136" y="0"/>
                </a:lnTo>
                <a:lnTo>
                  <a:pt x="226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10240" y="5186520"/>
            <a:ext cx="46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10240" y="5302080"/>
            <a:ext cx="15840" cy="33480"/>
          </a:xfrm>
          <a:custGeom>
            <a:avLst/>
            <a:gdLst/>
            <a:ahLst/>
            <a:rect l="l" t="t" r="r" b="b"/>
            <a:pathLst>
              <a:path w="135" h="271">
                <a:moveTo>
                  <a:pt x="0" y="225"/>
                </a:moveTo>
                <a:lnTo>
                  <a:pt x="0" y="271"/>
                </a:lnTo>
                <a:lnTo>
                  <a:pt x="135" y="271"/>
                </a:lnTo>
                <a:lnTo>
                  <a:pt x="135" y="0"/>
                </a:lnTo>
                <a:lnTo>
                  <a:pt x="90" y="0"/>
                </a:lnTo>
                <a:lnTo>
                  <a:pt x="90" y="225"/>
                </a:lnTo>
                <a:lnTo>
                  <a:pt x="0" y="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87920" y="5246640"/>
            <a:ext cx="1584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90" y="0"/>
                </a:moveTo>
                <a:lnTo>
                  <a:pt x="45" y="0"/>
                </a:lnTo>
                <a:lnTo>
                  <a:pt x="0" y="46"/>
                </a:lnTo>
                <a:lnTo>
                  <a:pt x="0" y="226"/>
                </a:lnTo>
                <a:lnTo>
                  <a:pt x="45" y="226"/>
                </a:lnTo>
                <a:lnTo>
                  <a:pt x="45" y="496"/>
                </a:lnTo>
                <a:lnTo>
                  <a:pt x="90" y="541"/>
                </a:lnTo>
                <a:lnTo>
                  <a:pt x="136" y="541"/>
                </a:lnTo>
                <a:lnTo>
                  <a:pt x="136" y="451"/>
                </a:lnTo>
                <a:lnTo>
                  <a:pt x="90" y="271"/>
                </a:lnTo>
                <a:lnTo>
                  <a:pt x="9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621400" y="5246640"/>
            <a:ext cx="1584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45" y="0"/>
                </a:moveTo>
                <a:lnTo>
                  <a:pt x="90" y="0"/>
                </a:lnTo>
                <a:lnTo>
                  <a:pt x="136" y="46"/>
                </a:lnTo>
                <a:lnTo>
                  <a:pt x="136" y="226"/>
                </a:lnTo>
                <a:lnTo>
                  <a:pt x="90" y="226"/>
                </a:lnTo>
                <a:lnTo>
                  <a:pt x="90" y="496"/>
                </a:lnTo>
                <a:lnTo>
                  <a:pt x="45" y="541"/>
                </a:lnTo>
                <a:lnTo>
                  <a:pt x="0" y="541"/>
                </a:lnTo>
                <a:lnTo>
                  <a:pt x="0" y="451"/>
                </a:lnTo>
                <a:lnTo>
                  <a:pt x="45" y="271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2320" y="5340240"/>
            <a:ext cx="15552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1200" y="376"/>
                </a:moveTo>
                <a:lnTo>
                  <a:pt x="1200" y="150"/>
                </a:lnTo>
                <a:lnTo>
                  <a:pt x="1275" y="75"/>
                </a:lnTo>
                <a:lnTo>
                  <a:pt x="974" y="0"/>
                </a:lnTo>
                <a:lnTo>
                  <a:pt x="0" y="0"/>
                </a:lnTo>
                <a:lnTo>
                  <a:pt x="0" y="300"/>
                </a:lnTo>
                <a:lnTo>
                  <a:pt x="0" y="376"/>
                </a:lnTo>
                <a:lnTo>
                  <a:pt x="749" y="376"/>
                </a:lnTo>
                <a:lnTo>
                  <a:pt x="900" y="526"/>
                </a:lnTo>
                <a:lnTo>
                  <a:pt x="1200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22960" y="5240160"/>
            <a:ext cx="14580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1127" y="300"/>
                </a:moveTo>
                <a:lnTo>
                  <a:pt x="846" y="0"/>
                </a:lnTo>
                <a:lnTo>
                  <a:pt x="0" y="0"/>
                </a:lnTo>
                <a:lnTo>
                  <a:pt x="0" y="300"/>
                </a:lnTo>
                <a:lnTo>
                  <a:pt x="1198" y="300"/>
                </a:lnTo>
                <a:lnTo>
                  <a:pt x="1127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7696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5120" y="5240160"/>
            <a:ext cx="442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43440" y="5340240"/>
            <a:ext cx="15588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75" y="376"/>
                </a:moveTo>
                <a:lnTo>
                  <a:pt x="75" y="150"/>
                </a:lnTo>
                <a:lnTo>
                  <a:pt x="0" y="75"/>
                </a:lnTo>
                <a:lnTo>
                  <a:pt x="301" y="0"/>
                </a:lnTo>
                <a:lnTo>
                  <a:pt x="1275" y="0"/>
                </a:lnTo>
                <a:lnTo>
                  <a:pt x="1275" y="300"/>
                </a:lnTo>
                <a:lnTo>
                  <a:pt x="1275" y="376"/>
                </a:lnTo>
                <a:lnTo>
                  <a:pt x="526" y="376"/>
                </a:lnTo>
                <a:lnTo>
                  <a:pt x="375" y="526"/>
                </a:lnTo>
                <a:lnTo>
                  <a:pt x="75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62520" y="5240160"/>
            <a:ext cx="14616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70" y="300"/>
                </a:moveTo>
                <a:lnTo>
                  <a:pt x="352" y="0"/>
                </a:lnTo>
                <a:lnTo>
                  <a:pt x="1198" y="0"/>
                </a:lnTo>
                <a:lnTo>
                  <a:pt x="1198" y="300"/>
                </a:lnTo>
                <a:lnTo>
                  <a:pt x="0" y="300"/>
                </a:lnTo>
                <a:lnTo>
                  <a:pt x="70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580860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5771880" y="5240160"/>
            <a:ext cx="442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23040" y="5240160"/>
            <a:ext cx="13788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75" y="0"/>
                </a:moveTo>
                <a:lnTo>
                  <a:pt x="151" y="74"/>
                </a:lnTo>
                <a:lnTo>
                  <a:pt x="375" y="74"/>
                </a:lnTo>
                <a:lnTo>
                  <a:pt x="750" y="224"/>
                </a:lnTo>
                <a:lnTo>
                  <a:pt x="1125" y="224"/>
                </a:lnTo>
                <a:lnTo>
                  <a:pt x="1125" y="449"/>
                </a:lnTo>
                <a:lnTo>
                  <a:pt x="826" y="525"/>
                </a:lnTo>
                <a:lnTo>
                  <a:pt x="676" y="525"/>
                </a:lnTo>
                <a:lnTo>
                  <a:pt x="526" y="375"/>
                </a:lnTo>
                <a:lnTo>
                  <a:pt x="375" y="300"/>
                </a:lnTo>
                <a:lnTo>
                  <a:pt x="301" y="300"/>
                </a:lnTo>
                <a:lnTo>
                  <a:pt x="301" y="300"/>
                </a:lnTo>
                <a:lnTo>
                  <a:pt x="0" y="0"/>
                </a:lnTo>
                <a:lnTo>
                  <a:pt x="75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70720" y="5240160"/>
            <a:ext cx="13788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1050" y="0"/>
                </a:moveTo>
                <a:lnTo>
                  <a:pt x="974" y="74"/>
                </a:lnTo>
                <a:lnTo>
                  <a:pt x="750" y="74"/>
                </a:lnTo>
                <a:lnTo>
                  <a:pt x="375" y="224"/>
                </a:lnTo>
                <a:lnTo>
                  <a:pt x="0" y="224"/>
                </a:lnTo>
                <a:lnTo>
                  <a:pt x="0" y="449"/>
                </a:lnTo>
                <a:lnTo>
                  <a:pt x="299" y="525"/>
                </a:lnTo>
                <a:lnTo>
                  <a:pt x="449" y="525"/>
                </a:lnTo>
                <a:lnTo>
                  <a:pt x="599" y="375"/>
                </a:lnTo>
                <a:lnTo>
                  <a:pt x="750" y="300"/>
                </a:lnTo>
                <a:lnTo>
                  <a:pt x="824" y="300"/>
                </a:lnTo>
                <a:lnTo>
                  <a:pt x="824" y="300"/>
                </a:lnTo>
                <a:lnTo>
                  <a:pt x="1125" y="0"/>
                </a:lnTo>
                <a:lnTo>
                  <a:pt x="105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338800" y="5191200"/>
            <a:ext cx="220680" cy="187200"/>
          </a:xfrm>
          <a:custGeom>
            <a:avLst/>
            <a:gdLst/>
            <a:ahLst/>
            <a:rect l="l" t="t" r="r" b="b"/>
            <a:pathLst>
              <a:path w="1809" h="1533">
                <a:moveTo>
                  <a:pt x="1809" y="902"/>
                </a:moveTo>
                <a:lnTo>
                  <a:pt x="1698" y="865"/>
                </a:lnTo>
                <a:lnTo>
                  <a:pt x="1344" y="1010"/>
                </a:lnTo>
                <a:lnTo>
                  <a:pt x="222" y="86"/>
                </a:lnTo>
                <a:lnTo>
                  <a:pt x="104" y="0"/>
                </a:lnTo>
                <a:lnTo>
                  <a:pt x="0" y="12"/>
                </a:lnTo>
                <a:lnTo>
                  <a:pt x="7" y="62"/>
                </a:lnTo>
                <a:lnTo>
                  <a:pt x="12" y="112"/>
                </a:lnTo>
                <a:lnTo>
                  <a:pt x="1194" y="1079"/>
                </a:lnTo>
                <a:lnTo>
                  <a:pt x="1251" y="1122"/>
                </a:lnTo>
                <a:lnTo>
                  <a:pt x="1132" y="1440"/>
                </a:lnTo>
                <a:lnTo>
                  <a:pt x="1138" y="1490"/>
                </a:lnTo>
                <a:lnTo>
                  <a:pt x="1196" y="1533"/>
                </a:lnTo>
                <a:lnTo>
                  <a:pt x="1809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72160" y="5191200"/>
            <a:ext cx="220680" cy="187200"/>
          </a:xfrm>
          <a:custGeom>
            <a:avLst/>
            <a:gdLst/>
            <a:ahLst/>
            <a:rect l="l" t="t" r="r" b="b"/>
            <a:pathLst>
              <a:path w="1809" h="1533">
                <a:moveTo>
                  <a:pt x="0" y="902"/>
                </a:moveTo>
                <a:lnTo>
                  <a:pt x="111" y="865"/>
                </a:lnTo>
                <a:lnTo>
                  <a:pt x="465" y="1010"/>
                </a:lnTo>
                <a:lnTo>
                  <a:pt x="1587" y="86"/>
                </a:lnTo>
                <a:lnTo>
                  <a:pt x="1705" y="0"/>
                </a:lnTo>
                <a:lnTo>
                  <a:pt x="1809" y="12"/>
                </a:lnTo>
                <a:lnTo>
                  <a:pt x="1802" y="62"/>
                </a:lnTo>
                <a:lnTo>
                  <a:pt x="1796" y="112"/>
                </a:lnTo>
                <a:lnTo>
                  <a:pt x="615" y="1079"/>
                </a:lnTo>
                <a:lnTo>
                  <a:pt x="558" y="1122"/>
                </a:lnTo>
                <a:lnTo>
                  <a:pt x="677" y="1440"/>
                </a:lnTo>
                <a:lnTo>
                  <a:pt x="671" y="1490"/>
                </a:lnTo>
                <a:lnTo>
                  <a:pt x="613" y="1533"/>
                </a:lnTo>
                <a:lnTo>
                  <a:pt x="0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16360" y="5869080"/>
            <a:ext cx="509760" cy="441360"/>
          </a:xfrm>
          <a:custGeom>
            <a:avLst/>
            <a:gdLst/>
            <a:ahLst/>
            <a:rect l="l" t="t" r="r" b="b"/>
            <a:pathLst>
              <a:path w="4172" h="3609">
                <a:moveTo>
                  <a:pt x="2086" y="1524"/>
                </a:moveTo>
                <a:lnTo>
                  <a:pt x="3508" y="0"/>
                </a:lnTo>
                <a:lnTo>
                  <a:pt x="3508" y="0"/>
                </a:lnTo>
                <a:lnTo>
                  <a:pt x="3561" y="50"/>
                </a:lnTo>
                <a:lnTo>
                  <a:pt x="3611" y="103"/>
                </a:lnTo>
                <a:lnTo>
                  <a:pt x="3660" y="156"/>
                </a:lnTo>
                <a:lnTo>
                  <a:pt x="3707" y="212"/>
                </a:lnTo>
                <a:lnTo>
                  <a:pt x="3752" y="269"/>
                </a:lnTo>
                <a:lnTo>
                  <a:pt x="3795" y="328"/>
                </a:lnTo>
                <a:lnTo>
                  <a:pt x="3835" y="388"/>
                </a:lnTo>
                <a:lnTo>
                  <a:pt x="3874" y="450"/>
                </a:lnTo>
                <a:lnTo>
                  <a:pt x="3910" y="513"/>
                </a:lnTo>
                <a:lnTo>
                  <a:pt x="3944" y="577"/>
                </a:lnTo>
                <a:lnTo>
                  <a:pt x="3977" y="643"/>
                </a:lnTo>
                <a:lnTo>
                  <a:pt x="4006" y="709"/>
                </a:lnTo>
                <a:lnTo>
                  <a:pt x="4033" y="776"/>
                </a:lnTo>
                <a:lnTo>
                  <a:pt x="4059" y="845"/>
                </a:lnTo>
                <a:lnTo>
                  <a:pt x="4081" y="914"/>
                </a:lnTo>
                <a:lnTo>
                  <a:pt x="4101" y="984"/>
                </a:lnTo>
                <a:lnTo>
                  <a:pt x="4118" y="1055"/>
                </a:lnTo>
                <a:lnTo>
                  <a:pt x="4133" y="1126"/>
                </a:lnTo>
                <a:lnTo>
                  <a:pt x="4146" y="1197"/>
                </a:lnTo>
                <a:lnTo>
                  <a:pt x="4156" y="1270"/>
                </a:lnTo>
                <a:lnTo>
                  <a:pt x="4164" y="1342"/>
                </a:lnTo>
                <a:lnTo>
                  <a:pt x="4169" y="1415"/>
                </a:lnTo>
                <a:lnTo>
                  <a:pt x="4172" y="1487"/>
                </a:lnTo>
                <a:lnTo>
                  <a:pt x="4172" y="1561"/>
                </a:lnTo>
                <a:lnTo>
                  <a:pt x="4169" y="1633"/>
                </a:lnTo>
                <a:lnTo>
                  <a:pt x="4164" y="1705"/>
                </a:lnTo>
                <a:lnTo>
                  <a:pt x="4156" y="1778"/>
                </a:lnTo>
                <a:lnTo>
                  <a:pt x="4146" y="1850"/>
                </a:lnTo>
                <a:lnTo>
                  <a:pt x="4133" y="1922"/>
                </a:lnTo>
                <a:lnTo>
                  <a:pt x="4118" y="1993"/>
                </a:lnTo>
                <a:lnTo>
                  <a:pt x="4101" y="2063"/>
                </a:lnTo>
                <a:lnTo>
                  <a:pt x="4081" y="2134"/>
                </a:lnTo>
                <a:lnTo>
                  <a:pt x="4059" y="2202"/>
                </a:lnTo>
                <a:lnTo>
                  <a:pt x="4033" y="2271"/>
                </a:lnTo>
                <a:lnTo>
                  <a:pt x="4006" y="2338"/>
                </a:lnTo>
                <a:lnTo>
                  <a:pt x="3977" y="2405"/>
                </a:lnTo>
                <a:lnTo>
                  <a:pt x="3944" y="2471"/>
                </a:lnTo>
                <a:lnTo>
                  <a:pt x="3910" y="2535"/>
                </a:lnTo>
                <a:lnTo>
                  <a:pt x="3874" y="2598"/>
                </a:lnTo>
                <a:lnTo>
                  <a:pt x="3835" y="2660"/>
                </a:lnTo>
                <a:lnTo>
                  <a:pt x="3795" y="2719"/>
                </a:lnTo>
                <a:lnTo>
                  <a:pt x="3752" y="2778"/>
                </a:lnTo>
                <a:lnTo>
                  <a:pt x="3707" y="2836"/>
                </a:lnTo>
                <a:lnTo>
                  <a:pt x="3660" y="2892"/>
                </a:lnTo>
                <a:lnTo>
                  <a:pt x="3611" y="2945"/>
                </a:lnTo>
                <a:lnTo>
                  <a:pt x="3561" y="2998"/>
                </a:lnTo>
                <a:lnTo>
                  <a:pt x="3508" y="3048"/>
                </a:lnTo>
                <a:lnTo>
                  <a:pt x="3455" y="3097"/>
                </a:lnTo>
                <a:lnTo>
                  <a:pt x="3399" y="3144"/>
                </a:lnTo>
                <a:lnTo>
                  <a:pt x="3341" y="3189"/>
                </a:lnTo>
                <a:lnTo>
                  <a:pt x="3282" y="3232"/>
                </a:lnTo>
                <a:lnTo>
                  <a:pt x="3222" y="3272"/>
                </a:lnTo>
                <a:lnTo>
                  <a:pt x="3161" y="3310"/>
                </a:lnTo>
                <a:lnTo>
                  <a:pt x="3097" y="3347"/>
                </a:lnTo>
                <a:lnTo>
                  <a:pt x="3033" y="3381"/>
                </a:lnTo>
                <a:lnTo>
                  <a:pt x="2967" y="3413"/>
                </a:lnTo>
                <a:lnTo>
                  <a:pt x="2901" y="3443"/>
                </a:lnTo>
                <a:lnTo>
                  <a:pt x="2834" y="3470"/>
                </a:lnTo>
                <a:lnTo>
                  <a:pt x="2765" y="3495"/>
                </a:lnTo>
                <a:lnTo>
                  <a:pt x="2696" y="3517"/>
                </a:lnTo>
                <a:lnTo>
                  <a:pt x="2626" y="3537"/>
                </a:lnTo>
                <a:lnTo>
                  <a:pt x="2556" y="3555"/>
                </a:lnTo>
                <a:lnTo>
                  <a:pt x="2484" y="3570"/>
                </a:lnTo>
                <a:lnTo>
                  <a:pt x="2413" y="3582"/>
                </a:lnTo>
                <a:lnTo>
                  <a:pt x="2340" y="3593"/>
                </a:lnTo>
                <a:lnTo>
                  <a:pt x="2268" y="3600"/>
                </a:lnTo>
                <a:lnTo>
                  <a:pt x="2195" y="3605"/>
                </a:lnTo>
                <a:lnTo>
                  <a:pt x="2123" y="3609"/>
                </a:lnTo>
                <a:lnTo>
                  <a:pt x="2049" y="3609"/>
                </a:lnTo>
                <a:lnTo>
                  <a:pt x="1977" y="3605"/>
                </a:lnTo>
                <a:lnTo>
                  <a:pt x="1904" y="3600"/>
                </a:lnTo>
                <a:lnTo>
                  <a:pt x="1832" y="3593"/>
                </a:lnTo>
                <a:lnTo>
                  <a:pt x="1759" y="3582"/>
                </a:lnTo>
                <a:lnTo>
                  <a:pt x="1688" y="3570"/>
                </a:lnTo>
                <a:lnTo>
                  <a:pt x="1616" y="3555"/>
                </a:lnTo>
                <a:lnTo>
                  <a:pt x="1546" y="3537"/>
                </a:lnTo>
                <a:lnTo>
                  <a:pt x="1476" y="3517"/>
                </a:lnTo>
                <a:lnTo>
                  <a:pt x="1406" y="3495"/>
                </a:lnTo>
                <a:lnTo>
                  <a:pt x="1338" y="3470"/>
                </a:lnTo>
                <a:lnTo>
                  <a:pt x="1271" y="3443"/>
                </a:lnTo>
                <a:lnTo>
                  <a:pt x="1205" y="3413"/>
                </a:lnTo>
                <a:lnTo>
                  <a:pt x="1139" y="3381"/>
                </a:lnTo>
                <a:lnTo>
                  <a:pt x="1075" y="3347"/>
                </a:lnTo>
                <a:lnTo>
                  <a:pt x="1011" y="3310"/>
                </a:lnTo>
                <a:lnTo>
                  <a:pt x="950" y="3272"/>
                </a:lnTo>
                <a:lnTo>
                  <a:pt x="890" y="3232"/>
                </a:lnTo>
                <a:lnTo>
                  <a:pt x="831" y="3189"/>
                </a:lnTo>
                <a:lnTo>
                  <a:pt x="773" y="3144"/>
                </a:lnTo>
                <a:lnTo>
                  <a:pt x="717" y="3097"/>
                </a:lnTo>
                <a:lnTo>
                  <a:pt x="664" y="3048"/>
                </a:lnTo>
                <a:lnTo>
                  <a:pt x="611" y="2998"/>
                </a:lnTo>
                <a:lnTo>
                  <a:pt x="561" y="2945"/>
                </a:lnTo>
                <a:lnTo>
                  <a:pt x="512" y="2892"/>
                </a:lnTo>
                <a:lnTo>
                  <a:pt x="465" y="2836"/>
                </a:lnTo>
                <a:lnTo>
                  <a:pt x="420" y="2778"/>
                </a:lnTo>
                <a:lnTo>
                  <a:pt x="377" y="2719"/>
                </a:lnTo>
                <a:lnTo>
                  <a:pt x="336" y="2660"/>
                </a:lnTo>
                <a:lnTo>
                  <a:pt x="298" y="2598"/>
                </a:lnTo>
                <a:lnTo>
                  <a:pt x="262" y="2535"/>
                </a:lnTo>
                <a:lnTo>
                  <a:pt x="227" y="2471"/>
                </a:lnTo>
                <a:lnTo>
                  <a:pt x="195" y="2405"/>
                </a:lnTo>
                <a:lnTo>
                  <a:pt x="166" y="2338"/>
                </a:lnTo>
                <a:lnTo>
                  <a:pt x="139" y="2271"/>
                </a:lnTo>
                <a:lnTo>
                  <a:pt x="113" y="2202"/>
                </a:lnTo>
                <a:lnTo>
                  <a:pt x="91" y="2134"/>
                </a:lnTo>
                <a:lnTo>
                  <a:pt x="71" y="2063"/>
                </a:lnTo>
                <a:lnTo>
                  <a:pt x="54" y="1993"/>
                </a:lnTo>
                <a:lnTo>
                  <a:pt x="38" y="1922"/>
                </a:lnTo>
                <a:lnTo>
                  <a:pt x="25" y="1850"/>
                </a:lnTo>
                <a:lnTo>
                  <a:pt x="16" y="1778"/>
                </a:lnTo>
                <a:lnTo>
                  <a:pt x="8" y="1705"/>
                </a:lnTo>
                <a:lnTo>
                  <a:pt x="3" y="1633"/>
                </a:lnTo>
                <a:lnTo>
                  <a:pt x="0" y="1561"/>
                </a:lnTo>
                <a:lnTo>
                  <a:pt x="0" y="1487"/>
                </a:lnTo>
                <a:lnTo>
                  <a:pt x="3" y="1415"/>
                </a:lnTo>
                <a:lnTo>
                  <a:pt x="8" y="1342"/>
                </a:lnTo>
                <a:lnTo>
                  <a:pt x="16" y="1270"/>
                </a:lnTo>
                <a:lnTo>
                  <a:pt x="25" y="1197"/>
                </a:lnTo>
                <a:lnTo>
                  <a:pt x="38" y="1126"/>
                </a:lnTo>
                <a:lnTo>
                  <a:pt x="54" y="1055"/>
                </a:lnTo>
                <a:lnTo>
                  <a:pt x="71" y="984"/>
                </a:lnTo>
                <a:lnTo>
                  <a:pt x="91" y="914"/>
                </a:lnTo>
                <a:lnTo>
                  <a:pt x="113" y="845"/>
                </a:lnTo>
                <a:lnTo>
                  <a:pt x="139" y="776"/>
                </a:lnTo>
                <a:lnTo>
                  <a:pt x="166" y="709"/>
                </a:lnTo>
                <a:lnTo>
                  <a:pt x="195" y="643"/>
                </a:lnTo>
                <a:lnTo>
                  <a:pt x="227" y="577"/>
                </a:lnTo>
                <a:lnTo>
                  <a:pt x="262" y="513"/>
                </a:lnTo>
                <a:lnTo>
                  <a:pt x="298" y="450"/>
                </a:lnTo>
                <a:lnTo>
                  <a:pt x="336" y="388"/>
                </a:lnTo>
                <a:lnTo>
                  <a:pt x="377" y="328"/>
                </a:lnTo>
                <a:lnTo>
                  <a:pt x="420" y="269"/>
                </a:lnTo>
                <a:lnTo>
                  <a:pt x="465" y="212"/>
                </a:lnTo>
                <a:lnTo>
                  <a:pt x="512" y="156"/>
                </a:lnTo>
                <a:lnTo>
                  <a:pt x="561" y="103"/>
                </a:lnTo>
                <a:lnTo>
                  <a:pt x="2086" y="152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30840" y="5273640"/>
            <a:ext cx="27000" cy="12600"/>
          </a:xfrm>
          <a:prstGeom prst="line">
            <a:avLst/>
          </a:prstGeom>
          <a:ln w="144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97360" y="5384880"/>
            <a:ext cx="36720" cy="523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08400" y="5384880"/>
            <a:ext cx="36720" cy="514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768920" y="5848200"/>
            <a:ext cx="404640" cy="40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910040" y="5273640"/>
            <a:ext cx="3816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87800" y="5273640"/>
            <a:ext cx="4464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954680" y="5235480"/>
            <a:ext cx="27000" cy="7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954680" y="5197320"/>
            <a:ext cx="27000" cy="44640"/>
          </a:xfrm>
          <a:custGeom>
            <a:avLst/>
            <a:gdLst/>
            <a:ahLst/>
            <a:rect l="l" t="t" r="r" b="b"/>
            <a:pathLst>
              <a:path w="226" h="361">
                <a:moveTo>
                  <a:pt x="0" y="361"/>
                </a:moveTo>
                <a:lnTo>
                  <a:pt x="91" y="0"/>
                </a:lnTo>
                <a:lnTo>
                  <a:pt x="136" y="0"/>
                </a:lnTo>
                <a:lnTo>
                  <a:pt x="226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65840" y="5186520"/>
            <a:ext cx="46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65840" y="5302080"/>
            <a:ext cx="15840" cy="33480"/>
          </a:xfrm>
          <a:custGeom>
            <a:avLst/>
            <a:gdLst/>
            <a:ahLst/>
            <a:rect l="l" t="t" r="r" b="b"/>
            <a:pathLst>
              <a:path w="135" h="271">
                <a:moveTo>
                  <a:pt x="0" y="225"/>
                </a:moveTo>
                <a:lnTo>
                  <a:pt x="0" y="271"/>
                </a:lnTo>
                <a:lnTo>
                  <a:pt x="135" y="271"/>
                </a:lnTo>
                <a:lnTo>
                  <a:pt x="135" y="0"/>
                </a:lnTo>
                <a:lnTo>
                  <a:pt x="90" y="0"/>
                </a:lnTo>
                <a:lnTo>
                  <a:pt x="90" y="225"/>
                </a:lnTo>
                <a:lnTo>
                  <a:pt x="0" y="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43520" y="5246640"/>
            <a:ext cx="1584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90" y="0"/>
                </a:moveTo>
                <a:lnTo>
                  <a:pt x="45" y="0"/>
                </a:lnTo>
                <a:lnTo>
                  <a:pt x="0" y="46"/>
                </a:lnTo>
                <a:lnTo>
                  <a:pt x="0" y="226"/>
                </a:lnTo>
                <a:lnTo>
                  <a:pt x="45" y="226"/>
                </a:lnTo>
                <a:lnTo>
                  <a:pt x="45" y="496"/>
                </a:lnTo>
                <a:lnTo>
                  <a:pt x="90" y="541"/>
                </a:lnTo>
                <a:lnTo>
                  <a:pt x="136" y="541"/>
                </a:lnTo>
                <a:lnTo>
                  <a:pt x="136" y="451"/>
                </a:lnTo>
                <a:lnTo>
                  <a:pt x="90" y="271"/>
                </a:lnTo>
                <a:lnTo>
                  <a:pt x="9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76640" y="5246640"/>
            <a:ext cx="1620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45" y="0"/>
                </a:moveTo>
                <a:lnTo>
                  <a:pt x="90" y="0"/>
                </a:lnTo>
                <a:lnTo>
                  <a:pt x="136" y="46"/>
                </a:lnTo>
                <a:lnTo>
                  <a:pt x="136" y="226"/>
                </a:lnTo>
                <a:lnTo>
                  <a:pt x="90" y="226"/>
                </a:lnTo>
                <a:lnTo>
                  <a:pt x="90" y="496"/>
                </a:lnTo>
                <a:lnTo>
                  <a:pt x="45" y="541"/>
                </a:lnTo>
                <a:lnTo>
                  <a:pt x="0" y="541"/>
                </a:lnTo>
                <a:lnTo>
                  <a:pt x="0" y="451"/>
                </a:lnTo>
                <a:lnTo>
                  <a:pt x="45" y="271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87920" y="5340240"/>
            <a:ext cx="15552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1200" y="376"/>
                </a:moveTo>
                <a:lnTo>
                  <a:pt x="1200" y="150"/>
                </a:lnTo>
                <a:lnTo>
                  <a:pt x="1275" y="75"/>
                </a:lnTo>
                <a:lnTo>
                  <a:pt x="974" y="0"/>
                </a:lnTo>
                <a:lnTo>
                  <a:pt x="0" y="0"/>
                </a:lnTo>
                <a:lnTo>
                  <a:pt x="0" y="300"/>
                </a:lnTo>
                <a:lnTo>
                  <a:pt x="0" y="376"/>
                </a:lnTo>
                <a:lnTo>
                  <a:pt x="749" y="376"/>
                </a:lnTo>
                <a:lnTo>
                  <a:pt x="900" y="526"/>
                </a:lnTo>
                <a:lnTo>
                  <a:pt x="1200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78200" y="5240160"/>
            <a:ext cx="14616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1127" y="300"/>
                </a:moveTo>
                <a:lnTo>
                  <a:pt x="846" y="0"/>
                </a:lnTo>
                <a:lnTo>
                  <a:pt x="0" y="0"/>
                </a:lnTo>
                <a:lnTo>
                  <a:pt x="0" y="300"/>
                </a:lnTo>
                <a:lnTo>
                  <a:pt x="1198" y="300"/>
                </a:lnTo>
                <a:lnTo>
                  <a:pt x="1127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73220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70360" y="5240160"/>
            <a:ext cx="4464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99040" y="5340240"/>
            <a:ext cx="15552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75" y="376"/>
                </a:moveTo>
                <a:lnTo>
                  <a:pt x="75" y="150"/>
                </a:lnTo>
                <a:lnTo>
                  <a:pt x="0" y="75"/>
                </a:lnTo>
                <a:lnTo>
                  <a:pt x="301" y="0"/>
                </a:lnTo>
                <a:lnTo>
                  <a:pt x="1275" y="0"/>
                </a:lnTo>
                <a:lnTo>
                  <a:pt x="1275" y="300"/>
                </a:lnTo>
                <a:lnTo>
                  <a:pt x="1275" y="376"/>
                </a:lnTo>
                <a:lnTo>
                  <a:pt x="526" y="376"/>
                </a:lnTo>
                <a:lnTo>
                  <a:pt x="375" y="526"/>
                </a:lnTo>
                <a:lnTo>
                  <a:pt x="75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18120" y="5240160"/>
            <a:ext cx="14616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70" y="300"/>
                </a:moveTo>
                <a:lnTo>
                  <a:pt x="352" y="0"/>
                </a:lnTo>
                <a:lnTo>
                  <a:pt x="1198" y="0"/>
                </a:lnTo>
                <a:lnTo>
                  <a:pt x="1198" y="300"/>
                </a:lnTo>
                <a:lnTo>
                  <a:pt x="0" y="300"/>
                </a:lnTo>
                <a:lnTo>
                  <a:pt x="70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516420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5127480" y="5240160"/>
            <a:ext cx="4464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778280" y="5240160"/>
            <a:ext cx="13824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75" y="0"/>
                </a:moveTo>
                <a:lnTo>
                  <a:pt x="151" y="74"/>
                </a:lnTo>
                <a:lnTo>
                  <a:pt x="375" y="74"/>
                </a:lnTo>
                <a:lnTo>
                  <a:pt x="750" y="224"/>
                </a:lnTo>
                <a:lnTo>
                  <a:pt x="1125" y="224"/>
                </a:lnTo>
                <a:lnTo>
                  <a:pt x="1125" y="449"/>
                </a:lnTo>
                <a:lnTo>
                  <a:pt x="826" y="525"/>
                </a:lnTo>
                <a:lnTo>
                  <a:pt x="676" y="525"/>
                </a:lnTo>
                <a:lnTo>
                  <a:pt x="526" y="375"/>
                </a:lnTo>
                <a:lnTo>
                  <a:pt x="375" y="300"/>
                </a:lnTo>
                <a:lnTo>
                  <a:pt x="301" y="300"/>
                </a:lnTo>
                <a:lnTo>
                  <a:pt x="301" y="300"/>
                </a:lnTo>
                <a:lnTo>
                  <a:pt x="0" y="0"/>
                </a:lnTo>
                <a:lnTo>
                  <a:pt x="75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025960" y="5240160"/>
            <a:ext cx="13824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1050" y="0"/>
                </a:moveTo>
                <a:lnTo>
                  <a:pt x="974" y="74"/>
                </a:lnTo>
                <a:lnTo>
                  <a:pt x="750" y="74"/>
                </a:lnTo>
                <a:lnTo>
                  <a:pt x="375" y="224"/>
                </a:lnTo>
                <a:lnTo>
                  <a:pt x="0" y="224"/>
                </a:lnTo>
                <a:lnTo>
                  <a:pt x="0" y="449"/>
                </a:lnTo>
                <a:lnTo>
                  <a:pt x="299" y="525"/>
                </a:lnTo>
                <a:lnTo>
                  <a:pt x="449" y="525"/>
                </a:lnTo>
                <a:lnTo>
                  <a:pt x="599" y="375"/>
                </a:lnTo>
                <a:lnTo>
                  <a:pt x="750" y="300"/>
                </a:lnTo>
                <a:lnTo>
                  <a:pt x="824" y="300"/>
                </a:lnTo>
                <a:lnTo>
                  <a:pt x="824" y="300"/>
                </a:lnTo>
                <a:lnTo>
                  <a:pt x="1125" y="0"/>
                </a:lnTo>
                <a:lnTo>
                  <a:pt x="105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694400" y="5191200"/>
            <a:ext cx="220680" cy="187200"/>
          </a:xfrm>
          <a:custGeom>
            <a:avLst/>
            <a:gdLst/>
            <a:ahLst/>
            <a:rect l="l" t="t" r="r" b="b"/>
            <a:pathLst>
              <a:path w="1809" h="1533">
                <a:moveTo>
                  <a:pt x="1809" y="902"/>
                </a:moveTo>
                <a:lnTo>
                  <a:pt x="1698" y="865"/>
                </a:lnTo>
                <a:lnTo>
                  <a:pt x="1344" y="1010"/>
                </a:lnTo>
                <a:lnTo>
                  <a:pt x="222" y="86"/>
                </a:lnTo>
                <a:lnTo>
                  <a:pt x="104" y="0"/>
                </a:lnTo>
                <a:lnTo>
                  <a:pt x="0" y="12"/>
                </a:lnTo>
                <a:lnTo>
                  <a:pt x="7" y="62"/>
                </a:lnTo>
                <a:lnTo>
                  <a:pt x="12" y="112"/>
                </a:lnTo>
                <a:lnTo>
                  <a:pt x="1194" y="1079"/>
                </a:lnTo>
                <a:lnTo>
                  <a:pt x="1251" y="1122"/>
                </a:lnTo>
                <a:lnTo>
                  <a:pt x="1132" y="1440"/>
                </a:lnTo>
                <a:lnTo>
                  <a:pt x="1138" y="1490"/>
                </a:lnTo>
                <a:lnTo>
                  <a:pt x="1196" y="1533"/>
                </a:lnTo>
                <a:lnTo>
                  <a:pt x="1809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27760" y="5191200"/>
            <a:ext cx="220680" cy="187200"/>
          </a:xfrm>
          <a:custGeom>
            <a:avLst/>
            <a:gdLst/>
            <a:ahLst/>
            <a:rect l="l" t="t" r="r" b="b"/>
            <a:pathLst>
              <a:path w="1809" h="1533">
                <a:moveTo>
                  <a:pt x="0" y="902"/>
                </a:moveTo>
                <a:lnTo>
                  <a:pt x="111" y="865"/>
                </a:lnTo>
                <a:lnTo>
                  <a:pt x="465" y="1010"/>
                </a:lnTo>
                <a:lnTo>
                  <a:pt x="1587" y="86"/>
                </a:lnTo>
                <a:lnTo>
                  <a:pt x="1705" y="0"/>
                </a:lnTo>
                <a:lnTo>
                  <a:pt x="1809" y="12"/>
                </a:lnTo>
                <a:lnTo>
                  <a:pt x="1802" y="62"/>
                </a:lnTo>
                <a:lnTo>
                  <a:pt x="1796" y="112"/>
                </a:lnTo>
                <a:lnTo>
                  <a:pt x="615" y="1079"/>
                </a:lnTo>
                <a:lnTo>
                  <a:pt x="558" y="1122"/>
                </a:lnTo>
                <a:lnTo>
                  <a:pt x="677" y="1440"/>
                </a:lnTo>
                <a:lnTo>
                  <a:pt x="671" y="1490"/>
                </a:lnTo>
                <a:lnTo>
                  <a:pt x="613" y="1533"/>
                </a:lnTo>
                <a:lnTo>
                  <a:pt x="0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71960" y="5322960"/>
            <a:ext cx="1800" cy="7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971960" y="5322960"/>
            <a:ext cx="1800" cy="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952520" y="5330880"/>
            <a:ext cx="9720" cy="93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979880" y="5330880"/>
            <a:ext cx="9720" cy="93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4952520" y="5312880"/>
            <a:ext cx="9720" cy="972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979880" y="5312880"/>
            <a:ext cx="9720" cy="972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71960" y="5340240"/>
            <a:ext cx="1800" cy="1908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98960" y="5330880"/>
            <a:ext cx="17640" cy="144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4925520" y="5322960"/>
            <a:ext cx="17640" cy="144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4933440" y="5359320"/>
            <a:ext cx="9720" cy="1764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89600" y="5359320"/>
            <a:ext cx="19080" cy="1764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5869080"/>
            <a:ext cx="507960" cy="441360"/>
          </a:xfrm>
          <a:custGeom>
            <a:avLst/>
            <a:gdLst/>
            <a:ahLst/>
            <a:rect l="l" t="t" r="r" b="b"/>
            <a:pathLst>
              <a:path w="4162" h="3609">
                <a:moveTo>
                  <a:pt x="2081" y="1524"/>
                </a:moveTo>
                <a:lnTo>
                  <a:pt x="3500" y="0"/>
                </a:lnTo>
                <a:lnTo>
                  <a:pt x="3500" y="0"/>
                </a:lnTo>
                <a:lnTo>
                  <a:pt x="3552" y="50"/>
                </a:lnTo>
                <a:lnTo>
                  <a:pt x="3602" y="103"/>
                </a:lnTo>
                <a:lnTo>
                  <a:pt x="3652" y="156"/>
                </a:lnTo>
                <a:lnTo>
                  <a:pt x="3698" y="212"/>
                </a:lnTo>
                <a:lnTo>
                  <a:pt x="3743" y="269"/>
                </a:lnTo>
                <a:lnTo>
                  <a:pt x="3786" y="328"/>
                </a:lnTo>
                <a:lnTo>
                  <a:pt x="3826" y="388"/>
                </a:lnTo>
                <a:lnTo>
                  <a:pt x="3864" y="450"/>
                </a:lnTo>
                <a:lnTo>
                  <a:pt x="3901" y="513"/>
                </a:lnTo>
                <a:lnTo>
                  <a:pt x="3935" y="577"/>
                </a:lnTo>
                <a:lnTo>
                  <a:pt x="3967" y="643"/>
                </a:lnTo>
                <a:lnTo>
                  <a:pt x="3996" y="709"/>
                </a:lnTo>
                <a:lnTo>
                  <a:pt x="4024" y="776"/>
                </a:lnTo>
                <a:lnTo>
                  <a:pt x="4049" y="845"/>
                </a:lnTo>
                <a:lnTo>
                  <a:pt x="4071" y="914"/>
                </a:lnTo>
                <a:lnTo>
                  <a:pt x="4091" y="984"/>
                </a:lnTo>
                <a:lnTo>
                  <a:pt x="4109" y="1055"/>
                </a:lnTo>
                <a:lnTo>
                  <a:pt x="4123" y="1126"/>
                </a:lnTo>
                <a:lnTo>
                  <a:pt x="4136" y="1197"/>
                </a:lnTo>
                <a:lnTo>
                  <a:pt x="4146" y="1270"/>
                </a:lnTo>
                <a:lnTo>
                  <a:pt x="4154" y="1342"/>
                </a:lnTo>
                <a:lnTo>
                  <a:pt x="4159" y="1415"/>
                </a:lnTo>
                <a:lnTo>
                  <a:pt x="4162" y="1487"/>
                </a:lnTo>
                <a:lnTo>
                  <a:pt x="4162" y="1561"/>
                </a:lnTo>
                <a:lnTo>
                  <a:pt x="4159" y="1633"/>
                </a:lnTo>
                <a:lnTo>
                  <a:pt x="4154" y="1705"/>
                </a:lnTo>
                <a:lnTo>
                  <a:pt x="4146" y="1778"/>
                </a:lnTo>
                <a:lnTo>
                  <a:pt x="4136" y="1850"/>
                </a:lnTo>
                <a:lnTo>
                  <a:pt x="4123" y="1922"/>
                </a:lnTo>
                <a:lnTo>
                  <a:pt x="4109" y="1993"/>
                </a:lnTo>
                <a:lnTo>
                  <a:pt x="4091" y="2063"/>
                </a:lnTo>
                <a:lnTo>
                  <a:pt x="4071" y="2134"/>
                </a:lnTo>
                <a:lnTo>
                  <a:pt x="4049" y="2202"/>
                </a:lnTo>
                <a:lnTo>
                  <a:pt x="4024" y="2271"/>
                </a:lnTo>
                <a:lnTo>
                  <a:pt x="3996" y="2338"/>
                </a:lnTo>
                <a:lnTo>
                  <a:pt x="3967" y="2405"/>
                </a:lnTo>
                <a:lnTo>
                  <a:pt x="3935" y="2471"/>
                </a:lnTo>
                <a:lnTo>
                  <a:pt x="3901" y="2535"/>
                </a:lnTo>
                <a:lnTo>
                  <a:pt x="3864" y="2598"/>
                </a:lnTo>
                <a:lnTo>
                  <a:pt x="3826" y="2660"/>
                </a:lnTo>
                <a:lnTo>
                  <a:pt x="3786" y="2719"/>
                </a:lnTo>
                <a:lnTo>
                  <a:pt x="3743" y="2778"/>
                </a:lnTo>
                <a:lnTo>
                  <a:pt x="3698" y="2836"/>
                </a:lnTo>
                <a:lnTo>
                  <a:pt x="3652" y="2892"/>
                </a:lnTo>
                <a:lnTo>
                  <a:pt x="3602" y="2945"/>
                </a:lnTo>
                <a:lnTo>
                  <a:pt x="3552" y="2998"/>
                </a:lnTo>
                <a:lnTo>
                  <a:pt x="3500" y="3048"/>
                </a:lnTo>
                <a:lnTo>
                  <a:pt x="3446" y="3097"/>
                </a:lnTo>
                <a:lnTo>
                  <a:pt x="3391" y="3144"/>
                </a:lnTo>
                <a:lnTo>
                  <a:pt x="3333" y="3189"/>
                </a:lnTo>
                <a:lnTo>
                  <a:pt x="3274" y="3232"/>
                </a:lnTo>
                <a:lnTo>
                  <a:pt x="3215" y="3272"/>
                </a:lnTo>
                <a:lnTo>
                  <a:pt x="3153" y="3310"/>
                </a:lnTo>
                <a:lnTo>
                  <a:pt x="3090" y="3347"/>
                </a:lnTo>
                <a:lnTo>
                  <a:pt x="3026" y="3381"/>
                </a:lnTo>
                <a:lnTo>
                  <a:pt x="2960" y="3413"/>
                </a:lnTo>
                <a:lnTo>
                  <a:pt x="2894" y="3443"/>
                </a:lnTo>
                <a:lnTo>
                  <a:pt x="2827" y="3470"/>
                </a:lnTo>
                <a:lnTo>
                  <a:pt x="2758" y="3495"/>
                </a:lnTo>
                <a:lnTo>
                  <a:pt x="2690" y="3517"/>
                </a:lnTo>
                <a:lnTo>
                  <a:pt x="2620" y="3537"/>
                </a:lnTo>
                <a:lnTo>
                  <a:pt x="2549" y="3555"/>
                </a:lnTo>
                <a:lnTo>
                  <a:pt x="2478" y="3570"/>
                </a:lnTo>
                <a:lnTo>
                  <a:pt x="2407" y="3582"/>
                </a:lnTo>
                <a:lnTo>
                  <a:pt x="2335" y="3593"/>
                </a:lnTo>
                <a:lnTo>
                  <a:pt x="2262" y="3600"/>
                </a:lnTo>
                <a:lnTo>
                  <a:pt x="2190" y="3605"/>
                </a:lnTo>
                <a:lnTo>
                  <a:pt x="2118" y="3609"/>
                </a:lnTo>
                <a:lnTo>
                  <a:pt x="2044" y="3609"/>
                </a:lnTo>
                <a:lnTo>
                  <a:pt x="1972" y="3605"/>
                </a:lnTo>
                <a:lnTo>
                  <a:pt x="1900" y="3600"/>
                </a:lnTo>
                <a:lnTo>
                  <a:pt x="1828" y="3593"/>
                </a:lnTo>
                <a:lnTo>
                  <a:pt x="1755" y="3582"/>
                </a:lnTo>
                <a:lnTo>
                  <a:pt x="1684" y="3570"/>
                </a:lnTo>
                <a:lnTo>
                  <a:pt x="1613" y="3555"/>
                </a:lnTo>
                <a:lnTo>
                  <a:pt x="1543" y="3537"/>
                </a:lnTo>
                <a:lnTo>
                  <a:pt x="1472" y="3517"/>
                </a:lnTo>
                <a:lnTo>
                  <a:pt x="1403" y="3495"/>
                </a:lnTo>
                <a:lnTo>
                  <a:pt x="1335" y="3470"/>
                </a:lnTo>
                <a:lnTo>
                  <a:pt x="1268" y="3443"/>
                </a:lnTo>
                <a:lnTo>
                  <a:pt x="1202" y="3413"/>
                </a:lnTo>
                <a:lnTo>
                  <a:pt x="1136" y="3381"/>
                </a:lnTo>
                <a:lnTo>
                  <a:pt x="1072" y="3347"/>
                </a:lnTo>
                <a:lnTo>
                  <a:pt x="1009" y="3310"/>
                </a:lnTo>
                <a:lnTo>
                  <a:pt x="947" y="3272"/>
                </a:lnTo>
                <a:lnTo>
                  <a:pt x="888" y="3232"/>
                </a:lnTo>
                <a:lnTo>
                  <a:pt x="829" y="3189"/>
                </a:lnTo>
                <a:lnTo>
                  <a:pt x="771" y="3144"/>
                </a:lnTo>
                <a:lnTo>
                  <a:pt x="716" y="3097"/>
                </a:lnTo>
                <a:lnTo>
                  <a:pt x="662" y="3048"/>
                </a:lnTo>
                <a:lnTo>
                  <a:pt x="610" y="2998"/>
                </a:lnTo>
                <a:lnTo>
                  <a:pt x="560" y="2945"/>
                </a:lnTo>
                <a:lnTo>
                  <a:pt x="510" y="2892"/>
                </a:lnTo>
                <a:lnTo>
                  <a:pt x="464" y="2836"/>
                </a:lnTo>
                <a:lnTo>
                  <a:pt x="419" y="2778"/>
                </a:lnTo>
                <a:lnTo>
                  <a:pt x="376" y="2719"/>
                </a:lnTo>
                <a:lnTo>
                  <a:pt x="336" y="2660"/>
                </a:lnTo>
                <a:lnTo>
                  <a:pt x="298" y="2598"/>
                </a:lnTo>
                <a:lnTo>
                  <a:pt x="261" y="2535"/>
                </a:lnTo>
                <a:lnTo>
                  <a:pt x="227" y="2471"/>
                </a:lnTo>
                <a:lnTo>
                  <a:pt x="195" y="2405"/>
                </a:lnTo>
                <a:lnTo>
                  <a:pt x="166" y="2338"/>
                </a:lnTo>
                <a:lnTo>
                  <a:pt x="139" y="2271"/>
                </a:lnTo>
                <a:lnTo>
                  <a:pt x="113" y="2202"/>
                </a:lnTo>
                <a:lnTo>
                  <a:pt x="91" y="2134"/>
                </a:lnTo>
                <a:lnTo>
                  <a:pt x="71" y="2063"/>
                </a:lnTo>
                <a:lnTo>
                  <a:pt x="54" y="1993"/>
                </a:lnTo>
                <a:lnTo>
                  <a:pt x="38" y="1922"/>
                </a:lnTo>
                <a:lnTo>
                  <a:pt x="25" y="1850"/>
                </a:lnTo>
                <a:lnTo>
                  <a:pt x="16" y="1778"/>
                </a:lnTo>
                <a:lnTo>
                  <a:pt x="9" y="1705"/>
                </a:lnTo>
                <a:lnTo>
                  <a:pt x="3" y="1633"/>
                </a:lnTo>
                <a:lnTo>
                  <a:pt x="0" y="1561"/>
                </a:lnTo>
                <a:lnTo>
                  <a:pt x="0" y="1487"/>
                </a:lnTo>
                <a:lnTo>
                  <a:pt x="3" y="1415"/>
                </a:lnTo>
                <a:lnTo>
                  <a:pt x="9" y="1342"/>
                </a:lnTo>
                <a:lnTo>
                  <a:pt x="16" y="1270"/>
                </a:lnTo>
                <a:lnTo>
                  <a:pt x="25" y="1197"/>
                </a:lnTo>
                <a:lnTo>
                  <a:pt x="38" y="1126"/>
                </a:lnTo>
                <a:lnTo>
                  <a:pt x="54" y="1055"/>
                </a:lnTo>
                <a:lnTo>
                  <a:pt x="71" y="984"/>
                </a:lnTo>
                <a:lnTo>
                  <a:pt x="91" y="914"/>
                </a:lnTo>
                <a:lnTo>
                  <a:pt x="113" y="845"/>
                </a:lnTo>
                <a:lnTo>
                  <a:pt x="139" y="776"/>
                </a:lnTo>
                <a:lnTo>
                  <a:pt x="166" y="709"/>
                </a:lnTo>
                <a:lnTo>
                  <a:pt x="195" y="643"/>
                </a:lnTo>
                <a:lnTo>
                  <a:pt x="227" y="577"/>
                </a:lnTo>
                <a:lnTo>
                  <a:pt x="261" y="513"/>
                </a:lnTo>
                <a:lnTo>
                  <a:pt x="298" y="450"/>
                </a:lnTo>
                <a:lnTo>
                  <a:pt x="336" y="388"/>
                </a:lnTo>
                <a:lnTo>
                  <a:pt x="376" y="328"/>
                </a:lnTo>
                <a:lnTo>
                  <a:pt x="419" y="269"/>
                </a:lnTo>
                <a:lnTo>
                  <a:pt x="464" y="212"/>
                </a:lnTo>
                <a:lnTo>
                  <a:pt x="510" y="156"/>
                </a:lnTo>
                <a:lnTo>
                  <a:pt x="560" y="103"/>
                </a:lnTo>
                <a:lnTo>
                  <a:pt x="2081" y="152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720880" y="5273640"/>
            <a:ext cx="27000" cy="12600"/>
          </a:xfrm>
          <a:prstGeom prst="line">
            <a:avLst/>
          </a:prstGeom>
          <a:ln w="144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87760" y="5384880"/>
            <a:ext cx="36360" cy="523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97360" y="5384880"/>
            <a:ext cx="36360" cy="514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58960" y="5848200"/>
            <a:ext cx="403200" cy="40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800440" y="5273640"/>
            <a:ext cx="3816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76400" y="5273640"/>
            <a:ext cx="4464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44720" y="5235480"/>
            <a:ext cx="27000" cy="7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44720" y="5197320"/>
            <a:ext cx="27000" cy="44640"/>
          </a:xfrm>
          <a:custGeom>
            <a:avLst/>
            <a:gdLst/>
            <a:ahLst/>
            <a:rect l="l" t="t" r="r" b="b"/>
            <a:pathLst>
              <a:path w="225" h="361">
                <a:moveTo>
                  <a:pt x="0" y="361"/>
                </a:moveTo>
                <a:lnTo>
                  <a:pt x="90" y="0"/>
                </a:lnTo>
                <a:lnTo>
                  <a:pt x="135" y="0"/>
                </a:lnTo>
                <a:lnTo>
                  <a:pt x="225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54440" y="5186520"/>
            <a:ext cx="612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54440" y="5302080"/>
            <a:ext cx="17280" cy="33480"/>
          </a:xfrm>
          <a:custGeom>
            <a:avLst/>
            <a:gdLst/>
            <a:ahLst/>
            <a:rect l="l" t="t" r="r" b="b"/>
            <a:pathLst>
              <a:path w="135" h="271">
                <a:moveTo>
                  <a:pt x="0" y="225"/>
                </a:moveTo>
                <a:lnTo>
                  <a:pt x="0" y="271"/>
                </a:lnTo>
                <a:lnTo>
                  <a:pt x="135" y="271"/>
                </a:lnTo>
                <a:lnTo>
                  <a:pt x="135" y="0"/>
                </a:lnTo>
                <a:lnTo>
                  <a:pt x="90" y="0"/>
                </a:lnTo>
                <a:lnTo>
                  <a:pt x="90" y="225"/>
                </a:lnTo>
                <a:lnTo>
                  <a:pt x="0" y="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833560" y="5246640"/>
            <a:ext cx="15840" cy="66600"/>
          </a:xfrm>
          <a:custGeom>
            <a:avLst/>
            <a:gdLst/>
            <a:ahLst/>
            <a:rect l="l" t="t" r="r" b="b"/>
            <a:pathLst>
              <a:path w="135" h="541">
                <a:moveTo>
                  <a:pt x="90" y="0"/>
                </a:moveTo>
                <a:lnTo>
                  <a:pt x="45" y="0"/>
                </a:lnTo>
                <a:lnTo>
                  <a:pt x="0" y="46"/>
                </a:lnTo>
                <a:lnTo>
                  <a:pt x="0" y="226"/>
                </a:lnTo>
                <a:lnTo>
                  <a:pt x="45" y="226"/>
                </a:lnTo>
                <a:lnTo>
                  <a:pt x="45" y="496"/>
                </a:lnTo>
                <a:lnTo>
                  <a:pt x="90" y="541"/>
                </a:lnTo>
                <a:lnTo>
                  <a:pt x="135" y="541"/>
                </a:lnTo>
                <a:lnTo>
                  <a:pt x="135" y="451"/>
                </a:lnTo>
                <a:lnTo>
                  <a:pt x="90" y="271"/>
                </a:lnTo>
                <a:lnTo>
                  <a:pt x="9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865600" y="5246640"/>
            <a:ext cx="17280" cy="66600"/>
          </a:xfrm>
          <a:custGeom>
            <a:avLst/>
            <a:gdLst/>
            <a:ahLst/>
            <a:rect l="l" t="t" r="r" b="b"/>
            <a:pathLst>
              <a:path w="135" h="541">
                <a:moveTo>
                  <a:pt x="45" y="0"/>
                </a:moveTo>
                <a:lnTo>
                  <a:pt x="90" y="0"/>
                </a:lnTo>
                <a:lnTo>
                  <a:pt x="135" y="46"/>
                </a:lnTo>
                <a:lnTo>
                  <a:pt x="135" y="226"/>
                </a:lnTo>
                <a:lnTo>
                  <a:pt x="90" y="226"/>
                </a:lnTo>
                <a:lnTo>
                  <a:pt x="90" y="496"/>
                </a:lnTo>
                <a:lnTo>
                  <a:pt x="45" y="541"/>
                </a:lnTo>
                <a:lnTo>
                  <a:pt x="0" y="541"/>
                </a:lnTo>
                <a:lnTo>
                  <a:pt x="0" y="451"/>
                </a:lnTo>
                <a:lnTo>
                  <a:pt x="45" y="271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77960" y="5340240"/>
            <a:ext cx="154080" cy="65160"/>
          </a:xfrm>
          <a:custGeom>
            <a:avLst/>
            <a:gdLst/>
            <a:ahLst/>
            <a:rect l="l" t="t" r="r" b="b"/>
            <a:pathLst>
              <a:path w="1272" h="526">
                <a:moveTo>
                  <a:pt x="1198" y="376"/>
                </a:moveTo>
                <a:lnTo>
                  <a:pt x="1198" y="150"/>
                </a:lnTo>
                <a:lnTo>
                  <a:pt x="1272" y="75"/>
                </a:lnTo>
                <a:lnTo>
                  <a:pt x="973" y="0"/>
                </a:lnTo>
                <a:lnTo>
                  <a:pt x="0" y="0"/>
                </a:lnTo>
                <a:lnTo>
                  <a:pt x="0" y="300"/>
                </a:lnTo>
                <a:lnTo>
                  <a:pt x="0" y="376"/>
                </a:lnTo>
                <a:lnTo>
                  <a:pt x="748" y="376"/>
                </a:lnTo>
                <a:lnTo>
                  <a:pt x="898" y="526"/>
                </a:lnTo>
                <a:lnTo>
                  <a:pt x="1198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68600" y="5240160"/>
            <a:ext cx="146160" cy="36720"/>
          </a:xfrm>
          <a:custGeom>
            <a:avLst/>
            <a:gdLst/>
            <a:ahLst/>
            <a:rect l="l" t="t" r="r" b="b"/>
            <a:pathLst>
              <a:path w="1195" h="300">
                <a:moveTo>
                  <a:pt x="1124" y="300"/>
                </a:moveTo>
                <a:lnTo>
                  <a:pt x="843" y="0"/>
                </a:lnTo>
                <a:lnTo>
                  <a:pt x="0" y="0"/>
                </a:lnTo>
                <a:lnTo>
                  <a:pt x="0" y="300"/>
                </a:lnTo>
                <a:lnTo>
                  <a:pt x="1195" y="300"/>
                </a:lnTo>
                <a:lnTo>
                  <a:pt x="1124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62260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5896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989440" y="5340240"/>
            <a:ext cx="155520" cy="65160"/>
          </a:xfrm>
          <a:custGeom>
            <a:avLst/>
            <a:gdLst/>
            <a:ahLst/>
            <a:rect l="l" t="t" r="r" b="b"/>
            <a:pathLst>
              <a:path w="1272" h="526">
                <a:moveTo>
                  <a:pt x="74" y="376"/>
                </a:moveTo>
                <a:lnTo>
                  <a:pt x="74" y="150"/>
                </a:lnTo>
                <a:lnTo>
                  <a:pt x="0" y="75"/>
                </a:lnTo>
                <a:lnTo>
                  <a:pt x="300" y="0"/>
                </a:lnTo>
                <a:lnTo>
                  <a:pt x="1272" y="0"/>
                </a:lnTo>
                <a:lnTo>
                  <a:pt x="1272" y="300"/>
                </a:lnTo>
                <a:lnTo>
                  <a:pt x="1272" y="376"/>
                </a:lnTo>
                <a:lnTo>
                  <a:pt x="524" y="376"/>
                </a:lnTo>
                <a:lnTo>
                  <a:pt x="374" y="526"/>
                </a:lnTo>
                <a:lnTo>
                  <a:pt x="74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06720" y="5240160"/>
            <a:ext cx="146160" cy="36720"/>
          </a:xfrm>
          <a:custGeom>
            <a:avLst/>
            <a:gdLst/>
            <a:ahLst/>
            <a:rect l="l" t="t" r="r" b="b"/>
            <a:pathLst>
              <a:path w="1195" h="300">
                <a:moveTo>
                  <a:pt x="70" y="300"/>
                </a:moveTo>
                <a:lnTo>
                  <a:pt x="352" y="0"/>
                </a:lnTo>
                <a:lnTo>
                  <a:pt x="1195" y="0"/>
                </a:lnTo>
                <a:lnTo>
                  <a:pt x="1195" y="300"/>
                </a:lnTo>
                <a:lnTo>
                  <a:pt x="0" y="300"/>
                </a:lnTo>
                <a:lnTo>
                  <a:pt x="70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305280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301608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668680" y="5240160"/>
            <a:ext cx="137880" cy="63720"/>
          </a:xfrm>
          <a:custGeom>
            <a:avLst/>
            <a:gdLst/>
            <a:ahLst/>
            <a:rect l="l" t="t" r="r" b="b"/>
            <a:pathLst>
              <a:path w="1123" h="525">
                <a:moveTo>
                  <a:pt x="75" y="0"/>
                </a:moveTo>
                <a:lnTo>
                  <a:pt x="150" y="74"/>
                </a:lnTo>
                <a:lnTo>
                  <a:pt x="374" y="74"/>
                </a:lnTo>
                <a:lnTo>
                  <a:pt x="749" y="224"/>
                </a:lnTo>
                <a:lnTo>
                  <a:pt x="1123" y="224"/>
                </a:lnTo>
                <a:lnTo>
                  <a:pt x="1123" y="449"/>
                </a:lnTo>
                <a:lnTo>
                  <a:pt x="824" y="525"/>
                </a:lnTo>
                <a:lnTo>
                  <a:pt x="674" y="525"/>
                </a:lnTo>
                <a:lnTo>
                  <a:pt x="524" y="375"/>
                </a:lnTo>
                <a:lnTo>
                  <a:pt x="374" y="300"/>
                </a:lnTo>
                <a:lnTo>
                  <a:pt x="300" y="300"/>
                </a:lnTo>
                <a:lnTo>
                  <a:pt x="300" y="300"/>
                </a:lnTo>
                <a:lnTo>
                  <a:pt x="0" y="0"/>
                </a:lnTo>
                <a:lnTo>
                  <a:pt x="75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16360" y="5240160"/>
            <a:ext cx="136440" cy="63720"/>
          </a:xfrm>
          <a:custGeom>
            <a:avLst/>
            <a:gdLst/>
            <a:ahLst/>
            <a:rect l="l" t="t" r="r" b="b"/>
            <a:pathLst>
              <a:path w="1122" h="525">
                <a:moveTo>
                  <a:pt x="1047" y="0"/>
                </a:moveTo>
                <a:lnTo>
                  <a:pt x="972" y="74"/>
                </a:lnTo>
                <a:lnTo>
                  <a:pt x="748" y="74"/>
                </a:lnTo>
                <a:lnTo>
                  <a:pt x="374" y="224"/>
                </a:lnTo>
                <a:lnTo>
                  <a:pt x="0" y="224"/>
                </a:lnTo>
                <a:lnTo>
                  <a:pt x="0" y="449"/>
                </a:lnTo>
                <a:lnTo>
                  <a:pt x="298" y="525"/>
                </a:lnTo>
                <a:lnTo>
                  <a:pt x="448" y="525"/>
                </a:lnTo>
                <a:lnTo>
                  <a:pt x="598" y="375"/>
                </a:lnTo>
                <a:lnTo>
                  <a:pt x="748" y="300"/>
                </a:lnTo>
                <a:lnTo>
                  <a:pt x="822" y="300"/>
                </a:lnTo>
                <a:lnTo>
                  <a:pt x="822" y="300"/>
                </a:lnTo>
                <a:lnTo>
                  <a:pt x="1122" y="0"/>
                </a:lnTo>
                <a:lnTo>
                  <a:pt x="104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84440" y="5191200"/>
            <a:ext cx="220680" cy="187200"/>
          </a:xfrm>
          <a:custGeom>
            <a:avLst/>
            <a:gdLst/>
            <a:ahLst/>
            <a:rect l="l" t="t" r="r" b="b"/>
            <a:pathLst>
              <a:path w="1804" h="1533">
                <a:moveTo>
                  <a:pt x="1804" y="902"/>
                </a:moveTo>
                <a:lnTo>
                  <a:pt x="1693" y="865"/>
                </a:lnTo>
                <a:lnTo>
                  <a:pt x="1340" y="1010"/>
                </a:lnTo>
                <a:lnTo>
                  <a:pt x="221" y="86"/>
                </a:lnTo>
                <a:lnTo>
                  <a:pt x="104" y="0"/>
                </a:lnTo>
                <a:lnTo>
                  <a:pt x="0" y="12"/>
                </a:lnTo>
                <a:lnTo>
                  <a:pt x="6" y="62"/>
                </a:lnTo>
                <a:lnTo>
                  <a:pt x="12" y="112"/>
                </a:lnTo>
                <a:lnTo>
                  <a:pt x="1190" y="1079"/>
                </a:lnTo>
                <a:lnTo>
                  <a:pt x="1248" y="1122"/>
                </a:lnTo>
                <a:lnTo>
                  <a:pt x="1129" y="1440"/>
                </a:lnTo>
                <a:lnTo>
                  <a:pt x="1135" y="1490"/>
                </a:lnTo>
                <a:lnTo>
                  <a:pt x="1192" y="1533"/>
                </a:lnTo>
                <a:lnTo>
                  <a:pt x="1804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916360" y="5191200"/>
            <a:ext cx="220680" cy="187200"/>
          </a:xfrm>
          <a:custGeom>
            <a:avLst/>
            <a:gdLst/>
            <a:ahLst/>
            <a:rect l="l" t="t" r="r" b="b"/>
            <a:pathLst>
              <a:path w="1804" h="1533">
                <a:moveTo>
                  <a:pt x="0" y="902"/>
                </a:moveTo>
                <a:lnTo>
                  <a:pt x="111" y="865"/>
                </a:lnTo>
                <a:lnTo>
                  <a:pt x="464" y="1010"/>
                </a:lnTo>
                <a:lnTo>
                  <a:pt x="1583" y="86"/>
                </a:lnTo>
                <a:lnTo>
                  <a:pt x="1700" y="0"/>
                </a:lnTo>
                <a:lnTo>
                  <a:pt x="1804" y="12"/>
                </a:lnTo>
                <a:lnTo>
                  <a:pt x="1798" y="62"/>
                </a:lnTo>
                <a:lnTo>
                  <a:pt x="1792" y="112"/>
                </a:lnTo>
                <a:lnTo>
                  <a:pt x="614" y="1079"/>
                </a:lnTo>
                <a:lnTo>
                  <a:pt x="556" y="1122"/>
                </a:lnTo>
                <a:lnTo>
                  <a:pt x="676" y="1440"/>
                </a:lnTo>
                <a:lnTo>
                  <a:pt x="669" y="1490"/>
                </a:lnTo>
                <a:lnTo>
                  <a:pt x="612" y="1533"/>
                </a:lnTo>
                <a:lnTo>
                  <a:pt x="0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430440" y="5869080"/>
            <a:ext cx="508320" cy="441360"/>
          </a:xfrm>
          <a:custGeom>
            <a:avLst/>
            <a:gdLst/>
            <a:ahLst/>
            <a:rect l="l" t="t" r="r" b="b"/>
            <a:pathLst>
              <a:path w="4162" h="3609">
                <a:moveTo>
                  <a:pt x="2081" y="1524"/>
                </a:moveTo>
                <a:lnTo>
                  <a:pt x="3500" y="0"/>
                </a:lnTo>
                <a:lnTo>
                  <a:pt x="3500" y="0"/>
                </a:lnTo>
                <a:lnTo>
                  <a:pt x="3552" y="50"/>
                </a:lnTo>
                <a:lnTo>
                  <a:pt x="3602" y="103"/>
                </a:lnTo>
                <a:lnTo>
                  <a:pt x="3652" y="156"/>
                </a:lnTo>
                <a:lnTo>
                  <a:pt x="3698" y="212"/>
                </a:lnTo>
                <a:lnTo>
                  <a:pt x="3743" y="269"/>
                </a:lnTo>
                <a:lnTo>
                  <a:pt x="3786" y="328"/>
                </a:lnTo>
                <a:lnTo>
                  <a:pt x="3826" y="388"/>
                </a:lnTo>
                <a:lnTo>
                  <a:pt x="3864" y="450"/>
                </a:lnTo>
                <a:lnTo>
                  <a:pt x="3901" y="513"/>
                </a:lnTo>
                <a:lnTo>
                  <a:pt x="3935" y="577"/>
                </a:lnTo>
                <a:lnTo>
                  <a:pt x="3967" y="643"/>
                </a:lnTo>
                <a:lnTo>
                  <a:pt x="3996" y="709"/>
                </a:lnTo>
                <a:lnTo>
                  <a:pt x="4024" y="776"/>
                </a:lnTo>
                <a:lnTo>
                  <a:pt x="4049" y="845"/>
                </a:lnTo>
                <a:lnTo>
                  <a:pt x="4071" y="914"/>
                </a:lnTo>
                <a:lnTo>
                  <a:pt x="4091" y="984"/>
                </a:lnTo>
                <a:lnTo>
                  <a:pt x="4109" y="1055"/>
                </a:lnTo>
                <a:lnTo>
                  <a:pt x="4123" y="1126"/>
                </a:lnTo>
                <a:lnTo>
                  <a:pt x="4136" y="1197"/>
                </a:lnTo>
                <a:lnTo>
                  <a:pt x="4146" y="1270"/>
                </a:lnTo>
                <a:lnTo>
                  <a:pt x="4154" y="1342"/>
                </a:lnTo>
                <a:lnTo>
                  <a:pt x="4159" y="1415"/>
                </a:lnTo>
                <a:lnTo>
                  <a:pt x="4162" y="1487"/>
                </a:lnTo>
                <a:lnTo>
                  <a:pt x="4162" y="1561"/>
                </a:lnTo>
                <a:lnTo>
                  <a:pt x="4159" y="1633"/>
                </a:lnTo>
                <a:lnTo>
                  <a:pt x="4154" y="1705"/>
                </a:lnTo>
                <a:lnTo>
                  <a:pt x="4146" y="1778"/>
                </a:lnTo>
                <a:lnTo>
                  <a:pt x="4136" y="1850"/>
                </a:lnTo>
                <a:lnTo>
                  <a:pt x="4123" y="1922"/>
                </a:lnTo>
                <a:lnTo>
                  <a:pt x="4109" y="1993"/>
                </a:lnTo>
                <a:lnTo>
                  <a:pt x="4091" y="2063"/>
                </a:lnTo>
                <a:lnTo>
                  <a:pt x="4071" y="2134"/>
                </a:lnTo>
                <a:lnTo>
                  <a:pt x="4049" y="2202"/>
                </a:lnTo>
                <a:lnTo>
                  <a:pt x="4024" y="2271"/>
                </a:lnTo>
                <a:lnTo>
                  <a:pt x="3996" y="2338"/>
                </a:lnTo>
                <a:lnTo>
                  <a:pt x="3967" y="2405"/>
                </a:lnTo>
                <a:lnTo>
                  <a:pt x="3935" y="2471"/>
                </a:lnTo>
                <a:lnTo>
                  <a:pt x="3901" y="2535"/>
                </a:lnTo>
                <a:lnTo>
                  <a:pt x="3864" y="2598"/>
                </a:lnTo>
                <a:lnTo>
                  <a:pt x="3826" y="2660"/>
                </a:lnTo>
                <a:lnTo>
                  <a:pt x="3786" y="2719"/>
                </a:lnTo>
                <a:lnTo>
                  <a:pt x="3743" y="2778"/>
                </a:lnTo>
                <a:lnTo>
                  <a:pt x="3698" y="2836"/>
                </a:lnTo>
                <a:lnTo>
                  <a:pt x="3652" y="2892"/>
                </a:lnTo>
                <a:lnTo>
                  <a:pt x="3602" y="2945"/>
                </a:lnTo>
                <a:lnTo>
                  <a:pt x="3552" y="2998"/>
                </a:lnTo>
                <a:lnTo>
                  <a:pt x="3500" y="3048"/>
                </a:lnTo>
                <a:lnTo>
                  <a:pt x="3446" y="3097"/>
                </a:lnTo>
                <a:lnTo>
                  <a:pt x="3391" y="3144"/>
                </a:lnTo>
                <a:lnTo>
                  <a:pt x="3333" y="3189"/>
                </a:lnTo>
                <a:lnTo>
                  <a:pt x="3274" y="3232"/>
                </a:lnTo>
                <a:lnTo>
                  <a:pt x="3215" y="3272"/>
                </a:lnTo>
                <a:lnTo>
                  <a:pt x="3153" y="3310"/>
                </a:lnTo>
                <a:lnTo>
                  <a:pt x="3090" y="3347"/>
                </a:lnTo>
                <a:lnTo>
                  <a:pt x="3026" y="3381"/>
                </a:lnTo>
                <a:lnTo>
                  <a:pt x="2960" y="3413"/>
                </a:lnTo>
                <a:lnTo>
                  <a:pt x="2894" y="3443"/>
                </a:lnTo>
                <a:lnTo>
                  <a:pt x="2827" y="3470"/>
                </a:lnTo>
                <a:lnTo>
                  <a:pt x="2758" y="3495"/>
                </a:lnTo>
                <a:lnTo>
                  <a:pt x="2690" y="3517"/>
                </a:lnTo>
                <a:lnTo>
                  <a:pt x="2620" y="3537"/>
                </a:lnTo>
                <a:lnTo>
                  <a:pt x="2549" y="3555"/>
                </a:lnTo>
                <a:lnTo>
                  <a:pt x="2478" y="3570"/>
                </a:lnTo>
                <a:lnTo>
                  <a:pt x="2407" y="3582"/>
                </a:lnTo>
                <a:lnTo>
                  <a:pt x="2335" y="3593"/>
                </a:lnTo>
                <a:lnTo>
                  <a:pt x="2262" y="3600"/>
                </a:lnTo>
                <a:lnTo>
                  <a:pt x="2190" y="3605"/>
                </a:lnTo>
                <a:lnTo>
                  <a:pt x="2118" y="3609"/>
                </a:lnTo>
                <a:lnTo>
                  <a:pt x="2044" y="3609"/>
                </a:lnTo>
                <a:lnTo>
                  <a:pt x="1972" y="3605"/>
                </a:lnTo>
                <a:lnTo>
                  <a:pt x="1900" y="3600"/>
                </a:lnTo>
                <a:lnTo>
                  <a:pt x="1828" y="3593"/>
                </a:lnTo>
                <a:lnTo>
                  <a:pt x="1755" y="3582"/>
                </a:lnTo>
                <a:lnTo>
                  <a:pt x="1684" y="3570"/>
                </a:lnTo>
                <a:lnTo>
                  <a:pt x="1613" y="3555"/>
                </a:lnTo>
                <a:lnTo>
                  <a:pt x="1543" y="3537"/>
                </a:lnTo>
                <a:lnTo>
                  <a:pt x="1472" y="3517"/>
                </a:lnTo>
                <a:lnTo>
                  <a:pt x="1403" y="3495"/>
                </a:lnTo>
                <a:lnTo>
                  <a:pt x="1335" y="3470"/>
                </a:lnTo>
                <a:lnTo>
                  <a:pt x="1268" y="3443"/>
                </a:lnTo>
                <a:lnTo>
                  <a:pt x="1202" y="3413"/>
                </a:lnTo>
                <a:lnTo>
                  <a:pt x="1136" y="3381"/>
                </a:lnTo>
                <a:lnTo>
                  <a:pt x="1072" y="3347"/>
                </a:lnTo>
                <a:lnTo>
                  <a:pt x="1009" y="3310"/>
                </a:lnTo>
                <a:lnTo>
                  <a:pt x="947" y="3272"/>
                </a:lnTo>
                <a:lnTo>
                  <a:pt x="888" y="3232"/>
                </a:lnTo>
                <a:lnTo>
                  <a:pt x="829" y="3189"/>
                </a:lnTo>
                <a:lnTo>
                  <a:pt x="771" y="3144"/>
                </a:lnTo>
                <a:lnTo>
                  <a:pt x="716" y="3097"/>
                </a:lnTo>
                <a:lnTo>
                  <a:pt x="662" y="3048"/>
                </a:lnTo>
                <a:lnTo>
                  <a:pt x="610" y="2998"/>
                </a:lnTo>
                <a:lnTo>
                  <a:pt x="560" y="2945"/>
                </a:lnTo>
                <a:lnTo>
                  <a:pt x="510" y="2892"/>
                </a:lnTo>
                <a:lnTo>
                  <a:pt x="464" y="2836"/>
                </a:lnTo>
                <a:lnTo>
                  <a:pt x="419" y="2778"/>
                </a:lnTo>
                <a:lnTo>
                  <a:pt x="376" y="2719"/>
                </a:lnTo>
                <a:lnTo>
                  <a:pt x="336" y="2660"/>
                </a:lnTo>
                <a:lnTo>
                  <a:pt x="298" y="2598"/>
                </a:lnTo>
                <a:lnTo>
                  <a:pt x="261" y="2535"/>
                </a:lnTo>
                <a:lnTo>
                  <a:pt x="227" y="2471"/>
                </a:lnTo>
                <a:lnTo>
                  <a:pt x="195" y="2405"/>
                </a:lnTo>
                <a:lnTo>
                  <a:pt x="166" y="2338"/>
                </a:lnTo>
                <a:lnTo>
                  <a:pt x="139" y="2271"/>
                </a:lnTo>
                <a:lnTo>
                  <a:pt x="113" y="2202"/>
                </a:lnTo>
                <a:lnTo>
                  <a:pt x="91" y="2134"/>
                </a:lnTo>
                <a:lnTo>
                  <a:pt x="71" y="2063"/>
                </a:lnTo>
                <a:lnTo>
                  <a:pt x="54" y="1993"/>
                </a:lnTo>
                <a:lnTo>
                  <a:pt x="38" y="1922"/>
                </a:lnTo>
                <a:lnTo>
                  <a:pt x="25" y="1850"/>
                </a:lnTo>
                <a:lnTo>
                  <a:pt x="16" y="1778"/>
                </a:lnTo>
                <a:lnTo>
                  <a:pt x="9" y="1705"/>
                </a:lnTo>
                <a:lnTo>
                  <a:pt x="3" y="1633"/>
                </a:lnTo>
                <a:lnTo>
                  <a:pt x="0" y="1561"/>
                </a:lnTo>
                <a:lnTo>
                  <a:pt x="0" y="1487"/>
                </a:lnTo>
                <a:lnTo>
                  <a:pt x="3" y="1415"/>
                </a:lnTo>
                <a:lnTo>
                  <a:pt x="9" y="1342"/>
                </a:lnTo>
                <a:lnTo>
                  <a:pt x="16" y="1270"/>
                </a:lnTo>
                <a:lnTo>
                  <a:pt x="25" y="1197"/>
                </a:lnTo>
                <a:lnTo>
                  <a:pt x="38" y="1126"/>
                </a:lnTo>
                <a:lnTo>
                  <a:pt x="54" y="1055"/>
                </a:lnTo>
                <a:lnTo>
                  <a:pt x="71" y="984"/>
                </a:lnTo>
                <a:lnTo>
                  <a:pt x="91" y="914"/>
                </a:lnTo>
                <a:lnTo>
                  <a:pt x="113" y="845"/>
                </a:lnTo>
                <a:lnTo>
                  <a:pt x="139" y="776"/>
                </a:lnTo>
                <a:lnTo>
                  <a:pt x="166" y="709"/>
                </a:lnTo>
                <a:lnTo>
                  <a:pt x="195" y="643"/>
                </a:lnTo>
                <a:lnTo>
                  <a:pt x="227" y="577"/>
                </a:lnTo>
                <a:lnTo>
                  <a:pt x="261" y="513"/>
                </a:lnTo>
                <a:lnTo>
                  <a:pt x="298" y="450"/>
                </a:lnTo>
                <a:lnTo>
                  <a:pt x="336" y="388"/>
                </a:lnTo>
                <a:lnTo>
                  <a:pt x="376" y="328"/>
                </a:lnTo>
                <a:lnTo>
                  <a:pt x="419" y="269"/>
                </a:lnTo>
                <a:lnTo>
                  <a:pt x="464" y="212"/>
                </a:lnTo>
                <a:lnTo>
                  <a:pt x="510" y="156"/>
                </a:lnTo>
                <a:lnTo>
                  <a:pt x="560" y="103"/>
                </a:lnTo>
                <a:lnTo>
                  <a:pt x="2081" y="152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44920" y="5273640"/>
            <a:ext cx="27000" cy="12600"/>
          </a:xfrm>
          <a:prstGeom prst="line">
            <a:avLst/>
          </a:prstGeom>
          <a:ln w="144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511440" y="5384880"/>
            <a:ext cx="36720" cy="523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21040" y="5384880"/>
            <a:ext cx="36720" cy="514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83000" y="5848200"/>
            <a:ext cx="403200" cy="40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624120" y="5273640"/>
            <a:ext cx="3816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00440" y="5273640"/>
            <a:ext cx="4464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668760" y="5235480"/>
            <a:ext cx="27000" cy="7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668760" y="5197320"/>
            <a:ext cx="27000" cy="44640"/>
          </a:xfrm>
          <a:custGeom>
            <a:avLst/>
            <a:gdLst/>
            <a:ahLst/>
            <a:rect l="l" t="t" r="r" b="b"/>
            <a:pathLst>
              <a:path w="225" h="361">
                <a:moveTo>
                  <a:pt x="0" y="361"/>
                </a:moveTo>
                <a:lnTo>
                  <a:pt x="90" y="0"/>
                </a:lnTo>
                <a:lnTo>
                  <a:pt x="135" y="0"/>
                </a:lnTo>
                <a:lnTo>
                  <a:pt x="225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678120" y="5186520"/>
            <a:ext cx="64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78120" y="5302080"/>
            <a:ext cx="17640" cy="33480"/>
          </a:xfrm>
          <a:custGeom>
            <a:avLst/>
            <a:gdLst/>
            <a:ahLst/>
            <a:rect l="l" t="t" r="r" b="b"/>
            <a:pathLst>
              <a:path w="135" h="271">
                <a:moveTo>
                  <a:pt x="0" y="225"/>
                </a:moveTo>
                <a:lnTo>
                  <a:pt x="0" y="271"/>
                </a:lnTo>
                <a:lnTo>
                  <a:pt x="135" y="271"/>
                </a:lnTo>
                <a:lnTo>
                  <a:pt x="135" y="0"/>
                </a:lnTo>
                <a:lnTo>
                  <a:pt x="90" y="0"/>
                </a:lnTo>
                <a:lnTo>
                  <a:pt x="90" y="225"/>
                </a:lnTo>
                <a:lnTo>
                  <a:pt x="0" y="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657600" y="5246640"/>
            <a:ext cx="15840" cy="66600"/>
          </a:xfrm>
          <a:custGeom>
            <a:avLst/>
            <a:gdLst/>
            <a:ahLst/>
            <a:rect l="l" t="t" r="r" b="b"/>
            <a:pathLst>
              <a:path w="135" h="541">
                <a:moveTo>
                  <a:pt x="90" y="0"/>
                </a:moveTo>
                <a:lnTo>
                  <a:pt x="45" y="0"/>
                </a:lnTo>
                <a:lnTo>
                  <a:pt x="0" y="46"/>
                </a:lnTo>
                <a:lnTo>
                  <a:pt x="0" y="226"/>
                </a:lnTo>
                <a:lnTo>
                  <a:pt x="45" y="226"/>
                </a:lnTo>
                <a:lnTo>
                  <a:pt x="45" y="496"/>
                </a:lnTo>
                <a:lnTo>
                  <a:pt x="90" y="541"/>
                </a:lnTo>
                <a:lnTo>
                  <a:pt x="135" y="541"/>
                </a:lnTo>
                <a:lnTo>
                  <a:pt x="135" y="451"/>
                </a:lnTo>
                <a:lnTo>
                  <a:pt x="90" y="271"/>
                </a:lnTo>
                <a:lnTo>
                  <a:pt x="9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689280" y="5246640"/>
            <a:ext cx="17640" cy="66600"/>
          </a:xfrm>
          <a:custGeom>
            <a:avLst/>
            <a:gdLst/>
            <a:ahLst/>
            <a:rect l="l" t="t" r="r" b="b"/>
            <a:pathLst>
              <a:path w="135" h="541">
                <a:moveTo>
                  <a:pt x="45" y="0"/>
                </a:moveTo>
                <a:lnTo>
                  <a:pt x="90" y="0"/>
                </a:lnTo>
                <a:lnTo>
                  <a:pt x="135" y="46"/>
                </a:lnTo>
                <a:lnTo>
                  <a:pt x="135" y="226"/>
                </a:lnTo>
                <a:lnTo>
                  <a:pt x="90" y="226"/>
                </a:lnTo>
                <a:lnTo>
                  <a:pt x="90" y="496"/>
                </a:lnTo>
                <a:lnTo>
                  <a:pt x="45" y="541"/>
                </a:lnTo>
                <a:lnTo>
                  <a:pt x="0" y="541"/>
                </a:lnTo>
                <a:lnTo>
                  <a:pt x="0" y="451"/>
                </a:lnTo>
                <a:lnTo>
                  <a:pt x="45" y="271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402000" y="5340240"/>
            <a:ext cx="154080" cy="65160"/>
          </a:xfrm>
          <a:custGeom>
            <a:avLst/>
            <a:gdLst/>
            <a:ahLst/>
            <a:rect l="l" t="t" r="r" b="b"/>
            <a:pathLst>
              <a:path w="1272" h="526">
                <a:moveTo>
                  <a:pt x="1198" y="376"/>
                </a:moveTo>
                <a:lnTo>
                  <a:pt x="1198" y="150"/>
                </a:lnTo>
                <a:lnTo>
                  <a:pt x="1272" y="75"/>
                </a:lnTo>
                <a:lnTo>
                  <a:pt x="973" y="0"/>
                </a:lnTo>
                <a:lnTo>
                  <a:pt x="0" y="0"/>
                </a:lnTo>
                <a:lnTo>
                  <a:pt x="0" y="300"/>
                </a:lnTo>
                <a:lnTo>
                  <a:pt x="0" y="376"/>
                </a:lnTo>
                <a:lnTo>
                  <a:pt x="748" y="376"/>
                </a:lnTo>
                <a:lnTo>
                  <a:pt x="898" y="526"/>
                </a:lnTo>
                <a:lnTo>
                  <a:pt x="1198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392640" y="5240160"/>
            <a:ext cx="145800" cy="36720"/>
          </a:xfrm>
          <a:custGeom>
            <a:avLst/>
            <a:gdLst/>
            <a:ahLst/>
            <a:rect l="l" t="t" r="r" b="b"/>
            <a:pathLst>
              <a:path w="1195" h="300">
                <a:moveTo>
                  <a:pt x="1124" y="300"/>
                </a:moveTo>
                <a:lnTo>
                  <a:pt x="843" y="0"/>
                </a:lnTo>
                <a:lnTo>
                  <a:pt x="0" y="0"/>
                </a:lnTo>
                <a:lnTo>
                  <a:pt x="0" y="300"/>
                </a:lnTo>
                <a:lnTo>
                  <a:pt x="1195" y="300"/>
                </a:lnTo>
                <a:lnTo>
                  <a:pt x="1124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46640" y="5240160"/>
            <a:ext cx="4572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8300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13120" y="5340240"/>
            <a:ext cx="155520" cy="65160"/>
          </a:xfrm>
          <a:custGeom>
            <a:avLst/>
            <a:gdLst/>
            <a:ahLst/>
            <a:rect l="l" t="t" r="r" b="b"/>
            <a:pathLst>
              <a:path w="1272" h="526">
                <a:moveTo>
                  <a:pt x="74" y="376"/>
                </a:moveTo>
                <a:lnTo>
                  <a:pt x="74" y="150"/>
                </a:lnTo>
                <a:lnTo>
                  <a:pt x="0" y="75"/>
                </a:lnTo>
                <a:lnTo>
                  <a:pt x="300" y="0"/>
                </a:lnTo>
                <a:lnTo>
                  <a:pt x="1272" y="0"/>
                </a:lnTo>
                <a:lnTo>
                  <a:pt x="1272" y="300"/>
                </a:lnTo>
                <a:lnTo>
                  <a:pt x="1272" y="376"/>
                </a:lnTo>
                <a:lnTo>
                  <a:pt x="524" y="376"/>
                </a:lnTo>
                <a:lnTo>
                  <a:pt x="374" y="526"/>
                </a:lnTo>
                <a:lnTo>
                  <a:pt x="74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30760" y="5240160"/>
            <a:ext cx="145800" cy="36720"/>
          </a:xfrm>
          <a:custGeom>
            <a:avLst/>
            <a:gdLst/>
            <a:ahLst/>
            <a:rect l="l" t="t" r="r" b="b"/>
            <a:pathLst>
              <a:path w="1195" h="300">
                <a:moveTo>
                  <a:pt x="70" y="300"/>
                </a:moveTo>
                <a:lnTo>
                  <a:pt x="352" y="0"/>
                </a:lnTo>
                <a:lnTo>
                  <a:pt x="1195" y="0"/>
                </a:lnTo>
                <a:lnTo>
                  <a:pt x="1195" y="300"/>
                </a:lnTo>
                <a:lnTo>
                  <a:pt x="0" y="300"/>
                </a:lnTo>
                <a:lnTo>
                  <a:pt x="70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876480" y="5240160"/>
            <a:ext cx="4572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84012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92360" y="5240160"/>
            <a:ext cx="138240" cy="63720"/>
          </a:xfrm>
          <a:custGeom>
            <a:avLst/>
            <a:gdLst/>
            <a:ahLst/>
            <a:rect l="l" t="t" r="r" b="b"/>
            <a:pathLst>
              <a:path w="1123" h="525">
                <a:moveTo>
                  <a:pt x="75" y="0"/>
                </a:moveTo>
                <a:lnTo>
                  <a:pt x="150" y="74"/>
                </a:lnTo>
                <a:lnTo>
                  <a:pt x="374" y="74"/>
                </a:lnTo>
                <a:lnTo>
                  <a:pt x="749" y="224"/>
                </a:lnTo>
                <a:lnTo>
                  <a:pt x="1123" y="224"/>
                </a:lnTo>
                <a:lnTo>
                  <a:pt x="1123" y="449"/>
                </a:lnTo>
                <a:lnTo>
                  <a:pt x="824" y="525"/>
                </a:lnTo>
                <a:lnTo>
                  <a:pt x="674" y="525"/>
                </a:lnTo>
                <a:lnTo>
                  <a:pt x="524" y="375"/>
                </a:lnTo>
                <a:lnTo>
                  <a:pt x="374" y="300"/>
                </a:lnTo>
                <a:lnTo>
                  <a:pt x="300" y="300"/>
                </a:lnTo>
                <a:lnTo>
                  <a:pt x="300" y="300"/>
                </a:lnTo>
                <a:lnTo>
                  <a:pt x="0" y="0"/>
                </a:lnTo>
                <a:lnTo>
                  <a:pt x="75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40040" y="5240160"/>
            <a:ext cx="136800" cy="63720"/>
          </a:xfrm>
          <a:custGeom>
            <a:avLst/>
            <a:gdLst/>
            <a:ahLst/>
            <a:rect l="l" t="t" r="r" b="b"/>
            <a:pathLst>
              <a:path w="1122" h="525">
                <a:moveTo>
                  <a:pt x="1047" y="0"/>
                </a:moveTo>
                <a:lnTo>
                  <a:pt x="972" y="74"/>
                </a:lnTo>
                <a:lnTo>
                  <a:pt x="748" y="74"/>
                </a:lnTo>
                <a:lnTo>
                  <a:pt x="374" y="224"/>
                </a:lnTo>
                <a:lnTo>
                  <a:pt x="0" y="224"/>
                </a:lnTo>
                <a:lnTo>
                  <a:pt x="0" y="449"/>
                </a:lnTo>
                <a:lnTo>
                  <a:pt x="298" y="525"/>
                </a:lnTo>
                <a:lnTo>
                  <a:pt x="448" y="525"/>
                </a:lnTo>
                <a:lnTo>
                  <a:pt x="598" y="375"/>
                </a:lnTo>
                <a:lnTo>
                  <a:pt x="748" y="300"/>
                </a:lnTo>
                <a:lnTo>
                  <a:pt x="822" y="300"/>
                </a:lnTo>
                <a:lnTo>
                  <a:pt x="822" y="300"/>
                </a:lnTo>
                <a:lnTo>
                  <a:pt x="1122" y="0"/>
                </a:lnTo>
                <a:lnTo>
                  <a:pt x="104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08480" y="5191200"/>
            <a:ext cx="220680" cy="187200"/>
          </a:xfrm>
          <a:custGeom>
            <a:avLst/>
            <a:gdLst/>
            <a:ahLst/>
            <a:rect l="l" t="t" r="r" b="b"/>
            <a:pathLst>
              <a:path w="1804" h="1533">
                <a:moveTo>
                  <a:pt x="1804" y="902"/>
                </a:moveTo>
                <a:lnTo>
                  <a:pt x="1693" y="865"/>
                </a:lnTo>
                <a:lnTo>
                  <a:pt x="1340" y="1010"/>
                </a:lnTo>
                <a:lnTo>
                  <a:pt x="221" y="86"/>
                </a:lnTo>
                <a:lnTo>
                  <a:pt x="104" y="0"/>
                </a:lnTo>
                <a:lnTo>
                  <a:pt x="0" y="12"/>
                </a:lnTo>
                <a:lnTo>
                  <a:pt x="6" y="62"/>
                </a:lnTo>
                <a:lnTo>
                  <a:pt x="12" y="112"/>
                </a:lnTo>
                <a:lnTo>
                  <a:pt x="1190" y="1079"/>
                </a:lnTo>
                <a:lnTo>
                  <a:pt x="1248" y="1122"/>
                </a:lnTo>
                <a:lnTo>
                  <a:pt x="1129" y="1440"/>
                </a:lnTo>
                <a:lnTo>
                  <a:pt x="1135" y="1490"/>
                </a:lnTo>
                <a:lnTo>
                  <a:pt x="1192" y="1533"/>
                </a:lnTo>
                <a:lnTo>
                  <a:pt x="1804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740040" y="5191200"/>
            <a:ext cx="220680" cy="187200"/>
          </a:xfrm>
          <a:custGeom>
            <a:avLst/>
            <a:gdLst/>
            <a:ahLst/>
            <a:rect l="l" t="t" r="r" b="b"/>
            <a:pathLst>
              <a:path w="1804" h="1533">
                <a:moveTo>
                  <a:pt x="0" y="902"/>
                </a:moveTo>
                <a:lnTo>
                  <a:pt x="111" y="865"/>
                </a:lnTo>
                <a:lnTo>
                  <a:pt x="464" y="1010"/>
                </a:lnTo>
                <a:lnTo>
                  <a:pt x="1583" y="86"/>
                </a:lnTo>
                <a:lnTo>
                  <a:pt x="1700" y="0"/>
                </a:lnTo>
                <a:lnTo>
                  <a:pt x="1804" y="12"/>
                </a:lnTo>
                <a:lnTo>
                  <a:pt x="1798" y="62"/>
                </a:lnTo>
                <a:lnTo>
                  <a:pt x="1792" y="112"/>
                </a:lnTo>
                <a:lnTo>
                  <a:pt x="614" y="1079"/>
                </a:lnTo>
                <a:lnTo>
                  <a:pt x="556" y="1122"/>
                </a:lnTo>
                <a:lnTo>
                  <a:pt x="676" y="1440"/>
                </a:lnTo>
                <a:lnTo>
                  <a:pt x="669" y="1490"/>
                </a:lnTo>
                <a:lnTo>
                  <a:pt x="612" y="1533"/>
                </a:lnTo>
                <a:lnTo>
                  <a:pt x="0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73400" y="5869080"/>
            <a:ext cx="507960" cy="441360"/>
          </a:xfrm>
          <a:custGeom>
            <a:avLst/>
            <a:gdLst/>
            <a:ahLst/>
            <a:rect l="l" t="t" r="r" b="b"/>
            <a:pathLst>
              <a:path w="4162" h="3609">
                <a:moveTo>
                  <a:pt x="2081" y="1524"/>
                </a:moveTo>
                <a:lnTo>
                  <a:pt x="3500" y="0"/>
                </a:lnTo>
                <a:lnTo>
                  <a:pt x="3500" y="0"/>
                </a:lnTo>
                <a:lnTo>
                  <a:pt x="3552" y="50"/>
                </a:lnTo>
                <a:lnTo>
                  <a:pt x="3602" y="103"/>
                </a:lnTo>
                <a:lnTo>
                  <a:pt x="3652" y="156"/>
                </a:lnTo>
                <a:lnTo>
                  <a:pt x="3698" y="212"/>
                </a:lnTo>
                <a:lnTo>
                  <a:pt x="3743" y="269"/>
                </a:lnTo>
                <a:lnTo>
                  <a:pt x="3786" y="328"/>
                </a:lnTo>
                <a:lnTo>
                  <a:pt x="3826" y="388"/>
                </a:lnTo>
                <a:lnTo>
                  <a:pt x="3864" y="450"/>
                </a:lnTo>
                <a:lnTo>
                  <a:pt x="3901" y="513"/>
                </a:lnTo>
                <a:lnTo>
                  <a:pt x="3935" y="577"/>
                </a:lnTo>
                <a:lnTo>
                  <a:pt x="3967" y="643"/>
                </a:lnTo>
                <a:lnTo>
                  <a:pt x="3996" y="709"/>
                </a:lnTo>
                <a:lnTo>
                  <a:pt x="4024" y="776"/>
                </a:lnTo>
                <a:lnTo>
                  <a:pt x="4049" y="845"/>
                </a:lnTo>
                <a:lnTo>
                  <a:pt x="4071" y="914"/>
                </a:lnTo>
                <a:lnTo>
                  <a:pt x="4091" y="984"/>
                </a:lnTo>
                <a:lnTo>
                  <a:pt x="4109" y="1055"/>
                </a:lnTo>
                <a:lnTo>
                  <a:pt x="4123" y="1126"/>
                </a:lnTo>
                <a:lnTo>
                  <a:pt x="4136" y="1197"/>
                </a:lnTo>
                <a:lnTo>
                  <a:pt x="4146" y="1270"/>
                </a:lnTo>
                <a:lnTo>
                  <a:pt x="4154" y="1342"/>
                </a:lnTo>
                <a:lnTo>
                  <a:pt x="4159" y="1415"/>
                </a:lnTo>
                <a:lnTo>
                  <a:pt x="4162" y="1487"/>
                </a:lnTo>
                <a:lnTo>
                  <a:pt x="4162" y="1561"/>
                </a:lnTo>
                <a:lnTo>
                  <a:pt x="4159" y="1633"/>
                </a:lnTo>
                <a:lnTo>
                  <a:pt x="4154" y="1705"/>
                </a:lnTo>
                <a:lnTo>
                  <a:pt x="4146" y="1778"/>
                </a:lnTo>
                <a:lnTo>
                  <a:pt x="4136" y="1850"/>
                </a:lnTo>
                <a:lnTo>
                  <a:pt x="4123" y="1922"/>
                </a:lnTo>
                <a:lnTo>
                  <a:pt x="4109" y="1993"/>
                </a:lnTo>
                <a:lnTo>
                  <a:pt x="4091" y="2063"/>
                </a:lnTo>
                <a:lnTo>
                  <a:pt x="4071" y="2134"/>
                </a:lnTo>
                <a:lnTo>
                  <a:pt x="4049" y="2202"/>
                </a:lnTo>
                <a:lnTo>
                  <a:pt x="4024" y="2271"/>
                </a:lnTo>
                <a:lnTo>
                  <a:pt x="3996" y="2338"/>
                </a:lnTo>
                <a:lnTo>
                  <a:pt x="3967" y="2405"/>
                </a:lnTo>
                <a:lnTo>
                  <a:pt x="3935" y="2471"/>
                </a:lnTo>
                <a:lnTo>
                  <a:pt x="3901" y="2535"/>
                </a:lnTo>
                <a:lnTo>
                  <a:pt x="3864" y="2598"/>
                </a:lnTo>
                <a:lnTo>
                  <a:pt x="3826" y="2660"/>
                </a:lnTo>
                <a:lnTo>
                  <a:pt x="3786" y="2719"/>
                </a:lnTo>
                <a:lnTo>
                  <a:pt x="3743" y="2778"/>
                </a:lnTo>
                <a:lnTo>
                  <a:pt x="3698" y="2836"/>
                </a:lnTo>
                <a:lnTo>
                  <a:pt x="3652" y="2892"/>
                </a:lnTo>
                <a:lnTo>
                  <a:pt x="3602" y="2945"/>
                </a:lnTo>
                <a:lnTo>
                  <a:pt x="3552" y="2998"/>
                </a:lnTo>
                <a:lnTo>
                  <a:pt x="3500" y="3048"/>
                </a:lnTo>
                <a:lnTo>
                  <a:pt x="3446" y="3097"/>
                </a:lnTo>
                <a:lnTo>
                  <a:pt x="3391" y="3144"/>
                </a:lnTo>
                <a:lnTo>
                  <a:pt x="3333" y="3189"/>
                </a:lnTo>
                <a:lnTo>
                  <a:pt x="3274" y="3232"/>
                </a:lnTo>
                <a:lnTo>
                  <a:pt x="3215" y="3272"/>
                </a:lnTo>
                <a:lnTo>
                  <a:pt x="3153" y="3310"/>
                </a:lnTo>
                <a:lnTo>
                  <a:pt x="3090" y="3347"/>
                </a:lnTo>
                <a:lnTo>
                  <a:pt x="3026" y="3381"/>
                </a:lnTo>
                <a:lnTo>
                  <a:pt x="2960" y="3413"/>
                </a:lnTo>
                <a:lnTo>
                  <a:pt x="2894" y="3443"/>
                </a:lnTo>
                <a:lnTo>
                  <a:pt x="2827" y="3470"/>
                </a:lnTo>
                <a:lnTo>
                  <a:pt x="2758" y="3495"/>
                </a:lnTo>
                <a:lnTo>
                  <a:pt x="2690" y="3517"/>
                </a:lnTo>
                <a:lnTo>
                  <a:pt x="2620" y="3537"/>
                </a:lnTo>
                <a:lnTo>
                  <a:pt x="2549" y="3555"/>
                </a:lnTo>
                <a:lnTo>
                  <a:pt x="2478" y="3570"/>
                </a:lnTo>
                <a:lnTo>
                  <a:pt x="2407" y="3582"/>
                </a:lnTo>
                <a:lnTo>
                  <a:pt x="2335" y="3593"/>
                </a:lnTo>
                <a:lnTo>
                  <a:pt x="2262" y="3600"/>
                </a:lnTo>
                <a:lnTo>
                  <a:pt x="2190" y="3605"/>
                </a:lnTo>
                <a:lnTo>
                  <a:pt x="2118" y="3609"/>
                </a:lnTo>
                <a:lnTo>
                  <a:pt x="2044" y="3609"/>
                </a:lnTo>
                <a:lnTo>
                  <a:pt x="1972" y="3605"/>
                </a:lnTo>
                <a:lnTo>
                  <a:pt x="1900" y="3600"/>
                </a:lnTo>
                <a:lnTo>
                  <a:pt x="1828" y="3593"/>
                </a:lnTo>
                <a:lnTo>
                  <a:pt x="1755" y="3582"/>
                </a:lnTo>
                <a:lnTo>
                  <a:pt x="1684" y="3570"/>
                </a:lnTo>
                <a:lnTo>
                  <a:pt x="1613" y="3555"/>
                </a:lnTo>
                <a:lnTo>
                  <a:pt x="1543" y="3537"/>
                </a:lnTo>
                <a:lnTo>
                  <a:pt x="1472" y="3517"/>
                </a:lnTo>
                <a:lnTo>
                  <a:pt x="1403" y="3495"/>
                </a:lnTo>
                <a:lnTo>
                  <a:pt x="1335" y="3470"/>
                </a:lnTo>
                <a:lnTo>
                  <a:pt x="1268" y="3443"/>
                </a:lnTo>
                <a:lnTo>
                  <a:pt x="1202" y="3413"/>
                </a:lnTo>
                <a:lnTo>
                  <a:pt x="1136" y="3381"/>
                </a:lnTo>
                <a:lnTo>
                  <a:pt x="1072" y="3347"/>
                </a:lnTo>
                <a:lnTo>
                  <a:pt x="1009" y="3310"/>
                </a:lnTo>
                <a:lnTo>
                  <a:pt x="947" y="3272"/>
                </a:lnTo>
                <a:lnTo>
                  <a:pt x="888" y="3232"/>
                </a:lnTo>
                <a:lnTo>
                  <a:pt x="829" y="3189"/>
                </a:lnTo>
                <a:lnTo>
                  <a:pt x="771" y="3144"/>
                </a:lnTo>
                <a:lnTo>
                  <a:pt x="716" y="3097"/>
                </a:lnTo>
                <a:lnTo>
                  <a:pt x="662" y="3048"/>
                </a:lnTo>
                <a:lnTo>
                  <a:pt x="610" y="2998"/>
                </a:lnTo>
                <a:lnTo>
                  <a:pt x="560" y="2945"/>
                </a:lnTo>
                <a:lnTo>
                  <a:pt x="510" y="2892"/>
                </a:lnTo>
                <a:lnTo>
                  <a:pt x="464" y="2836"/>
                </a:lnTo>
                <a:lnTo>
                  <a:pt x="419" y="2778"/>
                </a:lnTo>
                <a:lnTo>
                  <a:pt x="376" y="2719"/>
                </a:lnTo>
                <a:lnTo>
                  <a:pt x="336" y="2660"/>
                </a:lnTo>
                <a:lnTo>
                  <a:pt x="298" y="2598"/>
                </a:lnTo>
                <a:lnTo>
                  <a:pt x="261" y="2535"/>
                </a:lnTo>
                <a:lnTo>
                  <a:pt x="227" y="2471"/>
                </a:lnTo>
                <a:lnTo>
                  <a:pt x="195" y="2405"/>
                </a:lnTo>
                <a:lnTo>
                  <a:pt x="166" y="2338"/>
                </a:lnTo>
                <a:lnTo>
                  <a:pt x="139" y="2271"/>
                </a:lnTo>
                <a:lnTo>
                  <a:pt x="113" y="2202"/>
                </a:lnTo>
                <a:lnTo>
                  <a:pt x="91" y="2134"/>
                </a:lnTo>
                <a:lnTo>
                  <a:pt x="71" y="2063"/>
                </a:lnTo>
                <a:lnTo>
                  <a:pt x="54" y="1993"/>
                </a:lnTo>
                <a:lnTo>
                  <a:pt x="38" y="1922"/>
                </a:lnTo>
                <a:lnTo>
                  <a:pt x="25" y="1850"/>
                </a:lnTo>
                <a:lnTo>
                  <a:pt x="16" y="1778"/>
                </a:lnTo>
                <a:lnTo>
                  <a:pt x="9" y="1705"/>
                </a:lnTo>
                <a:lnTo>
                  <a:pt x="3" y="1633"/>
                </a:lnTo>
                <a:lnTo>
                  <a:pt x="0" y="1561"/>
                </a:lnTo>
                <a:lnTo>
                  <a:pt x="0" y="1487"/>
                </a:lnTo>
                <a:lnTo>
                  <a:pt x="3" y="1415"/>
                </a:lnTo>
                <a:lnTo>
                  <a:pt x="9" y="1342"/>
                </a:lnTo>
                <a:lnTo>
                  <a:pt x="16" y="1270"/>
                </a:lnTo>
                <a:lnTo>
                  <a:pt x="25" y="1197"/>
                </a:lnTo>
                <a:lnTo>
                  <a:pt x="38" y="1126"/>
                </a:lnTo>
                <a:lnTo>
                  <a:pt x="54" y="1055"/>
                </a:lnTo>
                <a:lnTo>
                  <a:pt x="71" y="984"/>
                </a:lnTo>
                <a:lnTo>
                  <a:pt x="91" y="914"/>
                </a:lnTo>
                <a:lnTo>
                  <a:pt x="113" y="845"/>
                </a:lnTo>
                <a:lnTo>
                  <a:pt x="139" y="776"/>
                </a:lnTo>
                <a:lnTo>
                  <a:pt x="166" y="709"/>
                </a:lnTo>
                <a:lnTo>
                  <a:pt x="195" y="643"/>
                </a:lnTo>
                <a:lnTo>
                  <a:pt x="227" y="577"/>
                </a:lnTo>
                <a:lnTo>
                  <a:pt x="261" y="513"/>
                </a:lnTo>
                <a:lnTo>
                  <a:pt x="298" y="450"/>
                </a:lnTo>
                <a:lnTo>
                  <a:pt x="336" y="388"/>
                </a:lnTo>
                <a:lnTo>
                  <a:pt x="376" y="328"/>
                </a:lnTo>
                <a:lnTo>
                  <a:pt x="419" y="269"/>
                </a:lnTo>
                <a:lnTo>
                  <a:pt x="464" y="212"/>
                </a:lnTo>
                <a:lnTo>
                  <a:pt x="510" y="156"/>
                </a:lnTo>
                <a:lnTo>
                  <a:pt x="560" y="103"/>
                </a:lnTo>
                <a:lnTo>
                  <a:pt x="2081" y="152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87880" y="5273640"/>
            <a:ext cx="27000" cy="12600"/>
          </a:xfrm>
          <a:prstGeom prst="line">
            <a:avLst/>
          </a:prstGeom>
          <a:ln w="144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54400" y="5384880"/>
            <a:ext cx="36720" cy="523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464000" y="5384880"/>
            <a:ext cx="36720" cy="514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25960" y="5848200"/>
            <a:ext cx="403200" cy="40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267080" y="5273640"/>
            <a:ext cx="3816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3400" y="5273640"/>
            <a:ext cx="4428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11720" y="5235480"/>
            <a:ext cx="27000" cy="7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311720" y="5197320"/>
            <a:ext cx="27000" cy="44640"/>
          </a:xfrm>
          <a:custGeom>
            <a:avLst/>
            <a:gdLst/>
            <a:ahLst/>
            <a:rect l="l" t="t" r="r" b="b"/>
            <a:pathLst>
              <a:path w="225" h="361">
                <a:moveTo>
                  <a:pt x="0" y="361"/>
                </a:moveTo>
                <a:lnTo>
                  <a:pt x="90" y="0"/>
                </a:lnTo>
                <a:lnTo>
                  <a:pt x="135" y="0"/>
                </a:lnTo>
                <a:lnTo>
                  <a:pt x="225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21080" y="5186520"/>
            <a:ext cx="64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321080" y="5302080"/>
            <a:ext cx="17640" cy="33480"/>
          </a:xfrm>
          <a:custGeom>
            <a:avLst/>
            <a:gdLst/>
            <a:ahLst/>
            <a:rect l="l" t="t" r="r" b="b"/>
            <a:pathLst>
              <a:path w="135" h="271">
                <a:moveTo>
                  <a:pt x="0" y="225"/>
                </a:moveTo>
                <a:lnTo>
                  <a:pt x="0" y="271"/>
                </a:lnTo>
                <a:lnTo>
                  <a:pt x="135" y="271"/>
                </a:lnTo>
                <a:lnTo>
                  <a:pt x="135" y="0"/>
                </a:lnTo>
                <a:lnTo>
                  <a:pt x="90" y="0"/>
                </a:lnTo>
                <a:lnTo>
                  <a:pt x="90" y="225"/>
                </a:lnTo>
                <a:lnTo>
                  <a:pt x="0" y="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300560" y="5246640"/>
            <a:ext cx="15840" cy="66600"/>
          </a:xfrm>
          <a:custGeom>
            <a:avLst/>
            <a:gdLst/>
            <a:ahLst/>
            <a:rect l="l" t="t" r="r" b="b"/>
            <a:pathLst>
              <a:path w="135" h="541">
                <a:moveTo>
                  <a:pt x="90" y="0"/>
                </a:moveTo>
                <a:lnTo>
                  <a:pt x="45" y="0"/>
                </a:lnTo>
                <a:lnTo>
                  <a:pt x="0" y="46"/>
                </a:lnTo>
                <a:lnTo>
                  <a:pt x="0" y="226"/>
                </a:lnTo>
                <a:lnTo>
                  <a:pt x="45" y="226"/>
                </a:lnTo>
                <a:lnTo>
                  <a:pt x="45" y="496"/>
                </a:lnTo>
                <a:lnTo>
                  <a:pt x="90" y="541"/>
                </a:lnTo>
                <a:lnTo>
                  <a:pt x="135" y="541"/>
                </a:lnTo>
                <a:lnTo>
                  <a:pt x="135" y="451"/>
                </a:lnTo>
                <a:lnTo>
                  <a:pt x="90" y="271"/>
                </a:lnTo>
                <a:lnTo>
                  <a:pt x="9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32240" y="5246640"/>
            <a:ext cx="17640" cy="66600"/>
          </a:xfrm>
          <a:custGeom>
            <a:avLst/>
            <a:gdLst/>
            <a:ahLst/>
            <a:rect l="l" t="t" r="r" b="b"/>
            <a:pathLst>
              <a:path w="135" h="541">
                <a:moveTo>
                  <a:pt x="45" y="0"/>
                </a:moveTo>
                <a:lnTo>
                  <a:pt x="90" y="0"/>
                </a:lnTo>
                <a:lnTo>
                  <a:pt x="135" y="46"/>
                </a:lnTo>
                <a:lnTo>
                  <a:pt x="135" y="226"/>
                </a:lnTo>
                <a:lnTo>
                  <a:pt x="90" y="226"/>
                </a:lnTo>
                <a:lnTo>
                  <a:pt x="90" y="496"/>
                </a:lnTo>
                <a:lnTo>
                  <a:pt x="45" y="541"/>
                </a:lnTo>
                <a:lnTo>
                  <a:pt x="0" y="541"/>
                </a:lnTo>
                <a:lnTo>
                  <a:pt x="0" y="451"/>
                </a:lnTo>
                <a:lnTo>
                  <a:pt x="45" y="271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044960" y="5340240"/>
            <a:ext cx="154080" cy="65160"/>
          </a:xfrm>
          <a:custGeom>
            <a:avLst/>
            <a:gdLst/>
            <a:ahLst/>
            <a:rect l="l" t="t" r="r" b="b"/>
            <a:pathLst>
              <a:path w="1272" h="526">
                <a:moveTo>
                  <a:pt x="1198" y="376"/>
                </a:moveTo>
                <a:lnTo>
                  <a:pt x="1198" y="150"/>
                </a:lnTo>
                <a:lnTo>
                  <a:pt x="1272" y="75"/>
                </a:lnTo>
                <a:lnTo>
                  <a:pt x="973" y="0"/>
                </a:lnTo>
                <a:lnTo>
                  <a:pt x="0" y="0"/>
                </a:lnTo>
                <a:lnTo>
                  <a:pt x="0" y="300"/>
                </a:lnTo>
                <a:lnTo>
                  <a:pt x="0" y="376"/>
                </a:lnTo>
                <a:lnTo>
                  <a:pt x="748" y="376"/>
                </a:lnTo>
                <a:lnTo>
                  <a:pt x="898" y="526"/>
                </a:lnTo>
                <a:lnTo>
                  <a:pt x="1198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035600" y="5240160"/>
            <a:ext cx="145800" cy="36720"/>
          </a:xfrm>
          <a:custGeom>
            <a:avLst/>
            <a:gdLst/>
            <a:ahLst/>
            <a:rect l="l" t="t" r="r" b="b"/>
            <a:pathLst>
              <a:path w="1195" h="300">
                <a:moveTo>
                  <a:pt x="1124" y="300"/>
                </a:moveTo>
                <a:lnTo>
                  <a:pt x="843" y="0"/>
                </a:lnTo>
                <a:lnTo>
                  <a:pt x="0" y="0"/>
                </a:lnTo>
                <a:lnTo>
                  <a:pt x="0" y="300"/>
                </a:lnTo>
                <a:lnTo>
                  <a:pt x="1195" y="300"/>
                </a:lnTo>
                <a:lnTo>
                  <a:pt x="1124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08924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2596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56080" y="5340240"/>
            <a:ext cx="155520" cy="65160"/>
          </a:xfrm>
          <a:custGeom>
            <a:avLst/>
            <a:gdLst/>
            <a:ahLst/>
            <a:rect l="l" t="t" r="r" b="b"/>
            <a:pathLst>
              <a:path w="1272" h="526">
                <a:moveTo>
                  <a:pt x="74" y="376"/>
                </a:moveTo>
                <a:lnTo>
                  <a:pt x="74" y="150"/>
                </a:lnTo>
                <a:lnTo>
                  <a:pt x="0" y="75"/>
                </a:lnTo>
                <a:lnTo>
                  <a:pt x="300" y="0"/>
                </a:lnTo>
                <a:lnTo>
                  <a:pt x="1272" y="0"/>
                </a:lnTo>
                <a:lnTo>
                  <a:pt x="1272" y="300"/>
                </a:lnTo>
                <a:lnTo>
                  <a:pt x="1272" y="376"/>
                </a:lnTo>
                <a:lnTo>
                  <a:pt x="524" y="376"/>
                </a:lnTo>
                <a:lnTo>
                  <a:pt x="374" y="526"/>
                </a:lnTo>
                <a:lnTo>
                  <a:pt x="74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73720" y="5240160"/>
            <a:ext cx="145800" cy="36720"/>
          </a:xfrm>
          <a:custGeom>
            <a:avLst/>
            <a:gdLst/>
            <a:ahLst/>
            <a:rect l="l" t="t" r="r" b="b"/>
            <a:pathLst>
              <a:path w="1195" h="300">
                <a:moveTo>
                  <a:pt x="70" y="300"/>
                </a:moveTo>
                <a:lnTo>
                  <a:pt x="352" y="0"/>
                </a:lnTo>
                <a:lnTo>
                  <a:pt x="1195" y="0"/>
                </a:lnTo>
                <a:lnTo>
                  <a:pt x="1195" y="300"/>
                </a:lnTo>
                <a:lnTo>
                  <a:pt x="0" y="300"/>
                </a:lnTo>
                <a:lnTo>
                  <a:pt x="70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451944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448308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35320" y="5240160"/>
            <a:ext cx="138240" cy="63720"/>
          </a:xfrm>
          <a:custGeom>
            <a:avLst/>
            <a:gdLst/>
            <a:ahLst/>
            <a:rect l="l" t="t" r="r" b="b"/>
            <a:pathLst>
              <a:path w="1123" h="525">
                <a:moveTo>
                  <a:pt x="75" y="0"/>
                </a:moveTo>
                <a:lnTo>
                  <a:pt x="150" y="74"/>
                </a:lnTo>
                <a:lnTo>
                  <a:pt x="374" y="74"/>
                </a:lnTo>
                <a:lnTo>
                  <a:pt x="749" y="224"/>
                </a:lnTo>
                <a:lnTo>
                  <a:pt x="1123" y="224"/>
                </a:lnTo>
                <a:lnTo>
                  <a:pt x="1123" y="449"/>
                </a:lnTo>
                <a:lnTo>
                  <a:pt x="824" y="525"/>
                </a:lnTo>
                <a:lnTo>
                  <a:pt x="674" y="525"/>
                </a:lnTo>
                <a:lnTo>
                  <a:pt x="524" y="375"/>
                </a:lnTo>
                <a:lnTo>
                  <a:pt x="374" y="300"/>
                </a:lnTo>
                <a:lnTo>
                  <a:pt x="300" y="300"/>
                </a:lnTo>
                <a:lnTo>
                  <a:pt x="300" y="300"/>
                </a:lnTo>
                <a:lnTo>
                  <a:pt x="0" y="0"/>
                </a:lnTo>
                <a:lnTo>
                  <a:pt x="75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83000" y="5240160"/>
            <a:ext cx="136440" cy="63720"/>
          </a:xfrm>
          <a:custGeom>
            <a:avLst/>
            <a:gdLst/>
            <a:ahLst/>
            <a:rect l="l" t="t" r="r" b="b"/>
            <a:pathLst>
              <a:path w="1122" h="525">
                <a:moveTo>
                  <a:pt x="1047" y="0"/>
                </a:moveTo>
                <a:lnTo>
                  <a:pt x="972" y="74"/>
                </a:lnTo>
                <a:lnTo>
                  <a:pt x="748" y="74"/>
                </a:lnTo>
                <a:lnTo>
                  <a:pt x="374" y="224"/>
                </a:lnTo>
                <a:lnTo>
                  <a:pt x="0" y="224"/>
                </a:lnTo>
                <a:lnTo>
                  <a:pt x="0" y="449"/>
                </a:lnTo>
                <a:lnTo>
                  <a:pt x="298" y="525"/>
                </a:lnTo>
                <a:lnTo>
                  <a:pt x="448" y="525"/>
                </a:lnTo>
                <a:lnTo>
                  <a:pt x="598" y="375"/>
                </a:lnTo>
                <a:lnTo>
                  <a:pt x="748" y="300"/>
                </a:lnTo>
                <a:lnTo>
                  <a:pt x="822" y="300"/>
                </a:lnTo>
                <a:lnTo>
                  <a:pt x="822" y="300"/>
                </a:lnTo>
                <a:lnTo>
                  <a:pt x="1122" y="0"/>
                </a:lnTo>
                <a:lnTo>
                  <a:pt x="104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051440" y="5191200"/>
            <a:ext cx="220680" cy="187200"/>
          </a:xfrm>
          <a:custGeom>
            <a:avLst/>
            <a:gdLst/>
            <a:ahLst/>
            <a:rect l="l" t="t" r="r" b="b"/>
            <a:pathLst>
              <a:path w="1804" h="1533">
                <a:moveTo>
                  <a:pt x="1804" y="902"/>
                </a:moveTo>
                <a:lnTo>
                  <a:pt x="1693" y="865"/>
                </a:lnTo>
                <a:lnTo>
                  <a:pt x="1340" y="1010"/>
                </a:lnTo>
                <a:lnTo>
                  <a:pt x="221" y="86"/>
                </a:lnTo>
                <a:lnTo>
                  <a:pt x="104" y="0"/>
                </a:lnTo>
                <a:lnTo>
                  <a:pt x="0" y="12"/>
                </a:lnTo>
                <a:lnTo>
                  <a:pt x="6" y="62"/>
                </a:lnTo>
                <a:lnTo>
                  <a:pt x="12" y="112"/>
                </a:lnTo>
                <a:lnTo>
                  <a:pt x="1190" y="1079"/>
                </a:lnTo>
                <a:lnTo>
                  <a:pt x="1248" y="1122"/>
                </a:lnTo>
                <a:lnTo>
                  <a:pt x="1129" y="1440"/>
                </a:lnTo>
                <a:lnTo>
                  <a:pt x="1135" y="1490"/>
                </a:lnTo>
                <a:lnTo>
                  <a:pt x="1192" y="1533"/>
                </a:lnTo>
                <a:lnTo>
                  <a:pt x="1804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383000" y="5191200"/>
            <a:ext cx="220680" cy="187200"/>
          </a:xfrm>
          <a:custGeom>
            <a:avLst/>
            <a:gdLst/>
            <a:ahLst/>
            <a:rect l="l" t="t" r="r" b="b"/>
            <a:pathLst>
              <a:path w="1804" h="1533">
                <a:moveTo>
                  <a:pt x="0" y="902"/>
                </a:moveTo>
                <a:lnTo>
                  <a:pt x="111" y="865"/>
                </a:lnTo>
                <a:lnTo>
                  <a:pt x="464" y="1010"/>
                </a:lnTo>
                <a:lnTo>
                  <a:pt x="1583" y="86"/>
                </a:lnTo>
                <a:lnTo>
                  <a:pt x="1700" y="0"/>
                </a:lnTo>
                <a:lnTo>
                  <a:pt x="1804" y="12"/>
                </a:lnTo>
                <a:lnTo>
                  <a:pt x="1798" y="62"/>
                </a:lnTo>
                <a:lnTo>
                  <a:pt x="1792" y="112"/>
                </a:lnTo>
                <a:lnTo>
                  <a:pt x="614" y="1079"/>
                </a:lnTo>
                <a:lnTo>
                  <a:pt x="556" y="1122"/>
                </a:lnTo>
                <a:lnTo>
                  <a:pt x="676" y="1440"/>
                </a:lnTo>
                <a:lnTo>
                  <a:pt x="669" y="1490"/>
                </a:lnTo>
                <a:lnTo>
                  <a:pt x="612" y="1533"/>
                </a:lnTo>
                <a:lnTo>
                  <a:pt x="0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943680" y="526716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943680" y="5267160"/>
            <a:ext cx="1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943680" y="5267160"/>
            <a:ext cx="1800" cy="1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943680" y="5267160"/>
            <a:ext cx="1800" cy="1800"/>
          </a:xfrm>
          <a:prstGeom prst="line">
            <a:avLst/>
          </a:prstGeom>
          <a:ln w="0">
            <a:solidFill>
              <a:srgbClr val="4040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943680" y="5267160"/>
            <a:ext cx="1800" cy="1800"/>
          </a:xfrm>
          <a:prstGeom prst="line">
            <a:avLst/>
          </a:prstGeom>
          <a:ln w="0">
            <a:solidFill>
              <a:srgbClr val="4040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943680" y="5267160"/>
            <a:ext cx="1800" cy="1800"/>
          </a:xfrm>
          <a:prstGeom prst="line">
            <a:avLst/>
          </a:prstGeom>
          <a:ln w="0">
            <a:solidFill>
              <a:srgbClr val="4040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943680" y="5267160"/>
            <a:ext cx="1800" cy="1800"/>
          </a:xfrm>
          <a:prstGeom prst="line">
            <a:avLst/>
          </a:prstGeom>
          <a:ln w="0">
            <a:solidFill>
              <a:srgbClr val="4040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43680" y="5267160"/>
            <a:ext cx="1800" cy="1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943680" y="5267160"/>
            <a:ext cx="1800" cy="1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943680" y="52671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943680" y="5267160"/>
            <a:ext cx="1800" cy="1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943680" y="526716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943680" y="526716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943680" y="5267160"/>
            <a:ext cx="1800" cy="1800"/>
          </a:xfrm>
          <a:prstGeom prst="line">
            <a:avLst/>
          </a:prstGeom>
          <a:ln w="0">
            <a:solidFill>
              <a:srgbClr val="4040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43680" y="5267160"/>
            <a:ext cx="1800" cy="180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72480" y="5869080"/>
            <a:ext cx="509400" cy="441360"/>
          </a:xfrm>
          <a:custGeom>
            <a:avLst/>
            <a:gdLst/>
            <a:ahLst/>
            <a:rect l="l" t="t" r="r" b="b"/>
            <a:pathLst>
              <a:path w="4172" h="3609">
                <a:moveTo>
                  <a:pt x="2086" y="1524"/>
                </a:moveTo>
                <a:lnTo>
                  <a:pt x="3508" y="0"/>
                </a:lnTo>
                <a:lnTo>
                  <a:pt x="3508" y="0"/>
                </a:lnTo>
                <a:lnTo>
                  <a:pt x="3561" y="50"/>
                </a:lnTo>
                <a:lnTo>
                  <a:pt x="3611" y="103"/>
                </a:lnTo>
                <a:lnTo>
                  <a:pt x="3660" y="156"/>
                </a:lnTo>
                <a:lnTo>
                  <a:pt x="3707" y="212"/>
                </a:lnTo>
                <a:lnTo>
                  <a:pt x="3752" y="269"/>
                </a:lnTo>
                <a:lnTo>
                  <a:pt x="3795" y="328"/>
                </a:lnTo>
                <a:lnTo>
                  <a:pt x="3835" y="388"/>
                </a:lnTo>
                <a:lnTo>
                  <a:pt x="3874" y="450"/>
                </a:lnTo>
                <a:lnTo>
                  <a:pt x="3910" y="513"/>
                </a:lnTo>
                <a:lnTo>
                  <a:pt x="3944" y="577"/>
                </a:lnTo>
                <a:lnTo>
                  <a:pt x="3977" y="643"/>
                </a:lnTo>
                <a:lnTo>
                  <a:pt x="4006" y="709"/>
                </a:lnTo>
                <a:lnTo>
                  <a:pt x="4033" y="776"/>
                </a:lnTo>
                <a:lnTo>
                  <a:pt x="4059" y="845"/>
                </a:lnTo>
                <a:lnTo>
                  <a:pt x="4081" y="914"/>
                </a:lnTo>
                <a:lnTo>
                  <a:pt x="4101" y="984"/>
                </a:lnTo>
                <a:lnTo>
                  <a:pt x="4118" y="1055"/>
                </a:lnTo>
                <a:lnTo>
                  <a:pt x="4133" y="1126"/>
                </a:lnTo>
                <a:lnTo>
                  <a:pt x="4146" y="1197"/>
                </a:lnTo>
                <a:lnTo>
                  <a:pt x="4156" y="1270"/>
                </a:lnTo>
                <a:lnTo>
                  <a:pt x="4164" y="1342"/>
                </a:lnTo>
                <a:lnTo>
                  <a:pt x="4169" y="1415"/>
                </a:lnTo>
                <a:lnTo>
                  <a:pt x="4172" y="1487"/>
                </a:lnTo>
                <a:lnTo>
                  <a:pt x="4172" y="1561"/>
                </a:lnTo>
                <a:lnTo>
                  <a:pt x="4169" y="1633"/>
                </a:lnTo>
                <a:lnTo>
                  <a:pt x="4164" y="1705"/>
                </a:lnTo>
                <a:lnTo>
                  <a:pt x="4156" y="1778"/>
                </a:lnTo>
                <a:lnTo>
                  <a:pt x="4146" y="1850"/>
                </a:lnTo>
                <a:lnTo>
                  <a:pt x="4133" y="1922"/>
                </a:lnTo>
                <a:lnTo>
                  <a:pt x="4118" y="1993"/>
                </a:lnTo>
                <a:lnTo>
                  <a:pt x="4101" y="2063"/>
                </a:lnTo>
                <a:lnTo>
                  <a:pt x="4081" y="2134"/>
                </a:lnTo>
                <a:lnTo>
                  <a:pt x="4059" y="2202"/>
                </a:lnTo>
                <a:lnTo>
                  <a:pt x="4033" y="2271"/>
                </a:lnTo>
                <a:lnTo>
                  <a:pt x="4006" y="2338"/>
                </a:lnTo>
                <a:lnTo>
                  <a:pt x="3977" y="2405"/>
                </a:lnTo>
                <a:lnTo>
                  <a:pt x="3944" y="2471"/>
                </a:lnTo>
                <a:lnTo>
                  <a:pt x="3910" y="2535"/>
                </a:lnTo>
                <a:lnTo>
                  <a:pt x="3874" y="2598"/>
                </a:lnTo>
                <a:lnTo>
                  <a:pt x="3835" y="2660"/>
                </a:lnTo>
                <a:lnTo>
                  <a:pt x="3795" y="2719"/>
                </a:lnTo>
                <a:lnTo>
                  <a:pt x="3752" y="2778"/>
                </a:lnTo>
                <a:lnTo>
                  <a:pt x="3707" y="2836"/>
                </a:lnTo>
                <a:lnTo>
                  <a:pt x="3660" y="2892"/>
                </a:lnTo>
                <a:lnTo>
                  <a:pt x="3611" y="2945"/>
                </a:lnTo>
                <a:lnTo>
                  <a:pt x="3561" y="2998"/>
                </a:lnTo>
                <a:lnTo>
                  <a:pt x="3508" y="3048"/>
                </a:lnTo>
                <a:lnTo>
                  <a:pt x="3455" y="3097"/>
                </a:lnTo>
                <a:lnTo>
                  <a:pt x="3399" y="3144"/>
                </a:lnTo>
                <a:lnTo>
                  <a:pt x="3341" y="3189"/>
                </a:lnTo>
                <a:lnTo>
                  <a:pt x="3282" y="3232"/>
                </a:lnTo>
                <a:lnTo>
                  <a:pt x="3222" y="3272"/>
                </a:lnTo>
                <a:lnTo>
                  <a:pt x="3161" y="3310"/>
                </a:lnTo>
                <a:lnTo>
                  <a:pt x="3097" y="3347"/>
                </a:lnTo>
                <a:lnTo>
                  <a:pt x="3033" y="3381"/>
                </a:lnTo>
                <a:lnTo>
                  <a:pt x="2967" y="3413"/>
                </a:lnTo>
                <a:lnTo>
                  <a:pt x="2901" y="3443"/>
                </a:lnTo>
                <a:lnTo>
                  <a:pt x="2834" y="3470"/>
                </a:lnTo>
                <a:lnTo>
                  <a:pt x="2765" y="3495"/>
                </a:lnTo>
                <a:lnTo>
                  <a:pt x="2696" y="3517"/>
                </a:lnTo>
                <a:lnTo>
                  <a:pt x="2626" y="3537"/>
                </a:lnTo>
                <a:lnTo>
                  <a:pt x="2556" y="3555"/>
                </a:lnTo>
                <a:lnTo>
                  <a:pt x="2484" y="3570"/>
                </a:lnTo>
                <a:lnTo>
                  <a:pt x="2413" y="3582"/>
                </a:lnTo>
                <a:lnTo>
                  <a:pt x="2340" y="3593"/>
                </a:lnTo>
                <a:lnTo>
                  <a:pt x="2268" y="3600"/>
                </a:lnTo>
                <a:lnTo>
                  <a:pt x="2195" y="3605"/>
                </a:lnTo>
                <a:lnTo>
                  <a:pt x="2123" y="3609"/>
                </a:lnTo>
                <a:lnTo>
                  <a:pt x="2049" y="3609"/>
                </a:lnTo>
                <a:lnTo>
                  <a:pt x="1977" y="3605"/>
                </a:lnTo>
                <a:lnTo>
                  <a:pt x="1904" y="3600"/>
                </a:lnTo>
                <a:lnTo>
                  <a:pt x="1832" y="3593"/>
                </a:lnTo>
                <a:lnTo>
                  <a:pt x="1759" y="3582"/>
                </a:lnTo>
                <a:lnTo>
                  <a:pt x="1688" y="3570"/>
                </a:lnTo>
                <a:lnTo>
                  <a:pt x="1616" y="3555"/>
                </a:lnTo>
                <a:lnTo>
                  <a:pt x="1546" y="3537"/>
                </a:lnTo>
                <a:lnTo>
                  <a:pt x="1476" y="3517"/>
                </a:lnTo>
                <a:lnTo>
                  <a:pt x="1406" y="3495"/>
                </a:lnTo>
                <a:lnTo>
                  <a:pt x="1338" y="3470"/>
                </a:lnTo>
                <a:lnTo>
                  <a:pt x="1271" y="3443"/>
                </a:lnTo>
                <a:lnTo>
                  <a:pt x="1205" y="3413"/>
                </a:lnTo>
                <a:lnTo>
                  <a:pt x="1139" y="3381"/>
                </a:lnTo>
                <a:lnTo>
                  <a:pt x="1075" y="3347"/>
                </a:lnTo>
                <a:lnTo>
                  <a:pt x="1011" y="3310"/>
                </a:lnTo>
                <a:lnTo>
                  <a:pt x="950" y="3272"/>
                </a:lnTo>
                <a:lnTo>
                  <a:pt x="890" y="3232"/>
                </a:lnTo>
                <a:lnTo>
                  <a:pt x="831" y="3189"/>
                </a:lnTo>
                <a:lnTo>
                  <a:pt x="773" y="3144"/>
                </a:lnTo>
                <a:lnTo>
                  <a:pt x="717" y="3097"/>
                </a:lnTo>
                <a:lnTo>
                  <a:pt x="664" y="3048"/>
                </a:lnTo>
                <a:lnTo>
                  <a:pt x="611" y="2998"/>
                </a:lnTo>
                <a:lnTo>
                  <a:pt x="561" y="2945"/>
                </a:lnTo>
                <a:lnTo>
                  <a:pt x="512" y="2892"/>
                </a:lnTo>
                <a:lnTo>
                  <a:pt x="465" y="2836"/>
                </a:lnTo>
                <a:lnTo>
                  <a:pt x="420" y="2778"/>
                </a:lnTo>
                <a:lnTo>
                  <a:pt x="377" y="2719"/>
                </a:lnTo>
                <a:lnTo>
                  <a:pt x="336" y="2660"/>
                </a:lnTo>
                <a:lnTo>
                  <a:pt x="298" y="2598"/>
                </a:lnTo>
                <a:lnTo>
                  <a:pt x="262" y="2535"/>
                </a:lnTo>
                <a:lnTo>
                  <a:pt x="227" y="2471"/>
                </a:lnTo>
                <a:lnTo>
                  <a:pt x="195" y="2405"/>
                </a:lnTo>
                <a:lnTo>
                  <a:pt x="166" y="2338"/>
                </a:lnTo>
                <a:lnTo>
                  <a:pt x="139" y="2271"/>
                </a:lnTo>
                <a:lnTo>
                  <a:pt x="113" y="2202"/>
                </a:lnTo>
                <a:lnTo>
                  <a:pt x="91" y="2134"/>
                </a:lnTo>
                <a:lnTo>
                  <a:pt x="71" y="2063"/>
                </a:lnTo>
                <a:lnTo>
                  <a:pt x="54" y="1993"/>
                </a:lnTo>
                <a:lnTo>
                  <a:pt x="38" y="1922"/>
                </a:lnTo>
                <a:lnTo>
                  <a:pt x="25" y="1850"/>
                </a:lnTo>
                <a:lnTo>
                  <a:pt x="16" y="1778"/>
                </a:lnTo>
                <a:lnTo>
                  <a:pt x="8" y="1705"/>
                </a:lnTo>
                <a:lnTo>
                  <a:pt x="3" y="1633"/>
                </a:lnTo>
                <a:lnTo>
                  <a:pt x="0" y="1561"/>
                </a:lnTo>
                <a:lnTo>
                  <a:pt x="0" y="1487"/>
                </a:lnTo>
                <a:lnTo>
                  <a:pt x="3" y="1415"/>
                </a:lnTo>
                <a:lnTo>
                  <a:pt x="8" y="1342"/>
                </a:lnTo>
                <a:lnTo>
                  <a:pt x="16" y="1270"/>
                </a:lnTo>
                <a:lnTo>
                  <a:pt x="25" y="1197"/>
                </a:lnTo>
                <a:lnTo>
                  <a:pt x="38" y="1126"/>
                </a:lnTo>
                <a:lnTo>
                  <a:pt x="54" y="1055"/>
                </a:lnTo>
                <a:lnTo>
                  <a:pt x="71" y="984"/>
                </a:lnTo>
                <a:lnTo>
                  <a:pt x="91" y="914"/>
                </a:lnTo>
                <a:lnTo>
                  <a:pt x="113" y="845"/>
                </a:lnTo>
                <a:lnTo>
                  <a:pt x="139" y="776"/>
                </a:lnTo>
                <a:lnTo>
                  <a:pt x="166" y="709"/>
                </a:lnTo>
                <a:lnTo>
                  <a:pt x="195" y="643"/>
                </a:lnTo>
                <a:lnTo>
                  <a:pt x="227" y="577"/>
                </a:lnTo>
                <a:lnTo>
                  <a:pt x="262" y="513"/>
                </a:lnTo>
                <a:lnTo>
                  <a:pt x="298" y="450"/>
                </a:lnTo>
                <a:lnTo>
                  <a:pt x="336" y="388"/>
                </a:lnTo>
                <a:lnTo>
                  <a:pt x="377" y="328"/>
                </a:lnTo>
                <a:lnTo>
                  <a:pt x="420" y="269"/>
                </a:lnTo>
                <a:lnTo>
                  <a:pt x="465" y="212"/>
                </a:lnTo>
                <a:lnTo>
                  <a:pt x="512" y="156"/>
                </a:lnTo>
                <a:lnTo>
                  <a:pt x="561" y="103"/>
                </a:lnTo>
                <a:lnTo>
                  <a:pt x="2086" y="152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086600" y="5273640"/>
            <a:ext cx="27000" cy="12600"/>
          </a:xfrm>
          <a:prstGeom prst="line">
            <a:avLst/>
          </a:prstGeom>
          <a:ln w="144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053120" y="5384880"/>
            <a:ext cx="36720" cy="523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364520" y="5384880"/>
            <a:ext cx="36360" cy="514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024680" y="5848200"/>
            <a:ext cx="405000" cy="40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165800" y="5273640"/>
            <a:ext cx="3816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243920" y="5273640"/>
            <a:ext cx="4428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210440" y="5235480"/>
            <a:ext cx="27000" cy="7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10440" y="5197320"/>
            <a:ext cx="27000" cy="44640"/>
          </a:xfrm>
          <a:custGeom>
            <a:avLst/>
            <a:gdLst/>
            <a:ahLst/>
            <a:rect l="l" t="t" r="r" b="b"/>
            <a:pathLst>
              <a:path w="226" h="361">
                <a:moveTo>
                  <a:pt x="0" y="361"/>
                </a:moveTo>
                <a:lnTo>
                  <a:pt x="91" y="0"/>
                </a:lnTo>
                <a:lnTo>
                  <a:pt x="136" y="0"/>
                </a:lnTo>
                <a:lnTo>
                  <a:pt x="226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221600" y="5186520"/>
            <a:ext cx="46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221600" y="5302080"/>
            <a:ext cx="15840" cy="33480"/>
          </a:xfrm>
          <a:custGeom>
            <a:avLst/>
            <a:gdLst/>
            <a:ahLst/>
            <a:rect l="l" t="t" r="r" b="b"/>
            <a:pathLst>
              <a:path w="135" h="271">
                <a:moveTo>
                  <a:pt x="0" y="225"/>
                </a:moveTo>
                <a:lnTo>
                  <a:pt x="0" y="271"/>
                </a:lnTo>
                <a:lnTo>
                  <a:pt x="135" y="271"/>
                </a:lnTo>
                <a:lnTo>
                  <a:pt x="135" y="0"/>
                </a:lnTo>
                <a:lnTo>
                  <a:pt x="90" y="0"/>
                </a:lnTo>
                <a:lnTo>
                  <a:pt x="90" y="225"/>
                </a:lnTo>
                <a:lnTo>
                  <a:pt x="0" y="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199280" y="5246640"/>
            <a:ext cx="1584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90" y="0"/>
                </a:moveTo>
                <a:lnTo>
                  <a:pt x="45" y="0"/>
                </a:lnTo>
                <a:lnTo>
                  <a:pt x="0" y="46"/>
                </a:lnTo>
                <a:lnTo>
                  <a:pt x="0" y="226"/>
                </a:lnTo>
                <a:lnTo>
                  <a:pt x="45" y="226"/>
                </a:lnTo>
                <a:lnTo>
                  <a:pt x="45" y="496"/>
                </a:lnTo>
                <a:lnTo>
                  <a:pt x="90" y="541"/>
                </a:lnTo>
                <a:lnTo>
                  <a:pt x="136" y="541"/>
                </a:lnTo>
                <a:lnTo>
                  <a:pt x="136" y="451"/>
                </a:lnTo>
                <a:lnTo>
                  <a:pt x="90" y="271"/>
                </a:lnTo>
                <a:lnTo>
                  <a:pt x="9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232760" y="5246640"/>
            <a:ext cx="1584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45" y="0"/>
                </a:moveTo>
                <a:lnTo>
                  <a:pt x="90" y="0"/>
                </a:lnTo>
                <a:lnTo>
                  <a:pt x="136" y="46"/>
                </a:lnTo>
                <a:lnTo>
                  <a:pt x="136" y="226"/>
                </a:lnTo>
                <a:lnTo>
                  <a:pt x="90" y="226"/>
                </a:lnTo>
                <a:lnTo>
                  <a:pt x="90" y="496"/>
                </a:lnTo>
                <a:lnTo>
                  <a:pt x="45" y="541"/>
                </a:lnTo>
                <a:lnTo>
                  <a:pt x="0" y="541"/>
                </a:lnTo>
                <a:lnTo>
                  <a:pt x="0" y="451"/>
                </a:lnTo>
                <a:lnTo>
                  <a:pt x="45" y="271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943680" y="5340240"/>
            <a:ext cx="15552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1200" y="376"/>
                </a:moveTo>
                <a:lnTo>
                  <a:pt x="1200" y="150"/>
                </a:lnTo>
                <a:lnTo>
                  <a:pt x="1275" y="75"/>
                </a:lnTo>
                <a:lnTo>
                  <a:pt x="974" y="0"/>
                </a:lnTo>
                <a:lnTo>
                  <a:pt x="0" y="0"/>
                </a:lnTo>
                <a:lnTo>
                  <a:pt x="0" y="300"/>
                </a:lnTo>
                <a:lnTo>
                  <a:pt x="0" y="376"/>
                </a:lnTo>
                <a:lnTo>
                  <a:pt x="749" y="376"/>
                </a:lnTo>
                <a:lnTo>
                  <a:pt x="900" y="526"/>
                </a:lnTo>
                <a:lnTo>
                  <a:pt x="1200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934320" y="5240160"/>
            <a:ext cx="14580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1127" y="300"/>
                </a:moveTo>
                <a:lnTo>
                  <a:pt x="846" y="0"/>
                </a:lnTo>
                <a:lnTo>
                  <a:pt x="0" y="0"/>
                </a:lnTo>
                <a:lnTo>
                  <a:pt x="0" y="300"/>
                </a:lnTo>
                <a:lnTo>
                  <a:pt x="1198" y="300"/>
                </a:lnTo>
                <a:lnTo>
                  <a:pt x="1127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988320" y="5240160"/>
            <a:ext cx="4572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026120" y="5240160"/>
            <a:ext cx="4464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354800" y="5340240"/>
            <a:ext cx="15552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75" y="376"/>
                </a:moveTo>
                <a:lnTo>
                  <a:pt x="75" y="150"/>
                </a:lnTo>
                <a:lnTo>
                  <a:pt x="0" y="75"/>
                </a:lnTo>
                <a:lnTo>
                  <a:pt x="301" y="0"/>
                </a:lnTo>
                <a:lnTo>
                  <a:pt x="1275" y="0"/>
                </a:lnTo>
                <a:lnTo>
                  <a:pt x="1275" y="300"/>
                </a:lnTo>
                <a:lnTo>
                  <a:pt x="1275" y="376"/>
                </a:lnTo>
                <a:lnTo>
                  <a:pt x="526" y="376"/>
                </a:lnTo>
                <a:lnTo>
                  <a:pt x="375" y="526"/>
                </a:lnTo>
                <a:lnTo>
                  <a:pt x="75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373880" y="5240160"/>
            <a:ext cx="14616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70" y="300"/>
                </a:moveTo>
                <a:lnTo>
                  <a:pt x="352" y="0"/>
                </a:lnTo>
                <a:lnTo>
                  <a:pt x="1198" y="0"/>
                </a:lnTo>
                <a:lnTo>
                  <a:pt x="1198" y="300"/>
                </a:lnTo>
                <a:lnTo>
                  <a:pt x="0" y="300"/>
                </a:lnTo>
                <a:lnTo>
                  <a:pt x="70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741996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383240" y="5240160"/>
            <a:ext cx="442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34040" y="5240160"/>
            <a:ext cx="13824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75" y="0"/>
                </a:moveTo>
                <a:lnTo>
                  <a:pt x="151" y="74"/>
                </a:lnTo>
                <a:lnTo>
                  <a:pt x="375" y="74"/>
                </a:lnTo>
                <a:lnTo>
                  <a:pt x="750" y="224"/>
                </a:lnTo>
                <a:lnTo>
                  <a:pt x="1125" y="224"/>
                </a:lnTo>
                <a:lnTo>
                  <a:pt x="1125" y="449"/>
                </a:lnTo>
                <a:lnTo>
                  <a:pt x="826" y="525"/>
                </a:lnTo>
                <a:lnTo>
                  <a:pt x="676" y="525"/>
                </a:lnTo>
                <a:lnTo>
                  <a:pt x="526" y="375"/>
                </a:lnTo>
                <a:lnTo>
                  <a:pt x="375" y="300"/>
                </a:lnTo>
                <a:lnTo>
                  <a:pt x="301" y="300"/>
                </a:lnTo>
                <a:lnTo>
                  <a:pt x="301" y="300"/>
                </a:lnTo>
                <a:lnTo>
                  <a:pt x="0" y="0"/>
                </a:lnTo>
                <a:lnTo>
                  <a:pt x="75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281720" y="5240160"/>
            <a:ext cx="13824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1050" y="0"/>
                </a:moveTo>
                <a:lnTo>
                  <a:pt x="974" y="74"/>
                </a:lnTo>
                <a:lnTo>
                  <a:pt x="750" y="74"/>
                </a:lnTo>
                <a:lnTo>
                  <a:pt x="375" y="224"/>
                </a:lnTo>
                <a:lnTo>
                  <a:pt x="0" y="224"/>
                </a:lnTo>
                <a:lnTo>
                  <a:pt x="0" y="449"/>
                </a:lnTo>
                <a:lnTo>
                  <a:pt x="299" y="525"/>
                </a:lnTo>
                <a:lnTo>
                  <a:pt x="449" y="525"/>
                </a:lnTo>
                <a:lnTo>
                  <a:pt x="599" y="375"/>
                </a:lnTo>
                <a:lnTo>
                  <a:pt x="750" y="300"/>
                </a:lnTo>
                <a:lnTo>
                  <a:pt x="824" y="300"/>
                </a:lnTo>
                <a:lnTo>
                  <a:pt x="824" y="300"/>
                </a:lnTo>
                <a:lnTo>
                  <a:pt x="1125" y="0"/>
                </a:lnTo>
                <a:lnTo>
                  <a:pt x="105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950160" y="5191200"/>
            <a:ext cx="220680" cy="187200"/>
          </a:xfrm>
          <a:custGeom>
            <a:avLst/>
            <a:gdLst/>
            <a:ahLst/>
            <a:rect l="l" t="t" r="r" b="b"/>
            <a:pathLst>
              <a:path w="1809" h="1533">
                <a:moveTo>
                  <a:pt x="1809" y="902"/>
                </a:moveTo>
                <a:lnTo>
                  <a:pt x="1698" y="865"/>
                </a:lnTo>
                <a:lnTo>
                  <a:pt x="1344" y="1010"/>
                </a:lnTo>
                <a:lnTo>
                  <a:pt x="222" y="86"/>
                </a:lnTo>
                <a:lnTo>
                  <a:pt x="104" y="0"/>
                </a:lnTo>
                <a:lnTo>
                  <a:pt x="0" y="12"/>
                </a:lnTo>
                <a:lnTo>
                  <a:pt x="7" y="62"/>
                </a:lnTo>
                <a:lnTo>
                  <a:pt x="12" y="112"/>
                </a:lnTo>
                <a:lnTo>
                  <a:pt x="1194" y="1079"/>
                </a:lnTo>
                <a:lnTo>
                  <a:pt x="1251" y="1122"/>
                </a:lnTo>
                <a:lnTo>
                  <a:pt x="1132" y="1440"/>
                </a:lnTo>
                <a:lnTo>
                  <a:pt x="1138" y="1490"/>
                </a:lnTo>
                <a:lnTo>
                  <a:pt x="1196" y="1533"/>
                </a:lnTo>
                <a:lnTo>
                  <a:pt x="1809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283520" y="5191200"/>
            <a:ext cx="220680" cy="187200"/>
          </a:xfrm>
          <a:custGeom>
            <a:avLst/>
            <a:gdLst/>
            <a:ahLst/>
            <a:rect l="l" t="t" r="r" b="b"/>
            <a:pathLst>
              <a:path w="1809" h="1533">
                <a:moveTo>
                  <a:pt x="0" y="902"/>
                </a:moveTo>
                <a:lnTo>
                  <a:pt x="111" y="865"/>
                </a:lnTo>
                <a:lnTo>
                  <a:pt x="465" y="1010"/>
                </a:lnTo>
                <a:lnTo>
                  <a:pt x="1587" y="86"/>
                </a:lnTo>
                <a:lnTo>
                  <a:pt x="1705" y="0"/>
                </a:lnTo>
                <a:lnTo>
                  <a:pt x="1809" y="12"/>
                </a:lnTo>
                <a:lnTo>
                  <a:pt x="1802" y="62"/>
                </a:lnTo>
                <a:lnTo>
                  <a:pt x="1796" y="112"/>
                </a:lnTo>
                <a:lnTo>
                  <a:pt x="615" y="1079"/>
                </a:lnTo>
                <a:lnTo>
                  <a:pt x="558" y="1122"/>
                </a:lnTo>
                <a:lnTo>
                  <a:pt x="677" y="1440"/>
                </a:lnTo>
                <a:lnTo>
                  <a:pt x="671" y="1490"/>
                </a:lnTo>
                <a:lnTo>
                  <a:pt x="613" y="1533"/>
                </a:lnTo>
                <a:lnTo>
                  <a:pt x="0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005520" y="5869080"/>
            <a:ext cx="509760" cy="441360"/>
          </a:xfrm>
          <a:custGeom>
            <a:avLst/>
            <a:gdLst/>
            <a:ahLst/>
            <a:rect l="l" t="t" r="r" b="b"/>
            <a:pathLst>
              <a:path w="4172" h="3609">
                <a:moveTo>
                  <a:pt x="2086" y="1524"/>
                </a:moveTo>
                <a:lnTo>
                  <a:pt x="3508" y="0"/>
                </a:lnTo>
                <a:lnTo>
                  <a:pt x="3508" y="0"/>
                </a:lnTo>
                <a:lnTo>
                  <a:pt x="3561" y="50"/>
                </a:lnTo>
                <a:lnTo>
                  <a:pt x="3611" y="103"/>
                </a:lnTo>
                <a:lnTo>
                  <a:pt x="3660" y="156"/>
                </a:lnTo>
                <a:lnTo>
                  <a:pt x="3707" y="212"/>
                </a:lnTo>
                <a:lnTo>
                  <a:pt x="3752" y="269"/>
                </a:lnTo>
                <a:lnTo>
                  <a:pt x="3795" y="328"/>
                </a:lnTo>
                <a:lnTo>
                  <a:pt x="3835" y="388"/>
                </a:lnTo>
                <a:lnTo>
                  <a:pt x="3874" y="450"/>
                </a:lnTo>
                <a:lnTo>
                  <a:pt x="3910" y="513"/>
                </a:lnTo>
                <a:lnTo>
                  <a:pt x="3944" y="577"/>
                </a:lnTo>
                <a:lnTo>
                  <a:pt x="3977" y="643"/>
                </a:lnTo>
                <a:lnTo>
                  <a:pt x="4006" y="709"/>
                </a:lnTo>
                <a:lnTo>
                  <a:pt x="4033" y="776"/>
                </a:lnTo>
                <a:lnTo>
                  <a:pt x="4059" y="845"/>
                </a:lnTo>
                <a:lnTo>
                  <a:pt x="4081" y="914"/>
                </a:lnTo>
                <a:lnTo>
                  <a:pt x="4101" y="984"/>
                </a:lnTo>
                <a:lnTo>
                  <a:pt x="4118" y="1055"/>
                </a:lnTo>
                <a:lnTo>
                  <a:pt x="4133" y="1126"/>
                </a:lnTo>
                <a:lnTo>
                  <a:pt x="4146" y="1197"/>
                </a:lnTo>
                <a:lnTo>
                  <a:pt x="4156" y="1270"/>
                </a:lnTo>
                <a:lnTo>
                  <a:pt x="4164" y="1342"/>
                </a:lnTo>
                <a:lnTo>
                  <a:pt x="4169" y="1415"/>
                </a:lnTo>
                <a:lnTo>
                  <a:pt x="4172" y="1487"/>
                </a:lnTo>
                <a:lnTo>
                  <a:pt x="4172" y="1561"/>
                </a:lnTo>
                <a:lnTo>
                  <a:pt x="4169" y="1633"/>
                </a:lnTo>
                <a:lnTo>
                  <a:pt x="4164" y="1705"/>
                </a:lnTo>
                <a:lnTo>
                  <a:pt x="4156" y="1778"/>
                </a:lnTo>
                <a:lnTo>
                  <a:pt x="4146" y="1850"/>
                </a:lnTo>
                <a:lnTo>
                  <a:pt x="4133" y="1922"/>
                </a:lnTo>
                <a:lnTo>
                  <a:pt x="4118" y="1993"/>
                </a:lnTo>
                <a:lnTo>
                  <a:pt x="4101" y="2063"/>
                </a:lnTo>
                <a:lnTo>
                  <a:pt x="4081" y="2134"/>
                </a:lnTo>
                <a:lnTo>
                  <a:pt x="4059" y="2202"/>
                </a:lnTo>
                <a:lnTo>
                  <a:pt x="4033" y="2271"/>
                </a:lnTo>
                <a:lnTo>
                  <a:pt x="4006" y="2338"/>
                </a:lnTo>
                <a:lnTo>
                  <a:pt x="3977" y="2405"/>
                </a:lnTo>
                <a:lnTo>
                  <a:pt x="3944" y="2471"/>
                </a:lnTo>
                <a:lnTo>
                  <a:pt x="3910" y="2535"/>
                </a:lnTo>
                <a:lnTo>
                  <a:pt x="3874" y="2598"/>
                </a:lnTo>
                <a:lnTo>
                  <a:pt x="3835" y="2660"/>
                </a:lnTo>
                <a:lnTo>
                  <a:pt x="3795" y="2719"/>
                </a:lnTo>
                <a:lnTo>
                  <a:pt x="3752" y="2778"/>
                </a:lnTo>
                <a:lnTo>
                  <a:pt x="3707" y="2836"/>
                </a:lnTo>
                <a:lnTo>
                  <a:pt x="3660" y="2892"/>
                </a:lnTo>
                <a:lnTo>
                  <a:pt x="3611" y="2945"/>
                </a:lnTo>
                <a:lnTo>
                  <a:pt x="3561" y="2998"/>
                </a:lnTo>
                <a:lnTo>
                  <a:pt x="3508" y="3048"/>
                </a:lnTo>
                <a:lnTo>
                  <a:pt x="3455" y="3097"/>
                </a:lnTo>
                <a:lnTo>
                  <a:pt x="3399" y="3144"/>
                </a:lnTo>
                <a:lnTo>
                  <a:pt x="3341" y="3189"/>
                </a:lnTo>
                <a:lnTo>
                  <a:pt x="3282" y="3232"/>
                </a:lnTo>
                <a:lnTo>
                  <a:pt x="3222" y="3272"/>
                </a:lnTo>
                <a:lnTo>
                  <a:pt x="3161" y="3310"/>
                </a:lnTo>
                <a:lnTo>
                  <a:pt x="3097" y="3347"/>
                </a:lnTo>
                <a:lnTo>
                  <a:pt x="3033" y="3381"/>
                </a:lnTo>
                <a:lnTo>
                  <a:pt x="2967" y="3413"/>
                </a:lnTo>
                <a:lnTo>
                  <a:pt x="2901" y="3443"/>
                </a:lnTo>
                <a:lnTo>
                  <a:pt x="2834" y="3470"/>
                </a:lnTo>
                <a:lnTo>
                  <a:pt x="2765" y="3495"/>
                </a:lnTo>
                <a:lnTo>
                  <a:pt x="2696" y="3517"/>
                </a:lnTo>
                <a:lnTo>
                  <a:pt x="2626" y="3537"/>
                </a:lnTo>
                <a:lnTo>
                  <a:pt x="2556" y="3555"/>
                </a:lnTo>
                <a:lnTo>
                  <a:pt x="2484" y="3570"/>
                </a:lnTo>
                <a:lnTo>
                  <a:pt x="2413" y="3582"/>
                </a:lnTo>
                <a:lnTo>
                  <a:pt x="2340" y="3593"/>
                </a:lnTo>
                <a:lnTo>
                  <a:pt x="2268" y="3600"/>
                </a:lnTo>
                <a:lnTo>
                  <a:pt x="2195" y="3605"/>
                </a:lnTo>
                <a:lnTo>
                  <a:pt x="2123" y="3609"/>
                </a:lnTo>
                <a:lnTo>
                  <a:pt x="2049" y="3609"/>
                </a:lnTo>
                <a:lnTo>
                  <a:pt x="1977" y="3605"/>
                </a:lnTo>
                <a:lnTo>
                  <a:pt x="1904" y="3600"/>
                </a:lnTo>
                <a:lnTo>
                  <a:pt x="1832" y="3593"/>
                </a:lnTo>
                <a:lnTo>
                  <a:pt x="1759" y="3582"/>
                </a:lnTo>
                <a:lnTo>
                  <a:pt x="1688" y="3570"/>
                </a:lnTo>
                <a:lnTo>
                  <a:pt x="1616" y="3555"/>
                </a:lnTo>
                <a:lnTo>
                  <a:pt x="1546" y="3537"/>
                </a:lnTo>
                <a:lnTo>
                  <a:pt x="1476" y="3517"/>
                </a:lnTo>
                <a:lnTo>
                  <a:pt x="1406" y="3495"/>
                </a:lnTo>
                <a:lnTo>
                  <a:pt x="1338" y="3470"/>
                </a:lnTo>
                <a:lnTo>
                  <a:pt x="1271" y="3443"/>
                </a:lnTo>
                <a:lnTo>
                  <a:pt x="1205" y="3413"/>
                </a:lnTo>
                <a:lnTo>
                  <a:pt x="1139" y="3381"/>
                </a:lnTo>
                <a:lnTo>
                  <a:pt x="1075" y="3347"/>
                </a:lnTo>
                <a:lnTo>
                  <a:pt x="1011" y="3310"/>
                </a:lnTo>
                <a:lnTo>
                  <a:pt x="950" y="3272"/>
                </a:lnTo>
                <a:lnTo>
                  <a:pt x="890" y="3232"/>
                </a:lnTo>
                <a:lnTo>
                  <a:pt x="831" y="3189"/>
                </a:lnTo>
                <a:lnTo>
                  <a:pt x="773" y="3144"/>
                </a:lnTo>
                <a:lnTo>
                  <a:pt x="717" y="3097"/>
                </a:lnTo>
                <a:lnTo>
                  <a:pt x="664" y="3048"/>
                </a:lnTo>
                <a:lnTo>
                  <a:pt x="611" y="2998"/>
                </a:lnTo>
                <a:lnTo>
                  <a:pt x="561" y="2945"/>
                </a:lnTo>
                <a:lnTo>
                  <a:pt x="512" y="2892"/>
                </a:lnTo>
                <a:lnTo>
                  <a:pt x="465" y="2836"/>
                </a:lnTo>
                <a:lnTo>
                  <a:pt x="420" y="2778"/>
                </a:lnTo>
                <a:lnTo>
                  <a:pt x="377" y="2719"/>
                </a:lnTo>
                <a:lnTo>
                  <a:pt x="336" y="2660"/>
                </a:lnTo>
                <a:lnTo>
                  <a:pt x="298" y="2598"/>
                </a:lnTo>
                <a:lnTo>
                  <a:pt x="262" y="2535"/>
                </a:lnTo>
                <a:lnTo>
                  <a:pt x="227" y="2471"/>
                </a:lnTo>
                <a:lnTo>
                  <a:pt x="195" y="2405"/>
                </a:lnTo>
                <a:lnTo>
                  <a:pt x="166" y="2338"/>
                </a:lnTo>
                <a:lnTo>
                  <a:pt x="139" y="2271"/>
                </a:lnTo>
                <a:lnTo>
                  <a:pt x="113" y="2202"/>
                </a:lnTo>
                <a:lnTo>
                  <a:pt x="91" y="2134"/>
                </a:lnTo>
                <a:lnTo>
                  <a:pt x="71" y="2063"/>
                </a:lnTo>
                <a:lnTo>
                  <a:pt x="54" y="1993"/>
                </a:lnTo>
                <a:lnTo>
                  <a:pt x="38" y="1922"/>
                </a:lnTo>
                <a:lnTo>
                  <a:pt x="25" y="1850"/>
                </a:lnTo>
                <a:lnTo>
                  <a:pt x="16" y="1778"/>
                </a:lnTo>
                <a:lnTo>
                  <a:pt x="8" y="1705"/>
                </a:lnTo>
                <a:lnTo>
                  <a:pt x="3" y="1633"/>
                </a:lnTo>
                <a:lnTo>
                  <a:pt x="0" y="1561"/>
                </a:lnTo>
                <a:lnTo>
                  <a:pt x="0" y="1487"/>
                </a:lnTo>
                <a:lnTo>
                  <a:pt x="3" y="1415"/>
                </a:lnTo>
                <a:lnTo>
                  <a:pt x="8" y="1342"/>
                </a:lnTo>
                <a:lnTo>
                  <a:pt x="16" y="1270"/>
                </a:lnTo>
                <a:lnTo>
                  <a:pt x="25" y="1197"/>
                </a:lnTo>
                <a:lnTo>
                  <a:pt x="38" y="1126"/>
                </a:lnTo>
                <a:lnTo>
                  <a:pt x="54" y="1055"/>
                </a:lnTo>
                <a:lnTo>
                  <a:pt x="71" y="984"/>
                </a:lnTo>
                <a:lnTo>
                  <a:pt x="91" y="914"/>
                </a:lnTo>
                <a:lnTo>
                  <a:pt x="113" y="845"/>
                </a:lnTo>
                <a:lnTo>
                  <a:pt x="139" y="776"/>
                </a:lnTo>
                <a:lnTo>
                  <a:pt x="166" y="709"/>
                </a:lnTo>
                <a:lnTo>
                  <a:pt x="195" y="643"/>
                </a:lnTo>
                <a:lnTo>
                  <a:pt x="227" y="577"/>
                </a:lnTo>
                <a:lnTo>
                  <a:pt x="262" y="513"/>
                </a:lnTo>
                <a:lnTo>
                  <a:pt x="298" y="450"/>
                </a:lnTo>
                <a:lnTo>
                  <a:pt x="336" y="388"/>
                </a:lnTo>
                <a:lnTo>
                  <a:pt x="377" y="328"/>
                </a:lnTo>
                <a:lnTo>
                  <a:pt x="420" y="269"/>
                </a:lnTo>
                <a:lnTo>
                  <a:pt x="465" y="212"/>
                </a:lnTo>
                <a:lnTo>
                  <a:pt x="512" y="156"/>
                </a:lnTo>
                <a:lnTo>
                  <a:pt x="561" y="103"/>
                </a:lnTo>
                <a:lnTo>
                  <a:pt x="2086" y="152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119640" y="5273640"/>
            <a:ext cx="27000" cy="12600"/>
          </a:xfrm>
          <a:prstGeom prst="line">
            <a:avLst/>
          </a:prstGeom>
          <a:ln w="144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86520" y="5384880"/>
            <a:ext cx="36360" cy="523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397560" y="5384880"/>
            <a:ext cx="36720" cy="514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58080" y="5848200"/>
            <a:ext cx="404640" cy="40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199200" y="5273640"/>
            <a:ext cx="3816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276960" y="5273640"/>
            <a:ext cx="4464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243480" y="5235480"/>
            <a:ext cx="27000" cy="7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43480" y="5197320"/>
            <a:ext cx="27000" cy="44640"/>
          </a:xfrm>
          <a:custGeom>
            <a:avLst/>
            <a:gdLst/>
            <a:ahLst/>
            <a:rect l="l" t="t" r="r" b="b"/>
            <a:pathLst>
              <a:path w="226" h="361">
                <a:moveTo>
                  <a:pt x="0" y="361"/>
                </a:moveTo>
                <a:lnTo>
                  <a:pt x="91" y="0"/>
                </a:lnTo>
                <a:lnTo>
                  <a:pt x="136" y="0"/>
                </a:lnTo>
                <a:lnTo>
                  <a:pt x="226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254640" y="5186520"/>
            <a:ext cx="504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254640" y="5302080"/>
            <a:ext cx="15840" cy="33480"/>
          </a:xfrm>
          <a:custGeom>
            <a:avLst/>
            <a:gdLst/>
            <a:ahLst/>
            <a:rect l="l" t="t" r="r" b="b"/>
            <a:pathLst>
              <a:path w="135" h="271">
                <a:moveTo>
                  <a:pt x="0" y="225"/>
                </a:moveTo>
                <a:lnTo>
                  <a:pt x="0" y="271"/>
                </a:lnTo>
                <a:lnTo>
                  <a:pt x="135" y="271"/>
                </a:lnTo>
                <a:lnTo>
                  <a:pt x="135" y="0"/>
                </a:lnTo>
                <a:lnTo>
                  <a:pt x="90" y="0"/>
                </a:lnTo>
                <a:lnTo>
                  <a:pt x="90" y="225"/>
                </a:lnTo>
                <a:lnTo>
                  <a:pt x="0" y="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232680" y="5246640"/>
            <a:ext cx="1584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90" y="0"/>
                </a:moveTo>
                <a:lnTo>
                  <a:pt x="45" y="0"/>
                </a:lnTo>
                <a:lnTo>
                  <a:pt x="0" y="46"/>
                </a:lnTo>
                <a:lnTo>
                  <a:pt x="0" y="226"/>
                </a:lnTo>
                <a:lnTo>
                  <a:pt x="45" y="226"/>
                </a:lnTo>
                <a:lnTo>
                  <a:pt x="45" y="496"/>
                </a:lnTo>
                <a:lnTo>
                  <a:pt x="90" y="541"/>
                </a:lnTo>
                <a:lnTo>
                  <a:pt x="136" y="541"/>
                </a:lnTo>
                <a:lnTo>
                  <a:pt x="136" y="451"/>
                </a:lnTo>
                <a:lnTo>
                  <a:pt x="90" y="271"/>
                </a:lnTo>
                <a:lnTo>
                  <a:pt x="9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265800" y="5246640"/>
            <a:ext cx="1584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45" y="0"/>
                </a:moveTo>
                <a:lnTo>
                  <a:pt x="90" y="0"/>
                </a:lnTo>
                <a:lnTo>
                  <a:pt x="136" y="46"/>
                </a:lnTo>
                <a:lnTo>
                  <a:pt x="136" y="226"/>
                </a:lnTo>
                <a:lnTo>
                  <a:pt x="90" y="226"/>
                </a:lnTo>
                <a:lnTo>
                  <a:pt x="90" y="496"/>
                </a:lnTo>
                <a:lnTo>
                  <a:pt x="45" y="541"/>
                </a:lnTo>
                <a:lnTo>
                  <a:pt x="0" y="541"/>
                </a:lnTo>
                <a:lnTo>
                  <a:pt x="0" y="451"/>
                </a:lnTo>
                <a:lnTo>
                  <a:pt x="45" y="271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977080" y="5340240"/>
            <a:ext cx="15552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1200" y="376"/>
                </a:moveTo>
                <a:lnTo>
                  <a:pt x="1200" y="150"/>
                </a:lnTo>
                <a:lnTo>
                  <a:pt x="1275" y="75"/>
                </a:lnTo>
                <a:lnTo>
                  <a:pt x="974" y="0"/>
                </a:lnTo>
                <a:lnTo>
                  <a:pt x="0" y="0"/>
                </a:lnTo>
                <a:lnTo>
                  <a:pt x="0" y="300"/>
                </a:lnTo>
                <a:lnTo>
                  <a:pt x="0" y="376"/>
                </a:lnTo>
                <a:lnTo>
                  <a:pt x="749" y="376"/>
                </a:lnTo>
                <a:lnTo>
                  <a:pt x="900" y="526"/>
                </a:lnTo>
                <a:lnTo>
                  <a:pt x="1200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967360" y="5240160"/>
            <a:ext cx="14616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1127" y="300"/>
                </a:moveTo>
                <a:lnTo>
                  <a:pt x="846" y="0"/>
                </a:lnTo>
                <a:lnTo>
                  <a:pt x="0" y="0"/>
                </a:lnTo>
                <a:lnTo>
                  <a:pt x="0" y="300"/>
                </a:lnTo>
                <a:lnTo>
                  <a:pt x="1198" y="300"/>
                </a:lnTo>
                <a:lnTo>
                  <a:pt x="1127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02136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59520" y="5240160"/>
            <a:ext cx="442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88200" y="5340240"/>
            <a:ext cx="15552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75" y="376"/>
                </a:moveTo>
                <a:lnTo>
                  <a:pt x="75" y="150"/>
                </a:lnTo>
                <a:lnTo>
                  <a:pt x="0" y="75"/>
                </a:lnTo>
                <a:lnTo>
                  <a:pt x="301" y="0"/>
                </a:lnTo>
                <a:lnTo>
                  <a:pt x="1275" y="0"/>
                </a:lnTo>
                <a:lnTo>
                  <a:pt x="1275" y="300"/>
                </a:lnTo>
                <a:lnTo>
                  <a:pt x="1275" y="376"/>
                </a:lnTo>
                <a:lnTo>
                  <a:pt x="526" y="376"/>
                </a:lnTo>
                <a:lnTo>
                  <a:pt x="375" y="526"/>
                </a:lnTo>
                <a:lnTo>
                  <a:pt x="75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07280" y="5240160"/>
            <a:ext cx="14580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70" y="300"/>
                </a:moveTo>
                <a:lnTo>
                  <a:pt x="352" y="0"/>
                </a:lnTo>
                <a:lnTo>
                  <a:pt x="1198" y="0"/>
                </a:lnTo>
                <a:lnTo>
                  <a:pt x="1198" y="300"/>
                </a:lnTo>
                <a:lnTo>
                  <a:pt x="0" y="300"/>
                </a:lnTo>
                <a:lnTo>
                  <a:pt x="70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6453000" y="5240160"/>
            <a:ext cx="4572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6416640" y="5240160"/>
            <a:ext cx="4464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67440" y="5240160"/>
            <a:ext cx="13824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75" y="0"/>
                </a:moveTo>
                <a:lnTo>
                  <a:pt x="151" y="74"/>
                </a:lnTo>
                <a:lnTo>
                  <a:pt x="375" y="74"/>
                </a:lnTo>
                <a:lnTo>
                  <a:pt x="750" y="224"/>
                </a:lnTo>
                <a:lnTo>
                  <a:pt x="1125" y="224"/>
                </a:lnTo>
                <a:lnTo>
                  <a:pt x="1125" y="449"/>
                </a:lnTo>
                <a:lnTo>
                  <a:pt x="826" y="525"/>
                </a:lnTo>
                <a:lnTo>
                  <a:pt x="676" y="525"/>
                </a:lnTo>
                <a:lnTo>
                  <a:pt x="526" y="375"/>
                </a:lnTo>
                <a:lnTo>
                  <a:pt x="375" y="300"/>
                </a:lnTo>
                <a:lnTo>
                  <a:pt x="301" y="300"/>
                </a:lnTo>
                <a:lnTo>
                  <a:pt x="301" y="300"/>
                </a:lnTo>
                <a:lnTo>
                  <a:pt x="0" y="0"/>
                </a:lnTo>
                <a:lnTo>
                  <a:pt x="75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315120" y="5240160"/>
            <a:ext cx="13824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1050" y="0"/>
                </a:moveTo>
                <a:lnTo>
                  <a:pt x="974" y="74"/>
                </a:lnTo>
                <a:lnTo>
                  <a:pt x="750" y="74"/>
                </a:lnTo>
                <a:lnTo>
                  <a:pt x="375" y="224"/>
                </a:lnTo>
                <a:lnTo>
                  <a:pt x="0" y="224"/>
                </a:lnTo>
                <a:lnTo>
                  <a:pt x="0" y="449"/>
                </a:lnTo>
                <a:lnTo>
                  <a:pt x="299" y="525"/>
                </a:lnTo>
                <a:lnTo>
                  <a:pt x="449" y="525"/>
                </a:lnTo>
                <a:lnTo>
                  <a:pt x="599" y="375"/>
                </a:lnTo>
                <a:lnTo>
                  <a:pt x="750" y="300"/>
                </a:lnTo>
                <a:lnTo>
                  <a:pt x="824" y="300"/>
                </a:lnTo>
                <a:lnTo>
                  <a:pt x="824" y="300"/>
                </a:lnTo>
                <a:lnTo>
                  <a:pt x="1125" y="0"/>
                </a:lnTo>
                <a:lnTo>
                  <a:pt x="105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983200" y="5191200"/>
            <a:ext cx="220680" cy="187200"/>
          </a:xfrm>
          <a:custGeom>
            <a:avLst/>
            <a:gdLst/>
            <a:ahLst/>
            <a:rect l="l" t="t" r="r" b="b"/>
            <a:pathLst>
              <a:path w="1809" h="1533">
                <a:moveTo>
                  <a:pt x="1809" y="902"/>
                </a:moveTo>
                <a:lnTo>
                  <a:pt x="1698" y="865"/>
                </a:lnTo>
                <a:lnTo>
                  <a:pt x="1344" y="1010"/>
                </a:lnTo>
                <a:lnTo>
                  <a:pt x="222" y="86"/>
                </a:lnTo>
                <a:lnTo>
                  <a:pt x="104" y="0"/>
                </a:lnTo>
                <a:lnTo>
                  <a:pt x="0" y="12"/>
                </a:lnTo>
                <a:lnTo>
                  <a:pt x="7" y="62"/>
                </a:lnTo>
                <a:lnTo>
                  <a:pt x="12" y="112"/>
                </a:lnTo>
                <a:lnTo>
                  <a:pt x="1194" y="1079"/>
                </a:lnTo>
                <a:lnTo>
                  <a:pt x="1251" y="1122"/>
                </a:lnTo>
                <a:lnTo>
                  <a:pt x="1132" y="1440"/>
                </a:lnTo>
                <a:lnTo>
                  <a:pt x="1138" y="1490"/>
                </a:lnTo>
                <a:lnTo>
                  <a:pt x="1196" y="1533"/>
                </a:lnTo>
                <a:lnTo>
                  <a:pt x="1809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316560" y="5191200"/>
            <a:ext cx="220680" cy="187200"/>
          </a:xfrm>
          <a:custGeom>
            <a:avLst/>
            <a:gdLst/>
            <a:ahLst/>
            <a:rect l="l" t="t" r="r" b="b"/>
            <a:pathLst>
              <a:path w="1809" h="1533">
                <a:moveTo>
                  <a:pt x="0" y="902"/>
                </a:moveTo>
                <a:lnTo>
                  <a:pt x="111" y="865"/>
                </a:lnTo>
                <a:lnTo>
                  <a:pt x="465" y="1010"/>
                </a:lnTo>
                <a:lnTo>
                  <a:pt x="1587" y="86"/>
                </a:lnTo>
                <a:lnTo>
                  <a:pt x="1705" y="0"/>
                </a:lnTo>
                <a:lnTo>
                  <a:pt x="1809" y="12"/>
                </a:lnTo>
                <a:lnTo>
                  <a:pt x="1802" y="62"/>
                </a:lnTo>
                <a:lnTo>
                  <a:pt x="1796" y="112"/>
                </a:lnTo>
                <a:lnTo>
                  <a:pt x="615" y="1079"/>
                </a:lnTo>
                <a:lnTo>
                  <a:pt x="558" y="1122"/>
                </a:lnTo>
                <a:lnTo>
                  <a:pt x="677" y="1440"/>
                </a:lnTo>
                <a:lnTo>
                  <a:pt x="671" y="1490"/>
                </a:lnTo>
                <a:lnTo>
                  <a:pt x="613" y="1533"/>
                </a:lnTo>
                <a:lnTo>
                  <a:pt x="0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616880" y="5869080"/>
            <a:ext cx="509400" cy="441360"/>
          </a:xfrm>
          <a:custGeom>
            <a:avLst/>
            <a:gdLst/>
            <a:ahLst/>
            <a:rect l="l" t="t" r="r" b="b"/>
            <a:pathLst>
              <a:path w="4172" h="3609">
                <a:moveTo>
                  <a:pt x="2086" y="1524"/>
                </a:moveTo>
                <a:lnTo>
                  <a:pt x="3508" y="0"/>
                </a:lnTo>
                <a:lnTo>
                  <a:pt x="3508" y="0"/>
                </a:lnTo>
                <a:lnTo>
                  <a:pt x="3561" y="50"/>
                </a:lnTo>
                <a:lnTo>
                  <a:pt x="3611" y="103"/>
                </a:lnTo>
                <a:lnTo>
                  <a:pt x="3660" y="156"/>
                </a:lnTo>
                <a:lnTo>
                  <a:pt x="3707" y="212"/>
                </a:lnTo>
                <a:lnTo>
                  <a:pt x="3752" y="269"/>
                </a:lnTo>
                <a:lnTo>
                  <a:pt x="3795" y="328"/>
                </a:lnTo>
                <a:lnTo>
                  <a:pt x="3835" y="388"/>
                </a:lnTo>
                <a:lnTo>
                  <a:pt x="3874" y="450"/>
                </a:lnTo>
                <a:lnTo>
                  <a:pt x="3910" y="513"/>
                </a:lnTo>
                <a:lnTo>
                  <a:pt x="3944" y="577"/>
                </a:lnTo>
                <a:lnTo>
                  <a:pt x="3977" y="643"/>
                </a:lnTo>
                <a:lnTo>
                  <a:pt x="4006" y="709"/>
                </a:lnTo>
                <a:lnTo>
                  <a:pt x="4033" y="776"/>
                </a:lnTo>
                <a:lnTo>
                  <a:pt x="4059" y="845"/>
                </a:lnTo>
                <a:lnTo>
                  <a:pt x="4081" y="914"/>
                </a:lnTo>
                <a:lnTo>
                  <a:pt x="4101" y="984"/>
                </a:lnTo>
                <a:lnTo>
                  <a:pt x="4118" y="1055"/>
                </a:lnTo>
                <a:lnTo>
                  <a:pt x="4133" y="1126"/>
                </a:lnTo>
                <a:lnTo>
                  <a:pt x="4146" y="1197"/>
                </a:lnTo>
                <a:lnTo>
                  <a:pt x="4156" y="1270"/>
                </a:lnTo>
                <a:lnTo>
                  <a:pt x="4164" y="1342"/>
                </a:lnTo>
                <a:lnTo>
                  <a:pt x="4169" y="1415"/>
                </a:lnTo>
                <a:lnTo>
                  <a:pt x="4172" y="1487"/>
                </a:lnTo>
                <a:lnTo>
                  <a:pt x="4172" y="1561"/>
                </a:lnTo>
                <a:lnTo>
                  <a:pt x="4169" y="1633"/>
                </a:lnTo>
                <a:lnTo>
                  <a:pt x="4164" y="1705"/>
                </a:lnTo>
                <a:lnTo>
                  <a:pt x="4156" y="1778"/>
                </a:lnTo>
                <a:lnTo>
                  <a:pt x="4146" y="1850"/>
                </a:lnTo>
                <a:lnTo>
                  <a:pt x="4133" y="1922"/>
                </a:lnTo>
                <a:lnTo>
                  <a:pt x="4118" y="1993"/>
                </a:lnTo>
                <a:lnTo>
                  <a:pt x="4101" y="2063"/>
                </a:lnTo>
                <a:lnTo>
                  <a:pt x="4081" y="2134"/>
                </a:lnTo>
                <a:lnTo>
                  <a:pt x="4059" y="2202"/>
                </a:lnTo>
                <a:lnTo>
                  <a:pt x="4033" y="2271"/>
                </a:lnTo>
                <a:lnTo>
                  <a:pt x="4006" y="2338"/>
                </a:lnTo>
                <a:lnTo>
                  <a:pt x="3977" y="2405"/>
                </a:lnTo>
                <a:lnTo>
                  <a:pt x="3944" y="2471"/>
                </a:lnTo>
                <a:lnTo>
                  <a:pt x="3910" y="2535"/>
                </a:lnTo>
                <a:lnTo>
                  <a:pt x="3874" y="2598"/>
                </a:lnTo>
                <a:lnTo>
                  <a:pt x="3835" y="2660"/>
                </a:lnTo>
                <a:lnTo>
                  <a:pt x="3795" y="2719"/>
                </a:lnTo>
                <a:lnTo>
                  <a:pt x="3752" y="2778"/>
                </a:lnTo>
                <a:lnTo>
                  <a:pt x="3707" y="2836"/>
                </a:lnTo>
                <a:lnTo>
                  <a:pt x="3660" y="2892"/>
                </a:lnTo>
                <a:lnTo>
                  <a:pt x="3611" y="2945"/>
                </a:lnTo>
                <a:lnTo>
                  <a:pt x="3561" y="2998"/>
                </a:lnTo>
                <a:lnTo>
                  <a:pt x="3508" y="3048"/>
                </a:lnTo>
                <a:lnTo>
                  <a:pt x="3455" y="3097"/>
                </a:lnTo>
                <a:lnTo>
                  <a:pt x="3399" y="3144"/>
                </a:lnTo>
                <a:lnTo>
                  <a:pt x="3341" y="3189"/>
                </a:lnTo>
                <a:lnTo>
                  <a:pt x="3282" y="3232"/>
                </a:lnTo>
                <a:lnTo>
                  <a:pt x="3222" y="3272"/>
                </a:lnTo>
                <a:lnTo>
                  <a:pt x="3161" y="3310"/>
                </a:lnTo>
                <a:lnTo>
                  <a:pt x="3097" y="3347"/>
                </a:lnTo>
                <a:lnTo>
                  <a:pt x="3033" y="3381"/>
                </a:lnTo>
                <a:lnTo>
                  <a:pt x="2967" y="3413"/>
                </a:lnTo>
                <a:lnTo>
                  <a:pt x="2901" y="3443"/>
                </a:lnTo>
                <a:lnTo>
                  <a:pt x="2834" y="3470"/>
                </a:lnTo>
                <a:lnTo>
                  <a:pt x="2765" y="3495"/>
                </a:lnTo>
                <a:lnTo>
                  <a:pt x="2696" y="3517"/>
                </a:lnTo>
                <a:lnTo>
                  <a:pt x="2626" y="3537"/>
                </a:lnTo>
                <a:lnTo>
                  <a:pt x="2556" y="3555"/>
                </a:lnTo>
                <a:lnTo>
                  <a:pt x="2484" y="3570"/>
                </a:lnTo>
                <a:lnTo>
                  <a:pt x="2413" y="3582"/>
                </a:lnTo>
                <a:lnTo>
                  <a:pt x="2340" y="3593"/>
                </a:lnTo>
                <a:lnTo>
                  <a:pt x="2268" y="3600"/>
                </a:lnTo>
                <a:lnTo>
                  <a:pt x="2195" y="3605"/>
                </a:lnTo>
                <a:lnTo>
                  <a:pt x="2123" y="3609"/>
                </a:lnTo>
                <a:lnTo>
                  <a:pt x="2049" y="3609"/>
                </a:lnTo>
                <a:lnTo>
                  <a:pt x="1977" y="3605"/>
                </a:lnTo>
                <a:lnTo>
                  <a:pt x="1904" y="3600"/>
                </a:lnTo>
                <a:lnTo>
                  <a:pt x="1832" y="3593"/>
                </a:lnTo>
                <a:lnTo>
                  <a:pt x="1759" y="3582"/>
                </a:lnTo>
                <a:lnTo>
                  <a:pt x="1688" y="3570"/>
                </a:lnTo>
                <a:lnTo>
                  <a:pt x="1616" y="3555"/>
                </a:lnTo>
                <a:lnTo>
                  <a:pt x="1546" y="3537"/>
                </a:lnTo>
                <a:lnTo>
                  <a:pt x="1476" y="3517"/>
                </a:lnTo>
                <a:lnTo>
                  <a:pt x="1406" y="3495"/>
                </a:lnTo>
                <a:lnTo>
                  <a:pt x="1338" y="3470"/>
                </a:lnTo>
                <a:lnTo>
                  <a:pt x="1271" y="3443"/>
                </a:lnTo>
                <a:lnTo>
                  <a:pt x="1205" y="3413"/>
                </a:lnTo>
                <a:lnTo>
                  <a:pt x="1139" y="3381"/>
                </a:lnTo>
                <a:lnTo>
                  <a:pt x="1075" y="3347"/>
                </a:lnTo>
                <a:lnTo>
                  <a:pt x="1011" y="3310"/>
                </a:lnTo>
                <a:lnTo>
                  <a:pt x="950" y="3272"/>
                </a:lnTo>
                <a:lnTo>
                  <a:pt x="890" y="3232"/>
                </a:lnTo>
                <a:lnTo>
                  <a:pt x="831" y="3189"/>
                </a:lnTo>
                <a:lnTo>
                  <a:pt x="773" y="3144"/>
                </a:lnTo>
                <a:lnTo>
                  <a:pt x="717" y="3097"/>
                </a:lnTo>
                <a:lnTo>
                  <a:pt x="664" y="3048"/>
                </a:lnTo>
                <a:lnTo>
                  <a:pt x="611" y="2998"/>
                </a:lnTo>
                <a:lnTo>
                  <a:pt x="561" y="2945"/>
                </a:lnTo>
                <a:lnTo>
                  <a:pt x="512" y="2892"/>
                </a:lnTo>
                <a:lnTo>
                  <a:pt x="465" y="2836"/>
                </a:lnTo>
                <a:lnTo>
                  <a:pt x="420" y="2778"/>
                </a:lnTo>
                <a:lnTo>
                  <a:pt x="377" y="2719"/>
                </a:lnTo>
                <a:lnTo>
                  <a:pt x="336" y="2660"/>
                </a:lnTo>
                <a:lnTo>
                  <a:pt x="298" y="2598"/>
                </a:lnTo>
                <a:lnTo>
                  <a:pt x="262" y="2535"/>
                </a:lnTo>
                <a:lnTo>
                  <a:pt x="227" y="2471"/>
                </a:lnTo>
                <a:lnTo>
                  <a:pt x="195" y="2405"/>
                </a:lnTo>
                <a:lnTo>
                  <a:pt x="166" y="2338"/>
                </a:lnTo>
                <a:lnTo>
                  <a:pt x="139" y="2271"/>
                </a:lnTo>
                <a:lnTo>
                  <a:pt x="113" y="2202"/>
                </a:lnTo>
                <a:lnTo>
                  <a:pt x="91" y="2134"/>
                </a:lnTo>
                <a:lnTo>
                  <a:pt x="71" y="2063"/>
                </a:lnTo>
                <a:lnTo>
                  <a:pt x="54" y="1993"/>
                </a:lnTo>
                <a:lnTo>
                  <a:pt x="38" y="1922"/>
                </a:lnTo>
                <a:lnTo>
                  <a:pt x="25" y="1850"/>
                </a:lnTo>
                <a:lnTo>
                  <a:pt x="16" y="1778"/>
                </a:lnTo>
                <a:lnTo>
                  <a:pt x="8" y="1705"/>
                </a:lnTo>
                <a:lnTo>
                  <a:pt x="3" y="1633"/>
                </a:lnTo>
                <a:lnTo>
                  <a:pt x="0" y="1561"/>
                </a:lnTo>
                <a:lnTo>
                  <a:pt x="0" y="1487"/>
                </a:lnTo>
                <a:lnTo>
                  <a:pt x="3" y="1415"/>
                </a:lnTo>
                <a:lnTo>
                  <a:pt x="8" y="1342"/>
                </a:lnTo>
                <a:lnTo>
                  <a:pt x="16" y="1270"/>
                </a:lnTo>
                <a:lnTo>
                  <a:pt x="25" y="1197"/>
                </a:lnTo>
                <a:lnTo>
                  <a:pt x="38" y="1126"/>
                </a:lnTo>
                <a:lnTo>
                  <a:pt x="54" y="1055"/>
                </a:lnTo>
                <a:lnTo>
                  <a:pt x="71" y="984"/>
                </a:lnTo>
                <a:lnTo>
                  <a:pt x="91" y="914"/>
                </a:lnTo>
                <a:lnTo>
                  <a:pt x="113" y="845"/>
                </a:lnTo>
                <a:lnTo>
                  <a:pt x="139" y="776"/>
                </a:lnTo>
                <a:lnTo>
                  <a:pt x="166" y="709"/>
                </a:lnTo>
                <a:lnTo>
                  <a:pt x="195" y="643"/>
                </a:lnTo>
                <a:lnTo>
                  <a:pt x="227" y="577"/>
                </a:lnTo>
                <a:lnTo>
                  <a:pt x="262" y="513"/>
                </a:lnTo>
                <a:lnTo>
                  <a:pt x="298" y="450"/>
                </a:lnTo>
                <a:lnTo>
                  <a:pt x="336" y="388"/>
                </a:lnTo>
                <a:lnTo>
                  <a:pt x="377" y="328"/>
                </a:lnTo>
                <a:lnTo>
                  <a:pt x="420" y="269"/>
                </a:lnTo>
                <a:lnTo>
                  <a:pt x="465" y="212"/>
                </a:lnTo>
                <a:lnTo>
                  <a:pt x="512" y="156"/>
                </a:lnTo>
                <a:lnTo>
                  <a:pt x="561" y="103"/>
                </a:lnTo>
                <a:lnTo>
                  <a:pt x="2086" y="152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731000" y="5273640"/>
            <a:ext cx="27000" cy="12600"/>
          </a:xfrm>
          <a:prstGeom prst="line">
            <a:avLst/>
          </a:prstGeom>
          <a:ln w="144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97880" y="5384880"/>
            <a:ext cx="36360" cy="523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008920" y="5384880"/>
            <a:ext cx="36360" cy="514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69080" y="5848200"/>
            <a:ext cx="405000" cy="40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810560" y="5273640"/>
            <a:ext cx="3816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88320" y="5273640"/>
            <a:ext cx="44280" cy="2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854840" y="5235480"/>
            <a:ext cx="27000" cy="7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54840" y="5197320"/>
            <a:ext cx="27000" cy="44640"/>
          </a:xfrm>
          <a:custGeom>
            <a:avLst/>
            <a:gdLst/>
            <a:ahLst/>
            <a:rect l="l" t="t" r="r" b="b"/>
            <a:pathLst>
              <a:path w="226" h="361">
                <a:moveTo>
                  <a:pt x="0" y="361"/>
                </a:moveTo>
                <a:lnTo>
                  <a:pt x="91" y="0"/>
                </a:lnTo>
                <a:lnTo>
                  <a:pt x="136" y="0"/>
                </a:lnTo>
                <a:lnTo>
                  <a:pt x="226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866000" y="5186520"/>
            <a:ext cx="46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866000" y="5302080"/>
            <a:ext cx="15840" cy="33480"/>
          </a:xfrm>
          <a:custGeom>
            <a:avLst/>
            <a:gdLst/>
            <a:ahLst/>
            <a:rect l="l" t="t" r="r" b="b"/>
            <a:pathLst>
              <a:path w="135" h="271">
                <a:moveTo>
                  <a:pt x="0" y="225"/>
                </a:moveTo>
                <a:lnTo>
                  <a:pt x="0" y="271"/>
                </a:lnTo>
                <a:lnTo>
                  <a:pt x="135" y="271"/>
                </a:lnTo>
                <a:lnTo>
                  <a:pt x="135" y="0"/>
                </a:lnTo>
                <a:lnTo>
                  <a:pt x="90" y="0"/>
                </a:lnTo>
                <a:lnTo>
                  <a:pt x="90" y="225"/>
                </a:lnTo>
                <a:lnTo>
                  <a:pt x="0" y="2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843680" y="5246640"/>
            <a:ext cx="1620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90" y="0"/>
                </a:moveTo>
                <a:lnTo>
                  <a:pt x="45" y="0"/>
                </a:lnTo>
                <a:lnTo>
                  <a:pt x="0" y="46"/>
                </a:lnTo>
                <a:lnTo>
                  <a:pt x="0" y="226"/>
                </a:lnTo>
                <a:lnTo>
                  <a:pt x="45" y="226"/>
                </a:lnTo>
                <a:lnTo>
                  <a:pt x="45" y="496"/>
                </a:lnTo>
                <a:lnTo>
                  <a:pt x="90" y="541"/>
                </a:lnTo>
                <a:lnTo>
                  <a:pt x="136" y="541"/>
                </a:lnTo>
                <a:lnTo>
                  <a:pt x="136" y="451"/>
                </a:lnTo>
                <a:lnTo>
                  <a:pt x="90" y="271"/>
                </a:lnTo>
                <a:lnTo>
                  <a:pt x="9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877160" y="5246640"/>
            <a:ext cx="15840" cy="66600"/>
          </a:xfrm>
          <a:custGeom>
            <a:avLst/>
            <a:gdLst/>
            <a:ahLst/>
            <a:rect l="l" t="t" r="r" b="b"/>
            <a:pathLst>
              <a:path w="136" h="541">
                <a:moveTo>
                  <a:pt x="45" y="0"/>
                </a:moveTo>
                <a:lnTo>
                  <a:pt x="90" y="0"/>
                </a:lnTo>
                <a:lnTo>
                  <a:pt x="136" y="46"/>
                </a:lnTo>
                <a:lnTo>
                  <a:pt x="136" y="226"/>
                </a:lnTo>
                <a:lnTo>
                  <a:pt x="90" y="226"/>
                </a:lnTo>
                <a:lnTo>
                  <a:pt x="90" y="496"/>
                </a:lnTo>
                <a:lnTo>
                  <a:pt x="45" y="541"/>
                </a:lnTo>
                <a:lnTo>
                  <a:pt x="0" y="541"/>
                </a:lnTo>
                <a:lnTo>
                  <a:pt x="0" y="451"/>
                </a:lnTo>
                <a:lnTo>
                  <a:pt x="45" y="271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588080" y="5340240"/>
            <a:ext cx="15588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1200" y="376"/>
                </a:moveTo>
                <a:lnTo>
                  <a:pt x="1200" y="150"/>
                </a:lnTo>
                <a:lnTo>
                  <a:pt x="1275" y="75"/>
                </a:lnTo>
                <a:lnTo>
                  <a:pt x="974" y="0"/>
                </a:lnTo>
                <a:lnTo>
                  <a:pt x="0" y="0"/>
                </a:lnTo>
                <a:lnTo>
                  <a:pt x="0" y="300"/>
                </a:lnTo>
                <a:lnTo>
                  <a:pt x="0" y="376"/>
                </a:lnTo>
                <a:lnTo>
                  <a:pt x="749" y="376"/>
                </a:lnTo>
                <a:lnTo>
                  <a:pt x="900" y="526"/>
                </a:lnTo>
                <a:lnTo>
                  <a:pt x="1200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78720" y="5240160"/>
            <a:ext cx="14616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1127" y="300"/>
                </a:moveTo>
                <a:lnTo>
                  <a:pt x="846" y="0"/>
                </a:lnTo>
                <a:lnTo>
                  <a:pt x="0" y="0"/>
                </a:lnTo>
                <a:lnTo>
                  <a:pt x="0" y="300"/>
                </a:lnTo>
                <a:lnTo>
                  <a:pt x="1198" y="300"/>
                </a:lnTo>
                <a:lnTo>
                  <a:pt x="1127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63272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670880" y="5240160"/>
            <a:ext cx="442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999560" y="5340240"/>
            <a:ext cx="155520" cy="65160"/>
          </a:xfrm>
          <a:custGeom>
            <a:avLst/>
            <a:gdLst/>
            <a:ahLst/>
            <a:rect l="l" t="t" r="r" b="b"/>
            <a:pathLst>
              <a:path w="1275" h="526">
                <a:moveTo>
                  <a:pt x="75" y="376"/>
                </a:moveTo>
                <a:lnTo>
                  <a:pt x="75" y="150"/>
                </a:lnTo>
                <a:lnTo>
                  <a:pt x="0" y="75"/>
                </a:lnTo>
                <a:lnTo>
                  <a:pt x="301" y="0"/>
                </a:lnTo>
                <a:lnTo>
                  <a:pt x="1275" y="0"/>
                </a:lnTo>
                <a:lnTo>
                  <a:pt x="1275" y="300"/>
                </a:lnTo>
                <a:lnTo>
                  <a:pt x="1275" y="376"/>
                </a:lnTo>
                <a:lnTo>
                  <a:pt x="526" y="376"/>
                </a:lnTo>
                <a:lnTo>
                  <a:pt x="375" y="526"/>
                </a:lnTo>
                <a:lnTo>
                  <a:pt x="75" y="37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018640" y="5240160"/>
            <a:ext cx="145800" cy="36720"/>
          </a:xfrm>
          <a:custGeom>
            <a:avLst/>
            <a:gdLst/>
            <a:ahLst/>
            <a:rect l="l" t="t" r="r" b="b"/>
            <a:pathLst>
              <a:path w="1198" h="300">
                <a:moveTo>
                  <a:pt x="70" y="300"/>
                </a:moveTo>
                <a:lnTo>
                  <a:pt x="352" y="0"/>
                </a:lnTo>
                <a:lnTo>
                  <a:pt x="1198" y="0"/>
                </a:lnTo>
                <a:lnTo>
                  <a:pt x="1198" y="300"/>
                </a:lnTo>
                <a:lnTo>
                  <a:pt x="0" y="300"/>
                </a:lnTo>
                <a:lnTo>
                  <a:pt x="70" y="3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8064360" y="5240160"/>
            <a:ext cx="460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8027640" y="5240160"/>
            <a:ext cx="44280" cy="3672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78800" y="5240160"/>
            <a:ext cx="13788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75" y="0"/>
                </a:moveTo>
                <a:lnTo>
                  <a:pt x="151" y="74"/>
                </a:lnTo>
                <a:lnTo>
                  <a:pt x="375" y="74"/>
                </a:lnTo>
                <a:lnTo>
                  <a:pt x="750" y="224"/>
                </a:lnTo>
                <a:lnTo>
                  <a:pt x="1125" y="224"/>
                </a:lnTo>
                <a:lnTo>
                  <a:pt x="1125" y="449"/>
                </a:lnTo>
                <a:lnTo>
                  <a:pt x="826" y="525"/>
                </a:lnTo>
                <a:lnTo>
                  <a:pt x="676" y="525"/>
                </a:lnTo>
                <a:lnTo>
                  <a:pt x="526" y="375"/>
                </a:lnTo>
                <a:lnTo>
                  <a:pt x="375" y="300"/>
                </a:lnTo>
                <a:lnTo>
                  <a:pt x="301" y="300"/>
                </a:lnTo>
                <a:lnTo>
                  <a:pt x="301" y="300"/>
                </a:lnTo>
                <a:lnTo>
                  <a:pt x="0" y="0"/>
                </a:lnTo>
                <a:lnTo>
                  <a:pt x="75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926480" y="5240160"/>
            <a:ext cx="137880" cy="63720"/>
          </a:xfrm>
          <a:custGeom>
            <a:avLst/>
            <a:gdLst/>
            <a:ahLst/>
            <a:rect l="l" t="t" r="r" b="b"/>
            <a:pathLst>
              <a:path w="1125" h="525">
                <a:moveTo>
                  <a:pt x="1050" y="0"/>
                </a:moveTo>
                <a:lnTo>
                  <a:pt x="974" y="74"/>
                </a:lnTo>
                <a:lnTo>
                  <a:pt x="750" y="74"/>
                </a:lnTo>
                <a:lnTo>
                  <a:pt x="375" y="224"/>
                </a:lnTo>
                <a:lnTo>
                  <a:pt x="0" y="224"/>
                </a:lnTo>
                <a:lnTo>
                  <a:pt x="0" y="449"/>
                </a:lnTo>
                <a:lnTo>
                  <a:pt x="299" y="525"/>
                </a:lnTo>
                <a:lnTo>
                  <a:pt x="449" y="525"/>
                </a:lnTo>
                <a:lnTo>
                  <a:pt x="599" y="375"/>
                </a:lnTo>
                <a:lnTo>
                  <a:pt x="750" y="300"/>
                </a:lnTo>
                <a:lnTo>
                  <a:pt x="824" y="300"/>
                </a:lnTo>
                <a:lnTo>
                  <a:pt x="824" y="300"/>
                </a:lnTo>
                <a:lnTo>
                  <a:pt x="1125" y="0"/>
                </a:lnTo>
                <a:lnTo>
                  <a:pt x="105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594560" y="5191200"/>
            <a:ext cx="220680" cy="187200"/>
          </a:xfrm>
          <a:custGeom>
            <a:avLst/>
            <a:gdLst/>
            <a:ahLst/>
            <a:rect l="l" t="t" r="r" b="b"/>
            <a:pathLst>
              <a:path w="1809" h="1533">
                <a:moveTo>
                  <a:pt x="1809" y="902"/>
                </a:moveTo>
                <a:lnTo>
                  <a:pt x="1698" y="865"/>
                </a:lnTo>
                <a:lnTo>
                  <a:pt x="1344" y="1010"/>
                </a:lnTo>
                <a:lnTo>
                  <a:pt x="222" y="86"/>
                </a:lnTo>
                <a:lnTo>
                  <a:pt x="104" y="0"/>
                </a:lnTo>
                <a:lnTo>
                  <a:pt x="0" y="12"/>
                </a:lnTo>
                <a:lnTo>
                  <a:pt x="7" y="62"/>
                </a:lnTo>
                <a:lnTo>
                  <a:pt x="12" y="112"/>
                </a:lnTo>
                <a:lnTo>
                  <a:pt x="1194" y="1079"/>
                </a:lnTo>
                <a:lnTo>
                  <a:pt x="1251" y="1122"/>
                </a:lnTo>
                <a:lnTo>
                  <a:pt x="1132" y="1440"/>
                </a:lnTo>
                <a:lnTo>
                  <a:pt x="1138" y="1490"/>
                </a:lnTo>
                <a:lnTo>
                  <a:pt x="1196" y="1533"/>
                </a:lnTo>
                <a:lnTo>
                  <a:pt x="1809" y="9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899480" y="5208480"/>
            <a:ext cx="222120" cy="187560"/>
          </a:xfrm>
          <a:custGeom>
            <a:avLst/>
            <a:gdLst/>
            <a:ahLst/>
            <a:rect l="l" t="t" r="r" b="b"/>
            <a:pathLst>
              <a:path w="1809" h="1534">
                <a:moveTo>
                  <a:pt x="0" y="904"/>
                </a:moveTo>
                <a:lnTo>
                  <a:pt x="110" y="866"/>
                </a:lnTo>
                <a:lnTo>
                  <a:pt x="464" y="1011"/>
                </a:lnTo>
                <a:lnTo>
                  <a:pt x="1587" y="87"/>
                </a:lnTo>
                <a:lnTo>
                  <a:pt x="1704" y="0"/>
                </a:lnTo>
                <a:lnTo>
                  <a:pt x="1809" y="13"/>
                </a:lnTo>
                <a:lnTo>
                  <a:pt x="1803" y="63"/>
                </a:lnTo>
                <a:lnTo>
                  <a:pt x="1796" y="113"/>
                </a:lnTo>
                <a:lnTo>
                  <a:pt x="616" y="1080"/>
                </a:lnTo>
                <a:lnTo>
                  <a:pt x="557" y="1123"/>
                </a:lnTo>
                <a:lnTo>
                  <a:pt x="678" y="1441"/>
                </a:lnTo>
                <a:lnTo>
                  <a:pt x="671" y="1491"/>
                </a:lnTo>
                <a:lnTo>
                  <a:pt x="612" y="1534"/>
                </a:lnTo>
                <a:lnTo>
                  <a:pt x="0" y="9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200400" y="2743200"/>
            <a:ext cx="175248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66680" y="2743200"/>
            <a:ext cx="144792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52280" y="3200400"/>
            <a:ext cx="53352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52280" y="320040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153280" y="3352680"/>
            <a:ext cx="7621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915400" y="3352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867280" y="685800"/>
            <a:ext cx="175284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76720" y="609480"/>
            <a:ext cx="1371600" cy="60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553080" y="2362320"/>
            <a:ext cx="12193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1828800" y="5186520"/>
            <a:ext cx="339840" cy="8334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3548160" y="5186520"/>
            <a:ext cx="339480" cy="8334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3222720" y="5186520"/>
            <a:ext cx="339480" cy="83340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4"/>
          <a:stretch/>
        </p:blipFill>
        <p:spPr>
          <a:xfrm>
            <a:off x="2154240" y="5186520"/>
            <a:ext cx="339840" cy="8334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5"/>
          <a:stretch/>
        </p:blipFill>
        <p:spPr>
          <a:xfrm>
            <a:off x="2571840" y="5186520"/>
            <a:ext cx="339480" cy="83340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6"/>
          <a:stretch/>
        </p:blipFill>
        <p:spPr>
          <a:xfrm>
            <a:off x="2897280" y="5186520"/>
            <a:ext cx="339480" cy="8334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7"/>
          <a:stretch/>
        </p:blipFill>
        <p:spPr>
          <a:xfrm>
            <a:off x="4362480" y="5186520"/>
            <a:ext cx="341280" cy="8334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8"/>
          <a:stretch/>
        </p:blipFill>
        <p:spPr>
          <a:xfrm>
            <a:off x="3873600" y="5186520"/>
            <a:ext cx="341280" cy="83340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9"/>
          <a:stretch/>
        </p:blipFill>
        <p:spPr>
          <a:xfrm>
            <a:off x="4689360" y="5186520"/>
            <a:ext cx="339840" cy="8334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447920" y="4876920"/>
            <a:ext cx="7315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733920" y="19810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1981080" y="198072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7238880" y="19047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5486400" y="19807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981080" y="3809520"/>
            <a:ext cx="6324840" cy="1143360"/>
            <a:chOff x="1981080" y="3809520"/>
            <a:chExt cx="6324840" cy="1143360"/>
          </a:xfrm>
        </p:grpSpPr>
        <p:sp>
          <p:nvSpPr>
            <p:cNvPr id="724" name=""/>
            <p:cNvSpPr/>
            <p:nvPr/>
          </p:nvSpPr>
          <p:spPr>
            <a:xfrm flipV="1">
              <a:off x="1981080" y="4724280"/>
              <a:ext cx="3049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286000" y="4647960"/>
              <a:ext cx="4572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2743200" y="4495680"/>
              <a:ext cx="5335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3276720" y="4266720"/>
              <a:ext cx="3808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3657600" y="403812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4114800" y="3809520"/>
              <a:ext cx="5335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8320" y="3809880"/>
              <a:ext cx="3045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05520" y="3962520"/>
              <a:ext cx="30456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4267080"/>
              <a:ext cx="3049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15000" y="4495680"/>
              <a:ext cx="4572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172200" y="4648320"/>
              <a:ext cx="5335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05720" y="4724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62920" y="4724280"/>
              <a:ext cx="6094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772400" y="4952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886200"/>
              <a:ext cx="15264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9" name="" descr=""/>
          <p:cNvPicPr/>
          <p:nvPr/>
        </p:nvPicPr>
        <p:blipFill>
          <a:blip r:embed="rId10"/>
          <a:stretch/>
        </p:blipFill>
        <p:spPr>
          <a:xfrm>
            <a:off x="5334120" y="5181480"/>
            <a:ext cx="339480" cy="83340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11"/>
          <a:stretch/>
        </p:blipFill>
        <p:spPr>
          <a:xfrm>
            <a:off x="7086600" y="5181480"/>
            <a:ext cx="339840" cy="83340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1677960" y="59436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182920" y="59436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30800" y="594360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936120" y="594360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72080" y="685800"/>
            <a:ext cx="6932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e de pression dans le même mo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vec le même point d’avance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vec une fréquence de rotat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fois plus importan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828800" y="609480"/>
            <a:ext cx="7086600" cy="1447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4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5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6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7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8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9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10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5602320" y="349200"/>
            <a:ext cx="2228760" cy="20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054760" y="582480"/>
            <a:ext cx="46512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892600" y="781200"/>
            <a:ext cx="2077920" cy="24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7580160" y="6466680"/>
            <a:ext cx="108108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807160" y="2486160"/>
            <a:ext cx="129960" cy="80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711760" y="2743200"/>
            <a:ext cx="11772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49920" y="2619360"/>
            <a:ext cx="889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737320" y="2701800"/>
            <a:ext cx="361800" cy="17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3505320"/>
            <a:ext cx="50472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438960" y="3994200"/>
            <a:ext cx="4795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07000" y="2400480"/>
            <a:ext cx="7308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26080" y="2409840"/>
            <a:ext cx="13032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45160" y="2390760"/>
            <a:ext cx="28260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600960" y="4371840"/>
            <a:ext cx="10141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616800" y="4122720"/>
            <a:ext cx="3333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39120" y="4497480"/>
            <a:ext cx="27936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931160" y="4533840"/>
            <a:ext cx="889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920000" y="4614840"/>
            <a:ext cx="22860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148600" y="4633920"/>
            <a:ext cx="114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11111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46280" y="1841400"/>
            <a:ext cx="784260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200" spc="-1" strike="noStrike" u="sng">
                <a:solidFill>
                  <a:srgbClr val="ffffff"/>
                </a:solidFill>
                <a:uFillTx/>
                <a:latin typeface="Times New Roman"/>
              </a:rPr>
              <a:t>THE END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976160" y="602280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14200" y="264960"/>
            <a:ext cx="8929800" cy="5465880"/>
            <a:chOff x="214200" y="264960"/>
            <a:chExt cx="8929800" cy="5465880"/>
          </a:xfrm>
        </p:grpSpPr>
        <p:sp>
          <p:nvSpPr>
            <p:cNvPr id="49" name=""/>
            <p:cNvSpPr/>
            <p:nvPr/>
          </p:nvSpPr>
          <p:spPr>
            <a:xfrm>
              <a:off x="1461960" y="4854600"/>
              <a:ext cx="7415280" cy="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446120" y="382680"/>
              <a:ext cx="0" cy="448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4200" y="264960"/>
              <a:ext cx="1276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ESSION EN BA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29600" y="4906800"/>
              <a:ext cx="914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osition du pis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9560" y="1413000"/>
              <a:ext cx="5653080" cy="82548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RAPHE DES PRESSIONS DANS UN MOTEUR A COMBUSTION INTER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55600" y="12952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41560" y="21067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92240" y="4724280"/>
              <a:ext cx="39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602320" y="349200"/>
            <a:ext cx="2228760" cy="432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13520" y="2859120"/>
            <a:ext cx="847800" cy="18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54760" y="582480"/>
            <a:ext cx="465120" cy="41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2600" y="781200"/>
            <a:ext cx="2077920" cy="39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27200" y="4556160"/>
            <a:ext cx="6134040" cy="19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90640" y="333360"/>
            <a:ext cx="5970600" cy="61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55600" y="130824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1560" y="21193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0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02320" y="349200"/>
            <a:ext cx="2228760" cy="432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13520" y="2859120"/>
            <a:ext cx="847800" cy="18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54760" y="582480"/>
            <a:ext cx="465120" cy="41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2600" y="781200"/>
            <a:ext cx="2077920" cy="39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92400" y="4672080"/>
            <a:ext cx="5568840" cy="17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21200" y="333360"/>
            <a:ext cx="4640040" cy="61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602320" y="349200"/>
            <a:ext cx="2228760" cy="432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13520" y="2859120"/>
            <a:ext cx="847800" cy="18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54760" y="582480"/>
            <a:ext cx="465120" cy="41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2600" y="781200"/>
            <a:ext cx="2077920" cy="372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21200" y="333360"/>
            <a:ext cx="4640040" cy="61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602320" y="349200"/>
            <a:ext cx="2228760" cy="432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13520" y="2859120"/>
            <a:ext cx="847800" cy="18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54760" y="582480"/>
            <a:ext cx="465120" cy="41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2600" y="781200"/>
            <a:ext cx="2077920" cy="33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53000" y="333360"/>
            <a:ext cx="4008240" cy="61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0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602320" y="349200"/>
            <a:ext cx="2228760" cy="432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13520" y="2859120"/>
            <a:ext cx="847800" cy="18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54760" y="582480"/>
            <a:ext cx="465120" cy="41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2600" y="781200"/>
            <a:ext cx="2077920" cy="33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84800" y="333360"/>
            <a:ext cx="3376440" cy="61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0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602320" y="349200"/>
            <a:ext cx="2228760" cy="432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13520" y="2859120"/>
            <a:ext cx="847800" cy="18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54760" y="582480"/>
            <a:ext cx="46512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2600" y="781200"/>
            <a:ext cx="2077920" cy="24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83200" y="333360"/>
            <a:ext cx="2678040" cy="61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055080" cy="4837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92420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3229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4678200" y="5186520"/>
            <a:ext cx="644760" cy="1234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256860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3392640" y="5186520"/>
            <a:ext cx="642960" cy="12348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4035600" y="5186520"/>
            <a:ext cx="642600" cy="12348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693432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5967360" y="5186520"/>
            <a:ext cx="644400" cy="12348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7578720" y="5186520"/>
            <a:ext cx="644400" cy="1234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602320" y="349200"/>
            <a:ext cx="2228760" cy="20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913520" y="2859120"/>
            <a:ext cx="847800" cy="18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54760" y="582480"/>
            <a:ext cx="46512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2600" y="781200"/>
            <a:ext cx="2077920" cy="24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31920"/>
            <a:ext cx="28098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0160" y="4471920"/>
            <a:ext cx="16286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9920" y="333360"/>
            <a:ext cx="2011320" cy="61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07160" y="2486160"/>
            <a:ext cx="129960" cy="80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1760" y="2743200"/>
            <a:ext cx="11772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49920" y="2619360"/>
            <a:ext cx="889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37320" y="2701800"/>
            <a:ext cx="361800" cy="17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3505320"/>
            <a:ext cx="504720" cy="80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38960" y="3994200"/>
            <a:ext cx="4795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07000" y="2400480"/>
            <a:ext cx="7308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6080" y="2409840"/>
            <a:ext cx="13032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45160" y="2390760"/>
            <a:ext cx="28260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34280" y="2443320"/>
            <a:ext cx="58104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61960" y="4854600"/>
            <a:ext cx="741528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446120" y="382680"/>
            <a:ext cx="0" cy="448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4200" y="26496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 EN B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4906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du pi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55600" y="12952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41560" y="2106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92240" y="4724280"/>
            <a:ext cx="3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15:49:16Z</dcterms:created>
  <dc:creator>Yannick LE HEGARAT</dc:creator>
  <dc:description/>
  <dc:language>en-US</dc:language>
  <cp:lastModifiedBy>Yannick LE HEGARAT</cp:lastModifiedBy>
  <dcterms:modified xsi:type="dcterms:W3CDTF">2001-01-21T17:51:50Z</dcterms:modified>
  <cp:revision>9</cp:revision>
  <dc:subject/>
  <dc:title>Présentation PowerPoint</dc:title>
</cp:coreProperties>
</file>